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141-BFCF-4159-97B0-56B66ED2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8145-6D74-4E6B-841C-6C13F8DD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FDA-639D-4573-9D16-ADF1C779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ADB-1C55-48CE-864D-42509789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4F23-E934-40BF-A33F-9ED45A69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3D37-E463-44D6-B41C-9DB07D04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B0C9-913C-42D9-8DA2-920DEFEC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E6A9-F6AF-4E91-A17C-2C41AC86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3F74-F358-408D-AAFD-54566CF6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0117-81EE-4B2F-810E-BC856598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CEF0-A7A7-4DD4-9685-6A70668F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670-27D2-4D50-9FE3-6EE57347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9DB1-216C-493D-B550-AE3EE966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E3AD-DBF5-45ED-94BB-DC8EF187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59BF-0DD6-4765-8D46-B1BDCCE5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2E66-CE81-4249-B1B9-BBE7DBD1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BEE1-FBF8-40C1-9BD5-BCA70F40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394-0435-4206-8FAB-9136C477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C29-E21B-4BE9-899C-369DB4BA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D150-765B-4A77-B769-EDB5D032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26D1-7592-45B7-AEAF-5150BA57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FE0B-DC92-4F79-9003-8A1F20B1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268-6E4F-4D12-B278-D8DC8C63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AD3-8989-4BE3-8CE3-C4E5D073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1060-CB0E-41A5-AE58-A6B22D847F03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4E35-4914-4AA1-85C0-7E2387A998FB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Feminismos y pensamientos postmodern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Pensadores postmodernos franceses: Foucault, Lyotard, Lacan, Derrid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Planteamiento fundamental: Cuestionamiento a las teorías y conceptos “modernos” que se presentan como totalizadoras y coherentes </a:t>
            </a:r>
            <a:r>
              <a:rPr b="0" lang="es-MX" sz="2800" spc="-1" strike="noStrike">
                <a:solidFill>
                  <a:srgbClr val="545472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 deconstrucción</a:t>
            </a:r>
            <a:r>
              <a:rPr b="0" lang="es-MX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057400" y="4648320"/>
          <a:ext cx="5029200" cy="156996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moderno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ostmoderno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erteza 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herencia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ragmentación 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ntingencia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Diversidad 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ostmodernismo y feminism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Revisión de los conceptos tradicionalmente utilizados para explicar la subordinación de las mujeres: </a:t>
            </a:r>
            <a:r>
              <a:rPr b="0" i="1" lang="es-MX" sz="2400" spc="-1" strike="noStrike">
                <a:solidFill>
                  <a:srgbClr val="545472"/>
                </a:solidFill>
                <a:latin typeface="Tahoma"/>
              </a:rPr>
              <a:t>género y patriarcado; público y privado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Develar las maneras en que </a:t>
            </a:r>
            <a:r>
              <a:rPr b="0" i="1" lang="es-MX" sz="2400" spc="-1" strike="noStrike">
                <a:solidFill>
                  <a:srgbClr val="545472"/>
                </a:solidFill>
                <a:latin typeface="Tahoma"/>
              </a:rPr>
              <a:t>el lenguaje constituye la realidad: </a:t>
            </a: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poder e identidades construidas desde los discurso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Cuestionamiento de las categorías duales y opuestos binarios (totalizadores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Crítica a feminismos tradicionales (70s y 80s): reduccionistas o esencialistas / mujeres blancas de clase medi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ostmodernismo y feminism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Feminismo postmoderno” </a:t>
            </a:r>
            <a:r>
              <a:rPr b="0" lang="es-MX" sz="2400" spc="-1" strike="noStrike">
                <a:solidFill>
                  <a:srgbClr val="545472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contradicció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Más bien se trata de la influencia del pensamiento postmoderno en las teorías feministas: que continúan teniendo como referente a </a:t>
            </a:r>
            <a:r>
              <a:rPr b="0" i="1" lang="es-MX" sz="2800" spc="-1" strike="noStrike">
                <a:solidFill>
                  <a:srgbClr val="545472"/>
                </a:solidFill>
                <a:latin typeface="Tahoma"/>
              </a:rPr>
              <a:t>las mujeres</a:t>
            </a: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 y además se plantean un objetivo político de </a:t>
            </a:r>
            <a:r>
              <a:rPr b="0" i="1" lang="es-MX" sz="2800" spc="-1" strike="noStrike">
                <a:solidFill>
                  <a:srgbClr val="545472"/>
                </a:solidFill>
                <a:latin typeface="Tahoma"/>
              </a:rPr>
              <a:t>modificación del statu quo</a:t>
            </a: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 (cambios sociales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Análisis del Derech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Considerar que el “derecho es masculino” es demasiado simplist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La ley es a la vez racional, objetiva y abstracta como irracional, subjetiva y concreta </a:t>
            </a:r>
            <a:r>
              <a:rPr b="0" lang="es-MX" sz="2400" spc="-1" strike="noStrike">
                <a:solidFill>
                  <a:srgbClr val="545472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tan contradictoria como la realidad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Es necesario abandonar las “grandes” teorías </a:t>
            </a:r>
            <a:r>
              <a:rPr b="0" lang="es-MX" sz="2800" spc="-1" strike="noStrike">
                <a:solidFill>
                  <a:srgbClr val="545472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 estudio de instancias específica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arol Smar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La ley puede, a la vez, ayudar y perjudicar a las mujeres (el derecho</a:t>
            </a:r>
            <a:r>
              <a:rPr b="1" lang="es-E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545472"/>
                </a:solidFill>
                <a:latin typeface="Tahoma"/>
              </a:rPr>
              <a:t>no es </a:t>
            </a: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masculino, el derecho </a:t>
            </a:r>
            <a:r>
              <a:rPr b="0" i="1" lang="es-ES" sz="2800" spc="-1" strike="noStrike">
                <a:solidFill>
                  <a:srgbClr val="545472"/>
                </a:solidFill>
                <a:latin typeface="Tahoma"/>
              </a:rPr>
              <a:t>tiene género</a:t>
            </a: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Es necesario considerar no sólo la ley escrita sino también la forma en que se aplica (operadores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El género actúa sobre la ley, y a la vez </a:t>
            </a:r>
            <a:r>
              <a:rPr b="0" i="1" lang="es-ES" sz="2800" spc="-1" strike="noStrike">
                <a:solidFill>
                  <a:srgbClr val="545472"/>
                </a:solidFill>
                <a:latin typeface="Tahoma"/>
              </a:rPr>
              <a:t>produce </a:t>
            </a: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género (tecnología del género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La ley debe ser considerada, por tanto, un espacio válido e importante para la lucha feminist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Ngaire Naff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45472"/>
                </a:solidFill>
                <a:latin typeface="Tahoma"/>
              </a:rPr>
              <a:t>Introduce a la teoría feminista elementos del marxismo: clase y géner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45472"/>
                </a:solidFill>
                <a:latin typeface="Tahoma"/>
              </a:rPr>
              <a:t>Derecho </a:t>
            </a:r>
            <a:r>
              <a:rPr b="0" lang="es-MX" sz="3200" spc="-1" strike="noStrike">
                <a:solidFill>
                  <a:srgbClr val="545472"/>
                </a:solidFill>
                <a:latin typeface="Symbol"/>
                <a:ea typeface="Symbol"/>
              </a:rPr>
              <a:t></a:t>
            </a:r>
            <a:r>
              <a:rPr b="0" lang="es-MX" sz="3200" spc="-1" strike="noStrike">
                <a:solidFill>
                  <a:srgbClr val="545472"/>
                </a:solidFill>
                <a:latin typeface="Tahoma"/>
              </a:rPr>
              <a:t> figura preferida: “el hombre de la ley” </a:t>
            </a:r>
            <a:r>
              <a:rPr b="0" lang="es-MX" sz="3200" spc="-1" strike="noStrike">
                <a:solidFill>
                  <a:srgbClr val="545472"/>
                </a:solidFill>
                <a:latin typeface="Symbol"/>
                <a:ea typeface="Symbol"/>
              </a:rPr>
              <a:t></a:t>
            </a:r>
            <a:r>
              <a:rPr b="0" lang="es-MX" sz="3200" spc="-1" strike="noStrike">
                <a:solidFill>
                  <a:srgbClr val="545472"/>
                </a:solidFill>
                <a:latin typeface="Tahoma"/>
              </a:rPr>
              <a:t> las mujeres son construidas para reflejar su lugar tradicional en el orden social, como compañeras del hombre del derecho (discusión sobre el sujeto de derecho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02:27:09Z</dcterms:created>
  <dc:creator> Patsili Toledo</dc:creator>
  <dc:description/>
  <dc:language>en-US</dc:language>
  <cp:lastModifiedBy>Humanas</cp:lastModifiedBy>
  <dcterms:modified xsi:type="dcterms:W3CDTF">2006-09-01T14:53:41Z</dcterms:modified>
  <cp:revision>3</cp:revision>
  <dc:subject/>
  <dc:title>Feminismos y pensamientos postmodernos</dc:title>
</cp:coreProperties>
</file>