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29D-E746-432A-8667-2B17513E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F50B-A569-4834-A2BF-0B210518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C6F2-868D-46A7-9375-8CAE50FCE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0F9-274D-4BF2-95FB-473D2F927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B5C4-1DB9-493C-A4A7-8672A80C0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0252-C7B0-402B-8AFB-7F50B3782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C414-F252-4D4F-A81E-EDEFAB7D9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C8CFE-66FF-4C48-A935-ECE7524D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EC04-C84A-4D50-B036-312FFBE6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327AA-E2A2-4864-B951-F6C031239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7620-3811-4DDE-9DDD-B7FE0111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1D2D-5176-416C-B53F-473A8007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2661-DC7A-4895-88C7-F99806FD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8618-9620-44DA-9560-83F1A16F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E4D2-8EF3-42B4-8474-CBFAE21F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10985-500A-49C2-9260-912BD165A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BAB-5952-4C13-83A7-E9CC18C4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1A57-22CE-43C6-8569-C5892715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A75E-AF24-453E-BCA0-428AD1A03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383F-6F10-405F-A016-73564ECED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6678-93E0-4780-8C0F-7D390180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9944-6991-4CCA-920E-9060AE34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6681-E648-454C-A015-9FF017CD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B78-4995-44AB-B9BA-27D83D4B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4B00-3294-4205-ABBE-11817E77D9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50A26-A3A6-4ADA-867B-39715AF5143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Feminismos Radicales o de la Dominació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os enfoques de igualdad y diferencia no sirven para explicar el poder de los varones sobre las muje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El eje no es la igualdad/diferencia en relación a los varones, sino el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sistema de dominación en que los varones tienen el poder de oprimir a las mujeres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a través d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lenguaj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 instituciones culturales, sociales y leg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Control del cuerpo de las mujeres **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Se consideran “centros de dominación patriarcal” esferas que hasta entonces habían sido consideradas parte de la vida privada. </a:t>
            </a:r>
            <a:r>
              <a:rPr b="0" i="1" lang="es-ES" sz="3200" spc="-1" strike="noStrike">
                <a:solidFill>
                  <a:srgbClr val="000000"/>
                </a:solidFill>
                <a:latin typeface="Verdana"/>
              </a:rPr>
              <a:t>Lo personal es polític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Inicialmente, principales autoras: Millet y Firestone (década de 1970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66"/>
                </a:solidFill>
                <a:latin typeface="Verdana"/>
              </a:rPr>
              <a:t>Principales característica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Catharine MacKinno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MX" sz="2400" spc="-1" strike="noStrike">
                <a:solidFill>
                  <a:srgbClr val="000000"/>
                </a:solidFill>
                <a:latin typeface="Verdana"/>
              </a:rPr>
              <a:t>locus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de la opresión femenina esta constituido por el cuerpo d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Diferencias entre varones y mujeres se explican por la subordinación de las mujeres </a:t>
            </a: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 origen: la alienación de su sexua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Verdana"/>
              </a:rPr>
              <a:t>Sexualidad es el origen de la dominación de los varones sobre las muje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 poder total de los varones sobre las mujer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u capacidad para reducirlas a la encarnación de sus deseos sexu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ley reproduce la sexualidad desde la perspectiva masculina y asegura el control masculino sobre los cuerpos de las mujer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sobre prostitu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yes relativas a la moralidad / obscen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Verdana"/>
              </a:rPr>
              <a:t>MacKinnon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recho es masculino y por lo tanto, no hay lugar para las mujeres en este paradigma legal masculin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sde el feminismo, debiera pensarse en un sistema jurídico que tomara a las mujeres como punto de partid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 consecuencia, MacKinnon está a favor de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un sistema de justicia separado para las mujer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y del desarrollo de una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radica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828440"/>
            <a:ext cx="8110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ropia situación de opresión de las mujeres posibilita una apreciación más completa y menos perversa de la realidad, lo que podría constituirse en la base de un sistema jurídico más deseabl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luencia en el Derecho: promulgación de leyes en áreas como violación, prostitución y pornografía (sexualidad femenin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eminismos de la diferencia: radical y cultur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2438280"/>
            <a:ext cx="8110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Ambas corrientes entienden que la vida de las mujeres es diferente de la de los varones desde el punto de vista físico, y comparten el interés y la preocupación por la carencia de poder de las mujeres. (Robin West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rítica a feminismos de la diferenci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de feminismos posteriores se ha criticado en particular la idea de la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jurisprudencia feminis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o que intenta reemplazar una verdad por otra: al reemplazar las “grandes” teorías masculinas del Derecho, universales y abstractas, por teoría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femenin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del derecho, igualmente totalizadora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23:11:51Z</dcterms:created>
  <dc:creator>Patsili Toledo</dc:creator>
  <dc:description/>
  <dc:language>en-US</dc:language>
  <cp:lastModifiedBy>Humanas</cp:lastModifiedBy>
  <dcterms:modified xsi:type="dcterms:W3CDTF">2006-08-30T14:53:35Z</dcterms:modified>
  <cp:revision>15</cp:revision>
  <dc:subject/>
  <dc:title>Feminismo de la Diferencia</dc:title>
</cp:coreProperties>
</file>