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6C1-4197-4E59-A04B-2A935BCDD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9856-BCEC-4DB5-BCED-F63B4A22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6C52-0EAF-452E-BAE9-CDA86092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440-F419-42B4-BEC9-BC86AA18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5AC5-8B50-4ECD-8EDE-26CEA4085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D80F6-FB97-4D96-BE64-F756DEA78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17B89-3B3D-4C1B-ACFE-4C38D23D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F08B-8DD5-4CC8-A336-38D24FB2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78E4-2239-4E48-ABB7-9AB38889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9163-67BB-4901-9B71-8DF69680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5B7E-F1E5-45B6-BCD6-6F895ACC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0CB7-AA2E-4B3D-8A9E-02815860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1EAA-4B81-476B-B813-7DC3778D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FE3E-A657-4DC0-BCCC-966F1460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0C6F-0ED9-4878-AFF1-0C30EB25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1E076-CB6C-49D3-A455-1BC5A8D1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44C7-1F72-475A-8710-F61A9D096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BEB-F646-484D-B25B-84C2EA31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2ED7-0B48-4E04-A199-CC2EB8A9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950A-770A-4B8F-999F-976055B61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F209-69C6-476A-8F3B-5C669D3E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E09C-2C07-4C7F-9CD9-BB7BC4F1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EF8-69E9-4EAB-BEF7-20349D49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34C9-FB1A-4D8A-B902-B7DCDF72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2879-D48B-453E-9027-926E91E1238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4898-3E7D-4536-839F-7E10F1D6EC4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Feminismos Radicales o de la Domin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nfoques de igualdad y diferencia no sirven para explicar el poder de los varones sobre las muje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eje no es la igualdad/diferencia en relación a los varones, sino el 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sistema de dominación en que los varones tienen el poder de oprimir a las mujeres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a través 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lengu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 instituciones culturales, sociales y leg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cuerpo de las mujeres *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 consideran “centros de dominación patriarcal” esferas que hasta entonces habían sido consideradas parte de la vida privada. </a:t>
            </a: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Lo personal es políti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icialmente, principales autoras: Millet y Firestone (década de 197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atharine MacKinn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locus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de la opresión femenina esta constituido por el cuerpo d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iferencias entre varones y mujeres se explican por la subordinación de las mujeres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origen: la alienación de su sexu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exualidad es el origen de la dominación de los varones sobr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poder total de los varones sobre las muje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 capacidad para reducirlas a la encarnación de sus deseos sexu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ley reproduce la sexualidad desde la perspectiva masculina y asegura el control masculino sobre los cuerpos de las muje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sobre prostit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relativas a la moralidad / obscen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recho es masculino y por lo tanto, no hay lugar para las mujeres en este paradigma legal masculi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de el feminismo, debiera pensarse en un sistema jurídico que tomara a las mujeres como punto de part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consecuencia, MacKinnon está a favor de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un sistema de justicia separado para las mujer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y del desarrollo de una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radica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828440"/>
            <a:ext cx="8110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ropia situación de opresión de las mujeres posibilita una apreciación más completa y menos perversa de la realidad, lo que podría constituirse en la base de un sistema jurídico más deseab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uencia en el Derecho: promulgación de leyes en áreas como violación, prostitución y pornografía (sexualidad femenin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de la diferencia: radical y cultur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2438280"/>
            <a:ext cx="81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mbas corrientes entienden que la vida de las mujeres es diferente de la de los varones desde el punto de vista físico, y comparten el interés y la preocupación por la carencia de poder de las mujeres. (Robin We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rítica a feminismos de la diferenc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de feminismos posteriores se ha criticado en particular la idea de l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o que intenta reemplazar una verdad por otra: al reemplazar las “grandes” teorías masculinas del Derecho, universales y abstractas, por teorí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emenin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l derecho, igualmente totalizadora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30T14:53:35Z</dcterms:modified>
  <cp:revision>15</cp:revision>
  <dc:subject/>
  <dc:title>Feminismo de la Diferencia</dc:title>
</cp:coreProperties>
</file>