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4868-07C9-4074-B631-44191E69F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A613-8B2B-4C14-B35C-802E952A7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FF8B-0AF0-474E-9B9E-60BCDA58C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8693-1194-41CD-8E3C-8E1DC66EE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E2572-F77E-4E69-87EF-75A3EA98E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EE72E-0474-4CB7-9B85-0E98ADE2F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DE2EE-410B-431A-B850-76A64C653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ABDDF-8222-4C18-9A44-AA8F47420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55F0A-A204-4E93-8DAA-45B680CE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49AD3-81BD-4E1D-AE4E-B0B421E09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AFF58-5B4C-4AD5-A0E3-EDF19297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7D08-5DD3-4234-968F-E06F6F6FD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7CA3D-783C-4096-8E30-CFB2B7F8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E47F6-2178-41C1-85AD-6E914CC2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09355-C8FB-4430-92F4-B16863A33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673D0-913D-472A-9412-535B4140F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3A916-18CF-457D-9E7A-C341A5F10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04D9-701C-49DF-A4AE-A7B83E818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0A71-1994-4E13-BD34-0BEDED557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D865-FAB5-497B-9AF6-667E69C75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AE4A-3DED-4A2B-A021-046DEFE3C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C8E5-28EF-45B0-8286-4C86BBA3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8CF8-DD5C-42E4-A046-38AFEDBF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5074-DC81-46B1-8A47-DF240340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6821C-CCB9-4F51-80BD-E41BA98E9C9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F75E4-1E6F-4AB2-890A-B24E3D799D0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Verdana"/>
              </a:rPr>
              <a:t>Feminismos Radicales o de la Dominació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Verdana"/>
              </a:rPr>
              <a:t>Principales característica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enfoques de igualdad y diferencia no sirven para explicar el poder de los varones sobre las muje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El eje no es la igualdad/diferencia en relación a los varones, sino el </a:t>
            </a:r>
            <a:r>
              <a:rPr b="0" i="1" lang="es-MX" sz="2600" spc="-1" strike="noStrike">
                <a:solidFill>
                  <a:srgbClr val="000000"/>
                </a:solidFill>
                <a:latin typeface="Verdana"/>
              </a:rPr>
              <a:t>sistema de dominación en que los varones tienen el poder de oprimir a las mujeres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 a través d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ontrol del lenguaj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ontrol de instituciones culturales, sociales y lega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ontrol del cuerpo de las mujeres **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Verdana"/>
              </a:rPr>
              <a:t>Principales característica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Se consideran “centros de dominación patriarcal” esferas que hasta entonces habían sido consideradas parte de la vida privada. </a:t>
            </a:r>
            <a:r>
              <a:rPr b="0" i="1" lang="es-ES" sz="3200" spc="-1" strike="noStrike">
                <a:solidFill>
                  <a:srgbClr val="000000"/>
                </a:solidFill>
                <a:latin typeface="Verdana"/>
              </a:rPr>
              <a:t>Lo personal es polític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Inicialmente, principales autoras: Millet y Firestone (década de 1970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Verdana"/>
              </a:rPr>
              <a:t>Principales característica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Catharine MacKinnon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el </a:t>
            </a:r>
            <a:r>
              <a:rPr b="0" i="1" lang="es-MX" sz="2400" spc="-1" strike="noStrike">
                <a:solidFill>
                  <a:srgbClr val="000000"/>
                </a:solidFill>
                <a:latin typeface="Verdana"/>
              </a:rPr>
              <a:t>locus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 de la opresión femenina esta constituido por el cuerpo de las muje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Diferencias entre varones y mujeres se explican por la subordinación de las mujeres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 origen: la alienación de su sexual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Sexualidad es el origen de la dominación de los varones sobre las muje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Verdana"/>
              </a:rPr>
              <a:t>MacKinno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 poder total de los varones sobre las mujere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u capacidad para reducirlas a la encarnación de sus deseos sexual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 ley reproduce la sexualidad desde la perspectiva masculina y asegura el control masculino sobre los cuerpos de las mujer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yes sobre prostitu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yes relativas a la moralidad / obscen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Verdana"/>
              </a:rPr>
              <a:t>MacKinno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Derecho es masculino y por lo tanto, no hay lugar para las mujeres en este paradigma legal masculin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Desde el feminismo, debiera pensarse en un sistema jurídico que tomara a las mujeres como punto de partid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n consecuencia, MacKinnon está a favor de </a:t>
            </a:r>
            <a:r>
              <a:rPr b="0" i="1" lang="es-ES" sz="2800" spc="-1" strike="noStrike">
                <a:solidFill>
                  <a:srgbClr val="000000"/>
                </a:solidFill>
                <a:latin typeface="Verdana"/>
              </a:rPr>
              <a:t>un sistema de justicia separado para las mujeres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, y del desarrollo de una </a:t>
            </a:r>
            <a:r>
              <a:rPr b="0" i="1" lang="es-ES" sz="2800" spc="-1" strike="noStrike">
                <a:solidFill>
                  <a:srgbClr val="000000"/>
                </a:solidFill>
                <a:latin typeface="Verdana"/>
              </a:rPr>
              <a:t>jurisprudencia feminista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Feminismos radical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2600" y="1828440"/>
            <a:ext cx="81104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 propia situación de opresión de las mujeres posibilita una apreciación más completa y menos perversa de la realidad, lo que podría constituirse en la base de un sistema jurídico más deseabl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luencia en el Derecho: promulgación de leyes en áreas como violación, prostitución y pornografía (sexualidad femenina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Feminismos de la diferencia: radical y cultural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2600" y="2438280"/>
            <a:ext cx="8110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Ambas corrientes entienden que la vida de las mujeres es diferente de la de los varones desde el punto de vista físico, y comparten el interés y la preocupación por la carencia de poder de las mujeres. (Robin West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rítica a feminismos de la diferenci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de feminismos posteriores se ha criticado en particular la idea de la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jurisprudencia feminis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delo que intenta reemplazar una verdad por otra: al reemplazar las “grandes” teorías masculinas del Derecho, universales y abstractas, por teorías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femenina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del derecho, igualmente totalizadora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23:11:51Z</dcterms:created>
  <dc:creator>Patsili Toledo</dc:creator>
  <dc:description/>
  <dc:language>en-US</dc:language>
  <cp:lastModifiedBy>Humanas</cp:lastModifiedBy>
  <dcterms:modified xsi:type="dcterms:W3CDTF">2006-08-30T14:53:35Z</dcterms:modified>
  <cp:revision>15</cp:revision>
  <dc:subject/>
  <dc:title>Feminismo de la Diferencia</dc:title>
</cp:coreProperties>
</file>