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CEF7-7C70-4D5E-8AC7-33E6F5364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F5F-6B65-43B5-B250-0AF0B81A1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EDBE-1373-4008-A706-32FEA20A2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8BFF-2B24-4618-994E-575C4F09C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8A21-56BF-4E1A-9B89-39B10B9CB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07FA-53DA-4A73-B15A-5AA28FF01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A343-57A5-4579-A61C-8B991FE2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3579-A593-498B-87D1-119EDDDE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A567-1223-492D-AF35-64FF33A3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1E74-77FB-4813-9033-C7ADE4AC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4B3F8-1B4E-4020-81FC-6E4E04FE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1C6-CCB3-4D5D-9696-9B615342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AC2C-2B71-4E18-8D7B-73192688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07AF-9E2E-47D5-9D29-DBAA7BDD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C08C-A183-4861-9286-07FA1B80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D33A-8570-4FCD-90C1-04FAB0C0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CACEF-AF1B-4551-94B9-4FDFB81A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031E-1190-48D8-AF88-22D87C33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1F9C-9E02-4EBD-B837-A22B11534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C9F4-58B3-4F26-9A73-D2A3E304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EBF-B8A5-48AB-A196-474E6C0E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4EF-2DF7-49F8-AAAF-F29C91B4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BB09-A274-4933-9B4A-8F753A54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FAA-610A-457A-AE0A-478927B9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4E954-2186-4D6B-BC62-89C9650A332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60DA-A6AE-4987-8F40-7DC43D75AF6D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s de la Diferenc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Reacciones: dos tendenc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Revalorización de cualidades femeninas (largamente subvaloradas en la socieda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Riesgo de restituir peligrosos estereotipos de género que, en definitiva, pueden conducir a separar aún más los géneros (esencialismo) y a devaluar las cualidades femenin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óxima clase: Feminismo Radical o de la Domin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3048120"/>
            <a:ext cx="8208720" cy="30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eer texto “Sexualidad” de Catharine MacKinnon (22 págs. U- Curso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Principales característ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Existen diferencias sociales, psicológicas y de comportamiento entre los varones y las mujeres (base: proceso de socialización / diferencia biológic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Las diferencias de género son explicadas en base a la biología, la división del trabajo, la dinámica psicológica en la formación de la identidad, la estructura política de las relaciones de género, etc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Principales característ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A diferencia de las feministas liberales (que intentan eliminar las diferencias de género) las partidarias de este enfoque buscan aprender de las diferencias de género, una vez 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redefinidas: 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el ámbito público debe ser </a:t>
            </a:r>
            <a:r>
              <a:rPr b="0" i="1" lang="es-MX" sz="3200" spc="-1" strike="noStrike">
                <a:solidFill>
                  <a:srgbClr val="ffffcc"/>
                </a:solidFill>
                <a:latin typeface="Arial"/>
              </a:rPr>
              <a:t>reconstruido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con la 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participación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de las mujeres y teniendo en cuenta sus 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neces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Principales característ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El Derecho debe ser puesto en cuestión desde una perspectiva feminista que surja de la experiencia misma de las mujeres en la sociedad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(reformas legales en materia de delitos sexual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8680" y="2474640"/>
            <a:ext cx="82087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Valora la cultura femenina como un conjunto de valores desarrollados en la esfera privada de la sociedad </a:t>
            </a:r>
            <a:r>
              <a:rPr b="0" lang="es-MX" sz="32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capacidades que deben ser llevadas a la esfera públ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arol Gilligan: (</a:t>
            </a: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In a different voice</a:t>
            </a: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. 198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Diferencias en la forma en que varones y mujer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se conciben a sí mismos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conciben a su entorno, y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la forma en que resuelven problemas moral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Teoría tradicional del desarrollo psicológico femenino está basado en estudios del desarrollo masculino </a:t>
            </a: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(Estadios de desarrollo moral de Kohlberg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Obj.: que ambos géneros estuviesen representados como sujetos en las investigaciones sobre el desarrollo mor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Arial"/>
              </a:rPr>
              <a:t>Ética del cuidado / Ética de la justicia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Propuesta de Gilligan: agregar la ética del cuidado a la ética de la justi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cc"/>
                </a:solidFill>
                <a:latin typeface="Arial"/>
              </a:rPr>
              <a:t>Ética del cuidado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: que nadie resulte dañ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cc"/>
                </a:solidFill>
                <a:latin typeface="Arial"/>
              </a:rPr>
              <a:t>Ética de la justicia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: que todos sean tratados por ig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Arial"/>
              </a:rPr>
              <a:t>Ética de la justicia / Ética del cuidado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Base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: personas como individuos, independientes (previo a rels. social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Imparcialismo 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Formalismo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Respeto por los derechos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formales de los demás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(límite a la acció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Obj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.: reglas mínimas de convivencia (por procedimiento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Base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: mundo como una red de relaciones en que se inserta el y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Contextualismo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(sit. particular sujeto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Responsabilidad por los demás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(importa tb. la omisió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Obj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.: no sólo reglas sino también de cualquier cosa que se valore como mor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aracterísticas del modelo masculino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Abstrac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Objetivida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Ausencia de peso emocion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onsecuencias en el campo del Derech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Ley está impregnada de la perspectiva masculina: Reglas abstractas, ideas de autonomía y de derechos individuales </a:t>
            </a:r>
            <a:r>
              <a:rPr b="0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excluyen la perspectiva femenin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Sugiere numerosa incorporación de abogadas y juezas en el sistema jurídico </a:t>
            </a:r>
            <a:r>
              <a:rPr b="0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nueva perspectiva y cambi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23:11:51Z</dcterms:created>
  <dc:creator>Patsili Toledo</dc:creator>
  <dc:description/>
  <dc:language>en-US</dc:language>
  <cp:lastModifiedBy>Humanas</cp:lastModifiedBy>
  <dcterms:modified xsi:type="dcterms:W3CDTF">2006-08-25T15:37:00Z</dcterms:modified>
  <cp:revision>8</cp:revision>
  <dc:subject/>
  <dc:title>Feminismo de la Diferencia</dc:title>
</cp:coreProperties>
</file>