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85F-364A-4614-B635-2FFDA02C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3D98-2FBB-417D-B18D-B3AF502D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1ADB-7BE3-4119-9A0D-40D66EE1C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A412-F1E4-439B-A93C-468F9BAA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B541F-E7B5-412B-89FD-284FF388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4B9A-1D67-4E7E-A162-17F67643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04A5A-5490-41BF-9B4C-7DA49680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CDFF-4E71-430C-8E82-F3724381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D7B9-1888-4F75-9AEB-FBC1C790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1F0A-AD7F-4CEA-BED9-A11514FB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3F78-D3F0-41A3-8EC0-52FC15E82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2CB-3439-4A7A-AFD0-7A4C6DEE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F189E-A8E7-4841-B93B-A092D2B6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2D94-A80F-4A8D-9C72-2C7B3AC4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B6E1E-E7C4-4764-9923-65CA6061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4006-3CD4-429F-987E-20D674E95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8FE1-FF59-47FA-BF00-D34F6C385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D530-1492-43FF-8D1A-CCDD826CA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5A05-B590-43FC-AFED-48D15D207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2EF-F6E5-45C7-B460-1A94B839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747-F876-4D24-8A3B-2C52D45B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340-D120-42A3-841B-09D7A31C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7EE9-1CA6-4397-AB54-979D07680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8612-704C-459C-A5A0-5B90E12E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5408-6833-4F1D-8A3C-7A70872029FB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CBCB-B17E-4F1C-B9EE-951851F112CC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s de la Diferenci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Reacciones: dos tendencia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Revalorización de cualidades femeninas (largamente subvaloradas en la sociedad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Riesgo de restituir peligrosos estereotipos de género que, en definitiva, pueden conducir a separar aún más los géneros (esencialismo) y a devaluar las cualidades femenina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róxima clase: Feminismo Radical o de la Dominació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3048120"/>
            <a:ext cx="8208720" cy="30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eer texto “Sexualidad” de Catharine MacKinnon (22 págs. U- Curso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Principales característ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Existen diferencias sociales, psicológicas y de comportamiento entre los varones y las mujeres (base: proceso de socialización / diferencia biológic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Las diferencias de género son explicadas en base a la biología, la división del trabajo, la dinámica psicológica en la formación de la identidad, la estructura política de las relaciones de género, etc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Principales característ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A diferencia de las feministas liberales (que intentan eliminar las diferencias de género) las partidarias de este enfoque buscan aprender de las diferencias de género, una vez 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redefinidas: 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el ámbito público debe ser </a:t>
            </a:r>
            <a:r>
              <a:rPr b="0" i="1" lang="es-MX" sz="3200" spc="-1" strike="noStrike">
                <a:solidFill>
                  <a:srgbClr val="ffffcc"/>
                </a:solidFill>
                <a:latin typeface="Arial"/>
              </a:rPr>
              <a:t>reconstruido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con la 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participación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de las mujeres y teniendo en cuenta sus 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neces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Principales característica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El Derecho debe ser puesto en cuestión desde una perspectiva feminista que surja de la experiencia misma de las mujeres en la sociedad</a:t>
            </a:r>
            <a:r>
              <a:rPr b="1" lang="es-MX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(reformas legales en materia de delitos sexual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8680" y="2474640"/>
            <a:ext cx="8208720" cy="30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Valora la cultura femenina como un conjunto de valores desarrollados en la esfera privada de la sociedad </a:t>
            </a:r>
            <a:r>
              <a:rPr b="0" lang="es-MX" sz="32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 capacidades que deben ser llevadas a la esfera públic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arol Gilligan: (</a:t>
            </a:r>
            <a:r>
              <a:rPr b="0" lang="es-MX" sz="2800" spc="-1" strike="noStrike" u="sng">
                <a:solidFill>
                  <a:srgbClr val="ffffcc"/>
                </a:solidFill>
                <a:uFillTx/>
                <a:latin typeface="Arial"/>
              </a:rPr>
              <a:t>In a different voice</a:t>
            </a: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. 198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Diferencias en la forma en que varones y mujere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se conciben a sí mismos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conciben a su entorno, y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en la forma en que resuelven problemas morales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Teoría tradicional del desarrollo psicológico femenino está basado en estudios del desarrollo masculino </a:t>
            </a:r>
            <a:r>
              <a:rPr b="0" lang="es-MX" sz="2000" spc="-1" strike="noStrike">
                <a:solidFill>
                  <a:srgbClr val="ffffcc"/>
                </a:solidFill>
                <a:latin typeface="Arial"/>
              </a:rPr>
              <a:t>(Estadios de desarrollo moral de Kohlberg)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Obj.: que ambos géneros estuviesen representados como sujetos en las investigaciones sobre el desarrollo mo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Arial"/>
              </a:rPr>
              <a:t>Ética del cuidado / Ética de la justicia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Propuesta de Gilligan: agregar la ética del cuidado a la ética de la justicia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cc"/>
                </a:solidFill>
                <a:latin typeface="Arial"/>
              </a:rPr>
              <a:t>Ética del cuidado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: que nadie resulte dañad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cc"/>
                </a:solidFill>
                <a:latin typeface="Arial"/>
              </a:rPr>
              <a:t>Ética de la justicia</a:t>
            </a:r>
            <a:r>
              <a:rPr b="0" lang="es-MX" sz="3200" spc="-1" strike="noStrike">
                <a:solidFill>
                  <a:srgbClr val="ffffcc"/>
                </a:solidFill>
                <a:latin typeface="Arial"/>
              </a:rPr>
              <a:t>: que todos sean tratados por igu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cc00"/>
                </a:solidFill>
                <a:latin typeface="Arial"/>
              </a:rPr>
              <a:t>Ética de la justicia / Ética del cuidado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Base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: personas como individuos, independientes (previo a rels. sociale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Imparcialismo 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/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Formalismo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Respeto por los derechos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formales de los demás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(límite a la acció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Obj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.: reglas mínimas de convivencia (por procedimiento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13320" y="1941480"/>
            <a:ext cx="40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Base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: mundo como una red de relaciones en que se inserta el y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Contextualismo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(sit. particular sujetos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Responsabilidad por los demás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(importa tb. la omisión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cc"/>
                </a:solidFill>
                <a:latin typeface="Arial"/>
              </a:rPr>
              <a:t>Obj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.: no sólo reglas sino también de cualquier cosa que se valore como mor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cc00"/>
                </a:solidFill>
                <a:latin typeface="Arial"/>
              </a:rPr>
              <a:t>Feminismo Cultura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aracterísticas del modelo masculino: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Abstracció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Objetividad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Ausencia de peso emociona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cc"/>
                </a:solidFill>
                <a:latin typeface="Arial"/>
              </a:rPr>
              <a:t>Consecuencias en el campo del Derech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Ley está impregnada de la perspectiva masculina: Reglas abstractas, ideas de autonomía y de derechos individuales </a:t>
            </a:r>
            <a:r>
              <a:rPr b="0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excluyen la perspectiva femenin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Sugiere numerosa incorporación de abogadas y juezas en el sistema jurídico </a:t>
            </a:r>
            <a:r>
              <a:rPr b="0" lang="es-MX" sz="24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ffffcc"/>
                </a:solidFill>
                <a:latin typeface="Arial"/>
              </a:rPr>
              <a:t> nueva perspectiva y cambios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23:11:51Z</dcterms:created>
  <dc:creator>Patsili Toledo</dc:creator>
  <dc:description/>
  <dc:language>en-US</dc:language>
  <cp:lastModifiedBy>Humanas</cp:lastModifiedBy>
  <dcterms:modified xsi:type="dcterms:W3CDTF">2006-08-25T15:37:00Z</dcterms:modified>
  <cp:revision>8</cp:revision>
  <dc:subject/>
  <dc:title>Feminismo de la Diferencia</dc:title>
</cp:coreProperties>
</file>