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A5C5-AF72-4AC7-9A86-B4B37C31C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7EC9-DB25-494D-B2DF-BA00AFBC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AE55-ABBC-4C81-9410-EFDF11FF9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1997-C993-4DF8-AD01-6E52E4829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47BDD-5C8B-4C0A-A6EE-1545DEEAD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C91C-CBD7-4A05-B325-2219655B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8BBC-A50F-4615-A07E-2E2C69C1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BD2D-2A1D-4E8A-96BE-30F647F9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8194-E33D-45BA-9F09-AFE1A5E6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99B1-0DDD-499E-9EA6-0DCC9A25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6114-1B89-45E3-BFD1-20A5C07A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1F7C-224C-4870-A73D-E483A2BC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F80D-C13E-49EE-A724-AE4E04DC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13C1D-9B67-499C-A3EB-1350C9E1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F718-4D30-4C49-9348-1D713D27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A783-1B6E-481A-9E10-7E4A199F0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4C9C2-396C-46D4-B268-671FFF520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77D3-09E1-4CAB-A512-F72EABFA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2A0B-7835-4D0A-99F8-E0F24385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9389-C72E-4FA3-A1A3-B8EC1382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D666-1369-4C69-845F-9CCC07D4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8F27-967B-48B2-B69E-31E30BE5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730D-34AF-4595-8E60-B02F73E4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0BD9-CDC7-45F0-ADC3-48EA903F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F723-8ACE-4A8F-B19C-7EC74ED65CFF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228C-520B-4877-AF1E-6BA072F30007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"/>
              </a:rPr>
              <a:t>Feminismos de la Diferenci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"/>
              </a:rPr>
              <a:t>Feminismo Cultura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Reacciones: dos tendenci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Revalorización de cualidades femeninas (largamente subvaloradas en la socieda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Riesgo de restituir peligrosos estereotipos de género que, en definitiva, pueden conducir a separar aún más los géneros (esencialismo) y a devaluar las cualidades femenin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róxima clase: Feminismo Radical o de la Dominac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8680" y="3048120"/>
            <a:ext cx="8208720" cy="30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eer texto “Sexualidad” de Catharine MacKinnon (22 págs. U- Curso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"/>
              </a:rPr>
              <a:t>Principales característica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Existen diferencias sociales, psicológicas y de comportamiento entre los varones y las mujeres (base: proceso de socialización / diferencia biológic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Las diferencias de género son explicadas en base a la biología, la división del trabajo, la dinámica psicológica en la formación de la identidad, la estructura política de las relaciones de género, etc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"/>
              </a:rPr>
              <a:t>Principales característica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A diferencia de las feministas liberales (que intentan eliminar las diferencias de género) las partidarias de este enfoque buscan aprender de las diferencias de género, una vez </a:t>
            </a: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redefinidas: </a:t>
            </a: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el ámbito público debe ser </a:t>
            </a:r>
            <a:r>
              <a:rPr b="0" i="1" lang="es-MX" sz="3200" spc="-1" strike="noStrike">
                <a:solidFill>
                  <a:srgbClr val="ffffcc"/>
                </a:solidFill>
                <a:latin typeface="Arial"/>
              </a:rPr>
              <a:t>reconstruido</a:t>
            </a: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 con la </a:t>
            </a: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participación</a:t>
            </a: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 de las mujeres y teniendo en cuenta sus </a:t>
            </a: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necesidad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"/>
              </a:rPr>
              <a:t>Principales característica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El Derecho debe ser puesto en cuestión desde una perspectiva feminista que surja de la experiencia misma de las mujeres en la sociedad</a:t>
            </a: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(reformas legales en materia de delitos sexuale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"/>
              </a:rPr>
              <a:t>Feminismo Cultura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8680" y="2474640"/>
            <a:ext cx="82087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Valora la cultura femenina como un conjunto de valores desarrollados en la esfera privada de la sociedad </a:t>
            </a:r>
            <a:r>
              <a:rPr b="0" lang="es-MX" sz="32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 capacidades que deben ser llevadas a la esfera públic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"/>
              </a:rPr>
              <a:t>Feminismo Cultura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Carol Gilligan: (</a:t>
            </a:r>
            <a:r>
              <a:rPr b="0" lang="es-MX" sz="2800" spc="-1" strike="noStrike" u="sng">
                <a:solidFill>
                  <a:srgbClr val="ffffcc"/>
                </a:solidFill>
                <a:uFillTx/>
                <a:latin typeface="Arial"/>
              </a:rPr>
              <a:t>In a different voice</a:t>
            </a: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. 1982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Diferencias en la forma en que varones y mujer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se conciben a sí mismos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conciben a su entorno, y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en la forma en que resuelven problemas moral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Teoría tradicional del desarrollo psicológico femenino está basado en estudios del desarrollo masculino </a:t>
            </a: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(Estadios de desarrollo moral de Kohlberg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Obj.: que ambos géneros estuviesen representados como sujetos en las investigaciones sobre el desarrollo mor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7160" y="841320"/>
            <a:ext cx="863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cc00"/>
                </a:solidFill>
                <a:latin typeface="Arial"/>
              </a:rPr>
              <a:t>Ética del cuidado / Ética de la justicia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Propuesta de Gilligan: agregar la ética del cuidado a la ética de la justici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cc"/>
                </a:solidFill>
                <a:latin typeface="Arial"/>
              </a:rPr>
              <a:t>Ética del cuidado</a:t>
            </a: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: que nadie resulte dañad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cc"/>
                </a:solidFill>
                <a:latin typeface="Arial"/>
              </a:rPr>
              <a:t>Ética de la justicia</a:t>
            </a: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: que todos sean tratados por igu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7160" y="841320"/>
            <a:ext cx="863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cc00"/>
                </a:solidFill>
                <a:latin typeface="Arial"/>
              </a:rPr>
              <a:t>Ética de la justicia / Ética del cuidado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Base</a:t>
            </a: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: personas como individuos, independientes (previo a rels. sociale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Imparcialismo </a:t>
            </a: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/</a:t>
            </a: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Formalismo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Respeto por los derechos</a:t>
            </a: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formales de los demás</a:t>
            </a: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 (límite a la acción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Obj</a:t>
            </a: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.: reglas mínimas de convivencia (por procedimiento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1332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Base</a:t>
            </a: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: mundo como una red de relaciones en que se inserta el y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Contextualismo</a:t>
            </a: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 (sit. particular sujeto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Responsabilidad por los demás</a:t>
            </a: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 (importa tb. la omisión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Obj</a:t>
            </a: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.: no sólo reglas sino también de cualquier cosa que se valore como mor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"/>
              </a:rPr>
              <a:t>Feminismo Cultura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Características del modelo masculino: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Abstracció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Objetivida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Ausencia de peso emocion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Consecuencias en el campo del Derech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Ley está impregnada de la perspectiva masculina: Reglas abstractas, ideas de autonomía y de derechos individuales </a:t>
            </a:r>
            <a:r>
              <a:rPr b="0" lang="es-MX" sz="24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 excluyen la perspectiva femenin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Sugiere numerosa incorporación de abogadas y juezas en el sistema jurídico </a:t>
            </a:r>
            <a:r>
              <a:rPr b="0" lang="es-MX" sz="24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 nueva perspectiva y cambio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23:11:51Z</dcterms:created>
  <dc:creator>Patsili Toledo</dc:creator>
  <dc:description/>
  <dc:language>en-US</dc:language>
  <cp:lastModifiedBy>Humanas</cp:lastModifiedBy>
  <dcterms:modified xsi:type="dcterms:W3CDTF">2006-08-25T15:37:00Z</dcterms:modified>
  <cp:revision>8</cp:revision>
  <dc:subject/>
  <dc:title>Feminismo de la Diferencia</dc:title>
</cp:coreProperties>
</file>