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9E680-1889-4A23-ABBE-D113D6423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DC44D-B88F-4782-81C1-404752E0C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397F0-7133-4E0D-8352-CE17AA85E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71E93-39FD-4B63-85CE-76A87B48A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9CE96-A3FA-4600-8945-77A532DFF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42360-E5B1-4D97-B0A2-C6654CDBE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EB4FD-6A0F-4E67-89A6-286C93F98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64F78-BAB2-45C6-B66A-AEA1252B2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C3DBF-7963-492D-ABA3-FC9AFAA7B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F41CA-0449-43CB-B36A-AD7F00150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7391B-08EE-4B27-ABF2-3D4FF379B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6CA91-FADA-4B3B-A60B-891F29881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D3E1-247E-4DAF-8CC1-3913A92F3B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minismos Liberales</a:t>
            </a:r>
            <a:br>
              <a:rPr sz="4400"/>
            </a:br>
            <a:r>
              <a:rPr b="0" lang="en-US" sz="4400" spc="-1" strike="noStrike">
                <a:solidFill>
                  <a:srgbClr val="000000"/>
                </a:solidFill>
                <a:latin typeface="Times New Roman"/>
              </a:rPr>
              <a:t> o de la Igualda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bj: Determinar si los modelos políticos basados en el contractualismo posibilitan o no la incorporación de las mujeres a la escena polític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doja de Wollstonecraf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trato social “pre”supone un contrato sexu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los hombres nacen libres e iguales” (libertad, igualdad, </a:t>
            </a:r>
            <a:r>
              <a:rPr b="0" i="1" lang="es-ES" sz="2800" spc="-1" strike="noStrike">
                <a:solidFill>
                  <a:srgbClr val="000000"/>
                </a:solidFill>
                <a:latin typeface="Times New Roman"/>
              </a:rPr>
              <a:t>fratern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Hobbes: estado de naturaleza / sociedad civil (pa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teman: civil-público / privado-doméstico</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cke: “Cada hombre tiene una propiedad en su propia persona; y a esa propiedad nadie tiene derecho, excepto él mism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James Tyrrell: “las mujeres están representadas por sus esposos y son comúnmente incapaces para los asunto civi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teman: sociedad conyugal es previa al contrato so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tra-contractualismo: (Film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recho divino (monarquí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uestiona validez del contrato si “los niños” están sujetos a él pero no lo han suscrito (mujer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teman: derecho conyugal previo al contrato </a:t>
            </a:r>
            <a:r>
              <a:rPr b="0" lang="es-ES" sz="3200" spc="-1" strike="noStrike">
                <a:solidFill>
                  <a:srgbClr val="000000"/>
                </a:solidFill>
                <a:latin typeface="Symbol"/>
                <a:ea typeface="Symbol"/>
              </a:rPr>
              <a:t></a:t>
            </a:r>
            <a:r>
              <a:rPr b="0" lang="es-ES" sz="3200" spc="-1" strike="noStrike">
                <a:solidFill>
                  <a:srgbClr val="000000"/>
                </a:solidFill>
                <a:latin typeface="Times New Roman"/>
              </a:rPr>
              <a:t> derecho al acceso a los cuerpos de las mujeres * (F. Engels)</a:t>
            </a:r>
            <a:endParaRPr b="0" lang="en-US" sz="32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derecho de pern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91440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El derrocamiento del derecho materno fue la gran derrota del sexo femenino en todo el mundo. El hombre empuñó también las riendas en la casa; la mujer se vio degradada, convertida en la servidora, en la esclava de la lujuria del hombre, en un simple instrumento de reproducción. Esta baja condición de la mujer (...) ha sido gradualmente retocada, disimulada, y, en ciertos sitios, hasta revestida de formas más suaves, pero ni mucho menos abolid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F. Engels. </a:t>
            </a:r>
            <a:r>
              <a:rPr b="0" lang="es-ES" sz="2800" spc="-1" strike="noStrike" u="sng">
                <a:solidFill>
                  <a:srgbClr val="000000"/>
                </a:solidFill>
                <a:uFillTx/>
                <a:latin typeface="Times New Roman"/>
              </a:rPr>
              <a:t>El origen de la familia, de la propiedad privada y del Estado</a:t>
            </a:r>
            <a:r>
              <a:rPr b="0" lang="es-ES" sz="2800" spc="-1" strike="noStrike">
                <a:solidFill>
                  <a:srgbClr val="000000"/>
                </a:solidFill>
                <a:latin typeface="Times New Roman"/>
              </a:rPr>
              <a:t>. 188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cke: derecho conyugal se basa en la “superioridad natural del padre” (validado por Rousseau: superioridad masculina y mayor racionalidad y dominio de s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ousseau y Hegel: las mujeres carecen de la conciencia de justicia necesaria a los fines de preservación del Est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El contrato sexu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teman: ¿por qué un pacto de sumisión de las mujeres en el “estado de naturaleza” (libres e igual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iolación </a:t>
            </a:r>
            <a:r>
              <a:rPr b="0" lang="es-ES" sz="2800" spc="-1" strike="noStrike">
                <a:solidFill>
                  <a:srgbClr val="000000"/>
                </a:solidFill>
                <a:latin typeface="Symbol"/>
                <a:ea typeface="Symbol"/>
              </a:rPr>
              <a:t></a:t>
            </a:r>
            <a:r>
              <a:rPr b="0" lang="es-ES" sz="2800" spc="-1" strike="noStrike">
                <a:solidFill>
                  <a:srgbClr val="000000"/>
                </a:solidFill>
                <a:latin typeface="Times New Roman"/>
              </a:rPr>
              <a:t> ejercicio del poder absoluto del varón sobre la mujer (Freud: caso del niño lob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évi-Strauss: intercambio de mujeres (jerarquía y parentesco) –quienes carecen de la facultad de intercambiar- </a:t>
            </a:r>
            <a:r>
              <a:rPr b="0" lang="es-ES" sz="2800" spc="-1" strike="noStrike">
                <a:solidFill>
                  <a:srgbClr val="000000"/>
                </a:solidFill>
                <a:latin typeface="Symbol"/>
                <a:ea typeface="Symbol"/>
              </a:rPr>
              <a:t></a:t>
            </a:r>
            <a:r>
              <a:rPr b="0" lang="es-ES" sz="2800" spc="-1" strike="noStrike">
                <a:solidFill>
                  <a:srgbClr val="000000"/>
                </a:solidFill>
                <a:latin typeface="Times New Roman"/>
              </a:rPr>
              <a:t> fraternidad - var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tecedentes</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0720"/>
            <a:ext cx="7772400" cy="3886200"/>
          </a:xfrm>
          <a:prstGeom prst="rect">
            <a:avLst/>
          </a:prstGeom>
          <a:noFill/>
          <a:ln w="0">
            <a:noFill/>
          </a:ln>
        </p:spPr>
        <p:txBody>
          <a:bodyPr lIns="90000" rIns="90000" tIns="46800" bIns="46800" anchor="ctr">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octrinas ilustradas s. XVII: comportamiento se ajusta a parámetros universales (razón univers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ncipios del liberalismo político: libertad e igual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etty Friedan: </a:t>
            </a:r>
            <a:r>
              <a:rPr b="0" lang="es-ES" sz="3200" spc="-1" strike="noStrike" u="sng">
                <a:solidFill>
                  <a:srgbClr val="000000"/>
                </a:solidFill>
                <a:uFillTx/>
                <a:latin typeface="Times New Roman"/>
              </a:rPr>
              <a:t>La mística de la feminidad</a:t>
            </a:r>
            <a:r>
              <a:rPr b="0" lang="es-ES" sz="3200" spc="-1" strike="noStrike">
                <a:solidFill>
                  <a:srgbClr val="000000"/>
                </a:solidFill>
                <a:latin typeface="Times New Roman"/>
              </a:rPr>
              <a:t> (1963): malestar mujeres post-guer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es idea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0720"/>
            <a:ext cx="7772400" cy="4419720"/>
          </a:xfrm>
          <a:prstGeom prst="rect">
            <a:avLst/>
          </a:prstGeom>
          <a:noFill/>
          <a:ln w="0">
            <a:noFill/>
          </a:ln>
        </p:spPr>
        <p:txBody>
          <a:bodyPr lIns="90000" rIns="90000" tIns="46800" bIns="46800" anchor="ctr">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existen diferencias entre mujeres y hombres (o si existen, no son relevantes / sexo como categoría no esencial de la naturaleza human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gualdad de oportunidades entre hombres y mujer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gualdad formal, especialmente en el plano laboral (asegurar acceso femenino al espacio públ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es idea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0720"/>
            <a:ext cx="7772400" cy="4419720"/>
          </a:xfrm>
          <a:prstGeom prst="rect">
            <a:avLst/>
          </a:prstGeom>
          <a:noFill/>
          <a:ln w="0">
            <a:noFill/>
          </a:ln>
        </p:spPr>
        <p:txBody>
          <a:bodyPr lIns="90000" rIns="90000" tIns="46800" bIns="46800" anchor="ctr">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uestiona la imparcialidad del Derecho: el Derecho puede ser justo, racional e imparci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 cuestionamiento no está dirigido contra el Derecho en general, sino contra las “malas” ley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es logro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ormas leg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o de las mujeres al ámbito profesi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eptación generalizada del principio de no discriminación contra las mujeres en la esfera del emple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ción R.A.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3733920"/>
          </a:xfrm>
          <a:prstGeom prst="rect">
            <a:avLst/>
          </a:prstGeom>
          <a:noFill/>
          <a:ln w="0">
            <a:noFill/>
          </a:ln>
        </p:spPr>
        <p:txBody>
          <a:bodyPr lIns="90000" rIns="90000" tIns="46800" bIns="46800" anchor="ctr">
            <a:normAutofit/>
          </a:bodyPr>
          <a:p>
            <a:pPr marL="343080" indent="-343080">
              <a:lnSpc>
                <a:spcPct val="100000"/>
              </a:lnSpc>
              <a:spcBef>
                <a:spcPts val="9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Unicode MS"/>
              </a:rPr>
              <a:t>Feminismo:</a:t>
            </a:r>
            <a:r>
              <a:rPr b="0" i="1" lang="en-US" sz="3600" spc="-1" strike="noStrike">
                <a:solidFill>
                  <a:srgbClr val="000000"/>
                </a:solidFill>
                <a:latin typeface="Arial Unicode MS"/>
              </a:rPr>
              <a:t>	</a:t>
            </a:r>
            <a:r>
              <a:rPr b="0" i="1" lang="en-US" sz="3600" spc="-1" strike="noStrike">
                <a:solidFill>
                  <a:srgbClr val="000000"/>
                </a:solidFill>
                <a:latin typeface="Arial Unicode MS"/>
              </a:rPr>
              <a:t>	</a:t>
            </a:r>
            <a:r>
              <a:rPr b="0" i="1" lang="en-US" sz="3600" spc="-1" strike="noStrike">
                <a:solidFill>
                  <a:srgbClr val="000000"/>
                </a:solidFill>
                <a:latin typeface="Arial Unicode MS"/>
              </a:rPr>
              <a:t>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Unicode MS"/>
              </a:rPr>
              <a:t>	</a:t>
            </a:r>
            <a:r>
              <a:rPr b="0" i="1" lang="en-US" sz="3600" spc="-1" strike="noStrike">
                <a:solidFill>
                  <a:srgbClr val="000000"/>
                </a:solidFill>
                <a:latin typeface="Arial Unicode MS"/>
              </a:rPr>
              <a:t>Movimiento que exige para las mujeres iguales derechos que para los hombr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ítica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e cuestiona el principio básico de la imparcialidad del derecho (basta reconocimiento de derechos iguales a las mujer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ó insuficiente para obtener la igualdad jurídica real para las mujeres, especialmente en temas de sexualidad y reproducción (</a:t>
            </a:r>
            <a:r>
              <a:rPr b="0" i="1" lang="en-US" sz="2800" spc="-1" strike="noStrike">
                <a:solidFill>
                  <a:srgbClr val="000000"/>
                </a:solidFill>
                <a:latin typeface="Times New Roman"/>
              </a:rPr>
              <a:t>ceguera de géner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álisis puramente jurídico (insuficiente para explicar opresión de las mujer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a intereses de “clase media” occidental sin reivindicar la igualdad para todas las muje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ítica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ectos “perjudiciales” de reformas legales para mujeres. Ej.:</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ción divorcio y distribución bienes (US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echo de tuición de hijos/as igual para madres y pad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rítica de Patema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mujeres salen al espacio público sin abandonar el privado, por lo tanto, permanecen en suje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role Pateman: </a:t>
            </a:r>
            <a:r>
              <a:rPr b="0" lang="es-ES" sz="3200" spc="-1" strike="noStrike" u="sng">
                <a:solidFill>
                  <a:srgbClr val="000000"/>
                </a:solidFill>
                <a:uFillTx/>
                <a:latin typeface="Times New Roman"/>
              </a:rPr>
              <a:t>El contrato sexual</a:t>
            </a:r>
            <a:r>
              <a:rPr b="0" lang="es-ES" sz="3200" spc="-1" strike="noStrike">
                <a:solidFill>
                  <a:srgbClr val="000000"/>
                </a:solidFill>
                <a:latin typeface="Times New Roman"/>
              </a:rPr>
              <a:t> (análisis crítico del contractualismo, que busca precisar su sustrato sexis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15:14:33Z</dcterms:created>
  <dc:creator>Humanas</dc:creator>
  <dc:description/>
  <dc:language>en-US</dc:language>
  <cp:lastModifiedBy>Humanas</cp:lastModifiedBy>
  <dcterms:modified xsi:type="dcterms:W3CDTF">2006-08-23T15:21:13Z</dcterms:modified>
  <cp:revision>1</cp:revision>
  <dc:subject/>
  <dc:title>Feminismos Liberales  o de la Igualdad</dc:title>
</cp:coreProperties>
</file>