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80E-2047-4157-9E01-219B5553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37D-E505-492A-9A7A-AA4B765A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6A0-D367-40DF-A28E-8D0B4CDB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1DA-41DB-488F-8146-2A32AFB5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E1D60-22E0-40E8-ACF6-DBC653EE6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BFAEC-37E8-4E84-BD83-0F74B064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5076-F46B-441D-B2E6-471DF4E3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26B2-9ED3-40ED-871A-F25A2B91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0851-61AE-48FE-8792-B10D1831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BD5A-72FB-4DA9-B3A6-2866F8C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06B9-5970-4A8F-8CEC-479A71B1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C73-484E-4890-8326-0A53C511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AE0D-5A51-4A5C-96B3-17A73C78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17EE-A881-4F1D-BD77-57F9CB55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95CB-D051-4C84-A546-574CE990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72B8-7AC8-4D61-9BBB-6E730FB0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0E09-5DA8-4453-ABA6-7DC662F9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CEF-E506-4ACE-BD3E-BBEF04B6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198-0B22-4392-81E8-C3B5BDBA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43E-8240-4137-BC93-AE0DA6F8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1C6-A94F-4173-B008-415E85FD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4D7-862D-4DCC-822F-F05277D22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D02F-8C61-43BE-B14E-1DF03EFD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7E3-BA41-4956-9351-6D6EBF8F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8811-DF81-4B8F-BA7F-2670A3AEE86F}" type="slidenum"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1109-347E-4FD9-8E05-5BE216639BE5}" type="slidenum"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sarrollo histórico de los feminism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urso Género y Derec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792: Se instaura la Repúblic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ierre clubes de mujeres (179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 prohibe presencia de mujeres en actividades políticas (179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activistas: exiliadas / ejecuta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04: Código Civil Napoleónic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Reafirma “ley natural” respecto rol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Feminismo en siglo XI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stituye un movimiento soc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ovimiento internac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dentidad teórica y organizati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Vinculado con otros movimientos sociales: socialismos, anarquism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Feminismo socialista/marxis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ocialismo utópico: primeros en abordar el tema de la muj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Rechazo a la subordinación de las muje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harles Fourier (1772-1837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lora Tristán (1803-184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4038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572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e ha observado que el grado de civilización que las diferentes sociedades han alcanzado siempre ha sido proporcional al grado de independencia del que han gozado en ellas las mujeres”. (Fouri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"Todas las desgracias del mundo provienen del olvido y el desprecio que hasta hoy se ha hecho de los derechos naturales e imprescriptibles del ser mujer"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(Flora Tristán. La Unión Obrera. 1843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ovimiento Sufragista </a:t>
            </a:r>
            <a:br>
              <a:rPr sz="4400"/>
            </a:b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848 a fin I Guerra Mundial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fectos del capitalismo en muje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lases bajas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obreras en tbjo. Industr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Burguesas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excluidas (educación, trabajo, propiedad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sufragismo –como movimiento- se da en países en los que hubo revolución industria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ovimiento Sufragista </a:t>
            </a:r>
            <a:br>
              <a:rPr sz="4400"/>
            </a:b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848 a fin I Guerra Mundial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undamento teórico sufragismo: liberalismo de la Ilustr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gualdad, libertad, razón, derecho de propie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jetivo: El voto como medio para luego reformar ley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Estados Un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urge vinculado a Abolicion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participan en causa anti-esclavit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° Congreso Anti-Esclavista Mundial (Londres, 184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48: Declaración de Seneca Fa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vención masiva en que se pide el voto femen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Estados Un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nmienda Anthony (1878 a 1896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stados reconocen voto femenin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69: Wyoming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3: Colorad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5: Utah 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6: Ida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910: Washing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18: Se aprueba enmienda Antho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Inglater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s un movimiento más radical que en Estados Un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51: Mujeres piden voto en acto públic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61: Conde de Carlisle: petición voto femenino en Cámara de los L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66: John Stuart Mill: petición en Cámara de los Comunes (Harriet Mill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69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La sujeción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imeros anteced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tigüedad: Ilustración sofíst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Op.: Aristóteles / Plat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nacimi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forma protes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recios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ovimiento literario (Francia s. XVII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743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acción al sufragism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Movimiento antisufragista en Inglaterra (1908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ilosofía, ciencias biomédicas y soci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Principalmente desde la Medicina (aberraciones sexuales, perjuicios de la educación en las mujeres, etc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5029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New York Medical Journal</a:t>
            </a:r>
            <a:r>
              <a:rPr b="0" lang="es-ES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  (1893)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Cualquier mujer partidaria de la igualdad entre los sexos o bien está evidenciando su masculo-femineidad o demuestra excluyentemente que es víctima de aberraciones sexuales”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Inglater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03: Frente a fracaso de las vías formales, mujeres pasan a una lucha direc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dy Pankhur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 Guerra Mundial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Rey Jorge V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17: Se aprueba ley de sufragio femenino (mayores de 30 año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Feminismo años 60 / 70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dad legal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  <a:ea typeface="Arial"/>
              </a:rPr>
              <a:t> transformación de la comprensión de la real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tecedent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imone de Beauvoir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El segundo sexo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(194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Betty Friedan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La mística de la feminidad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(196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sarrollo teórico: líne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liberal (de la igualda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radical (de la dominac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de la diferencia (cultural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marxista / socialis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postmodern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cab40"/>
                </a:solidFill>
                <a:latin typeface="Verdana"/>
              </a:rPr>
              <a:t>Platón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pretensión de hacer de las mujeres una posesión común, junto a los hijos, de los ciudadanos griegos dedicados a las más altas tar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cab40"/>
                </a:solidFill>
                <a:latin typeface="Verdana"/>
              </a:rPr>
              <a:t>Aristóteles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ser niña supone una monstruosidad, algo así como un error del valioso esperma generativo, causa formal y eficiente del nacimiento, que se ve imposibilitado, siempre por causa de la </a:t>
            </a:r>
            <a:r>
              <a:rPr b="0" i="1" lang="es-ES" sz="2800" spc="-1" strike="noStrike">
                <a:solidFill>
                  <a:srgbClr val="eaeaea"/>
                </a:solidFill>
                <a:latin typeface="Verdana"/>
              </a:rPr>
              <a:t>fría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materia femenina, a calentar suficientemente el feto en crecimien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La Ilustración </a:t>
            </a: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660 a 1789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zón Ilustrad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iversalidad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igual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rancois Poullain de la Barre (filósofo cartesian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cartes: Razón debe esclarecerlo todo y luchar contra todo prejui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673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Sobre la Igualdad Sexu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trata de demostrar </a:t>
            </a:r>
            <a:r>
              <a:rPr b="0" i="1" lang="es-MX" sz="3200" spc="-1" strike="noStrike">
                <a:solidFill>
                  <a:srgbClr val="eaeaea"/>
                </a:solidFill>
                <a:latin typeface="Arial"/>
              </a:rPr>
              <a:t>more deductiv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la igualdad entre los sexos como idea verdadera, sino de potenciarla como sentimiento moral con virtualidades en orden a la transformación de las costumbres”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 sospecharse de todo lo escrito por los hombres acerca de las mujeres, pues ellos son juez y parte a la vez”. (F. Poullain de la Barre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Mayo 1789: Convocatoria a Estados Gener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(excluidas): Cahiers de dolé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ost Toma de la Bastill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Actividad de mujeres: clubes de mujeres, derecho a integrar el ejército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dorcet: educación para mujeres (179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Ilustrad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791: Olympia de Gouges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Declaración de derechos de la mujer y la ciudad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792: Mary Wollstonecraft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Vindicación de los derechos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Crítica a “Emilio” de Roussea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35812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5720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DH: Los hombres nacen y permanecen libres e iguales en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DDM: La mujer nace libre y permanece igual al hombre en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DH: Ningún hombre puede ser detenido más que en los casos determinados por la ley y según sus for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DDM: Ninguna mujer se halla exceptuada de ser acusada, detenida y puesta en prisión en los casos determinados por la le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La educación de la mujer habrá de ser organizada con relación al hombre. Para ser agradable a su vista, para conquistar su respeto y su amor, para educarlo durante la infancia, cuidarlo durante su madurez, aconsejarle y consolarle, hacer su vida agradable y feliz; tales son los deberes de la mujer en todo momento, y esto es lo que hay que enseñarle cuando es joven”.  (Rousseau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54864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5:57:54Z</dcterms:created>
  <dc:creator>Patsili Toledo</dc:creator>
  <dc:description/>
  <dc:language>en-US</dc:language>
  <cp:lastModifiedBy>Humanas</cp:lastModifiedBy>
  <dcterms:modified xsi:type="dcterms:W3CDTF">2005-12-15T10:46:47Z</dcterms:modified>
  <cp:revision>21</cp:revision>
  <dc:subject/>
  <dc:title>Evolución histórica del Feminismo</dc:title>
</cp:coreProperties>
</file>