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072E-D927-4883-8E14-FD4D75736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AD81-787C-4A10-9A9E-5299E988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464C-BFA9-43CD-978F-95BB98CC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3EF-AD93-40BC-98EA-C2EA9FDFF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D4D6-375B-4DD9-9B87-4E20355C0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91A11-FDE1-4756-B7BB-E3B92B02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AD51-12B0-4A4A-8418-5DE408AD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D75D-A263-493F-90C9-66C169913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45AB9-0DFB-45D3-985D-8596DBB9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73DC-D5A8-47D3-A83B-21CFB020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A598-B5E4-4826-A8A6-75533698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46E-A529-41FC-8459-56EE2CDF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9079-1CCD-406A-B01F-F05B3B71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9FBA-4AF8-44C3-86E9-006EF5E6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4BDFD-C9D9-4EF9-804C-4FFC0A3A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86A8-3650-43BD-82CD-047FC5085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7EE56-93F9-4BA9-8B96-57646F66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25E3-67B0-49BA-945E-1E1677ACB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01E-1C43-4AB3-B520-AE269F8B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1D01-44FB-44EB-AA4E-2C7F21F4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BF9-398A-4A8E-8C48-78616BEA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4191-B001-48DA-A3F0-F4A50F91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71CA-87BC-4E68-97CE-B33D6F55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952-CB8F-42E9-A6F6-F1CB3DA7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44D9-F7EA-4722-8BF2-19E856D98FF0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5424-B430-42BC-B08C-C8C645320D3B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histórico de los feminism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urso Género y Derec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792: Se instaura la Repúblic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ierre clubes de mujeres (179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 prohibe presencia de mujeres en actividades políticas (179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activistas: exiliadas / ejecut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04: Código Civil Napoleónic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afirma “ley natural” respecto rol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en siglo XI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stituye un movimiento so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internac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dentidad teórica y organizati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Vinculado con otros movimientos sociales: socialismos, anarquism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socialista/marxis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ocialismo utópico: primeros en abordar el tema de la muj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chazo a la subordinación de las muje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harles Fourier (1772-1837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lora Tristán (1803-184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038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72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e ha observado que el grado de civilización que las diferentes sociedades han alcanzado siempre ha sido proporcional al grado de independencia del que han gozado en ellas las mujeres”. (Fouri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"Todas las desgracias del mundo provienen del olvido y el desprecio que hasta hoy se ha hecho de los derechos naturales e imprescriptibles del ser mujer"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(Flora Tristán. La Unión Obrera. 1843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fectos del capitalismo en muje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lases baj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obreras en tbjo. Industr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urgues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excluidas (educación, trabajo, propiedad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sufragismo –como movimiento- se da en países en los que hubo revolución industria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undamento teórico sufragismo: liberalismo de la Ilustr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gualdad, libertad, razón, derecho de propie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jetivo: El voto como medio para luego reformar ley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urge vinculado a Abolicion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participan en causa anti-esclavit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° Congreso Anti-Esclavista Mundial (Londres, 184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48: Declaración de Seneca Fa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vención masiva en que se pide el voto femen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nmienda Anthony (1878 a 1896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tados reconocen voto femenin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Wyoming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3: Colorad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5: Utah 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6: Ida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910: Washing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8: Se aprueba enmienda Anth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 un movimiento más radical que en Estados Un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51: Mujeres piden voto en acto públic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1: Conde de Carlisle: petición voto femenino en Cámara de los L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6: John Stuart Mill: petición en Cámara de los Comunes (Harriet Mil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sujeción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imeros anteced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igüedad: Ilustración sofíst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Op.: Aristóteles / Plat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nac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forma protes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recios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literario (Francia s. XVI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743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acción al sufragism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ovimiento antisufragista en Inglaterra (1908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ilosofía, ciencias biomédicas y soci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Principalmente desde la Medicina (aberraciones sexuales, perjuicios de la educación en las mujeres, etc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New York Medical Journal</a:t>
            </a:r>
            <a:r>
              <a:rPr b="0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  (1893)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ualquier mujer partidaria de la igualdad entre los sexos o bien está evidenciando su masculo-femineidad o demuestra excluyentemente que es víctima de aberraciones sexuales”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03: Frente a fracaso de las vías formales, mujeres pasan a una lucha direc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dy Pankhur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 Guerra Mundial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Rey Jorge 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7: Se aprueba ley de sufragio femenino (mayores de 30 añ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Feminismo años 60 / 70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dad legal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transformación de la comprensión de la re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ecedent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imone de Beauvoir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El segundo sexo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4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etty Friedan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mística de la feminidad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6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teórico: líne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liberal (de la igualda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radical (de la dominac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de la diferencia (cultura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marxista / socialis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postmodern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Platón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pretensión de hacer de las mujeres una posesión común, junto a los hijos, de los ciudadanos griegos dedicados a las más altas tar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Aristóteles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ser niña supone una monstruosidad, algo así como un error del valioso esperma generativo, causa formal y eficiente del nacimiento, que se ve imposibilitado, siempre por causa de la </a:t>
            </a:r>
            <a:r>
              <a:rPr b="0" i="1" lang="es-ES" sz="2800" spc="-1" strike="noStrike">
                <a:solidFill>
                  <a:srgbClr val="eaeaea"/>
                </a:solidFill>
                <a:latin typeface="Verdana"/>
              </a:rPr>
              <a:t>fría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materia femenina, a calentar suficientemente el feto en crecimien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La Ilustración </a:t>
            </a: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660 a 1789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zón Ilustrad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iversalidad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igual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rancois Poullain de la Barre (filósofo cartesian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cartes: Razón debe esclarecerlo todo y luchar contra todo prejui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673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Sobre la Igualdad Sexu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trata de demostrar </a:t>
            </a:r>
            <a:r>
              <a:rPr b="0" i="1" lang="es-MX" sz="3200" spc="-1" strike="noStrike">
                <a:solidFill>
                  <a:srgbClr val="eaeaea"/>
                </a:solidFill>
                <a:latin typeface="Arial"/>
              </a:rPr>
              <a:t>more deductiv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la igualdad entre los sexos como idea verdadera, sino de potenciarla como sentimiento moral con virtualidades en orden a la transformación de las costumbres”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 sospecharse de todo lo escrito por los hombres acerca de las mujeres, pues ellos son juez y parte a la vez”. (F. Poullain de la Barre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ayo 1789: Convocatoria a Estados Gener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(excluidas): Cahiers de dolé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st Toma de la Bastil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Actividad de mujeres: clubes de mujeres, derecho a integrar el ejército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dorcet: educación para mujeres (179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Ilustrad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1: Olympia de Gouges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Declaración de derechos de la mujer y la ciudad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2: Mary Wollstonecraft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Vindicación de los derechos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Crítica a “Emilio” de Roussea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5812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5720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Los hombres nacen y permanecen libres e iguales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La mujer nace libre y permanece igual al hombre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Ningún hombre puede ser detenido más que en los casos determinados por la ley y según sus for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Ninguna mujer se halla exceptuada de ser acusada, detenida y puesta en prisión en los casos determinados por la le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La educación de la mujer habrá de ser organizada con relación al hombre. Para ser agradable a su vista, para conquistar su respeto y su amor, para educarlo durante la infancia, cuidarlo durante su madurez, aconsejarle y consolarle, hacer su vida agradable y feliz; tales son los deberes de la mujer en todo momento, y esto es lo que hay que enseñarle cuando es joven”.  (Roussea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5:57:54Z</dcterms:created>
  <dc:creator>Patsili Toledo</dc:creator>
  <dc:description/>
  <dc:language>en-US</dc:language>
  <cp:lastModifiedBy>Humanas</cp:lastModifiedBy>
  <dcterms:modified xsi:type="dcterms:W3CDTF">2005-12-15T10:46:47Z</dcterms:modified>
  <cp:revision>21</cp:revision>
  <dc:subject/>
  <dc:title>Evolución histórica del Feminismo</dc:title>
</cp:coreProperties>
</file>