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D1B8-A213-4402-9360-AAAEAF6E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4003-D5BB-42F8-8343-9F08F0A2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D046-B932-492D-8AEC-F6494B4E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D54-0830-4C69-B67D-9C8BD771F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2687-8FB5-4E2D-8FFF-FE0131AAA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5E43A-9B50-48A1-A8F1-94DF67B8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F770-6D3C-45CB-B27C-B23931B2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11EB-8484-421C-B701-E0B9F241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D029-1C7A-4B70-BB35-682E23EE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374A0-92F1-4F3A-93E4-99990AFB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69A8-151A-4897-B1F7-04836BA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66C-F820-421E-84C1-71CA13CF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CAAD-DF4B-4F52-8C9F-35A8C2BA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5245-E812-4449-A17C-0086BD99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4F6D-778D-4978-B694-796AE6114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7D54-A9A1-42DD-9182-1A1E5B57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5926-9073-48B1-B164-A61EF1EDF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1074-290C-466B-8EEA-209ADB6B0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C56B-8010-42AC-AF9F-7141FA21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EFB1-26FC-4C4A-AC9E-37775840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D5B-E316-4314-8FA0-4FE4D3D6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F76E-4F2D-4E36-BFEF-F8CAAC5A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2A5B-A341-4029-B26E-001A1579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E71-6DD5-4DE9-805A-A6CCBA43F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51B8-AE4A-448E-BC96-3A98285EE9AE}" type="slidenum"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5FCD-FA5F-4CA2-8696-9BBC143684D0}" type="slidenum">
              <a:rPr b="0" lang="es-ES" sz="1400" spc="-1" strike="noStrike">
                <a:solidFill>
                  <a:srgbClr val="ebd18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esarrollo histórico de los feminism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urso Género y Derech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5477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792: Se instaura la Repúblic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ierre clubes de mujeres (179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Se prohibe presencia de mujeres en actividades políticas (179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activistas: exiliadas / ejecutad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04: Código Civil Napoleónic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Reafirma “ley natural” respecto rol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Feminismo en siglo XIX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stituye un movimiento soc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ovimiento internacion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dentidad teórica y organizativ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Vinculado con otros movimientos sociales: socialismos, anarquism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Feminismo socialista/marxist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ocialismo utópico: primeros en abordar el tema de la muj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Rechazo a la subordinación de las muje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harles Fourier (1772-1837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lora Tristán (1803-1844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705720" y="40384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72200" y="4572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e ha observado que el grado de civilización que las diferentes sociedades han alcanzado siempre ha sido proporcional al grado de independencia del que han gozado en ellas las mujeres”. (Fourie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"Todas las desgracias del mundo provienen del olvido y el desprecio que hasta hoy se ha hecho de los derechos naturales e imprescriptibles del ser mujer" 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(Flora Tristán. La Unión Obrera. 1843)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ovimiento Sufragista </a:t>
            </a:r>
            <a:br>
              <a:rPr sz="4400"/>
            </a:b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848 a fin I Guerra Mundial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fectos del capitalismo en muje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lases bajas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obreras en tbjo. Industri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Burguesas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excluidas (educación, trabajo, propiedad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l sufragismo –como movimiento- se da en países en los que hubo revolución industrial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Movimiento Sufragista </a:t>
            </a:r>
            <a:br>
              <a:rPr sz="4400"/>
            </a:b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848 a fin I Guerra Mundial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undamento teórico sufragismo: liberalismo de la Ilustr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gualdad, libertad, razón, derecho de propie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Objetivo: El voto como medio para luego reformar ley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Estados Un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Surge vinculado a Abolicionis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participan en causa anti-esclavitu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° Congreso Anti-Esclavista Mundial (Londres, 184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48: Declaración de Seneca Fal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vención masiva en que se pide el voto femenin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Estados Unido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nmienda Anthony (1878 a 1896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stados reconocen voto femenin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69: Wyoming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3: Colorado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5: Utah 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96: Idah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910: Washingt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18: Se aprueba enmienda Anthon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Inglater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Es un movimiento más radical que en Estados Un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51: Mujeres piden voto en acto públic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61: Conde de Carlisle: petición voto femenino en Cámara de los Lo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866: John Stuart Mill: petición en Cámara de los Comunes (Harriet Mill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869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La sujeción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Primeros antecedente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ntigüedad: Ilustración sofístic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Op.: Aristóteles / Plató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nacimient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eforma protestan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reciosis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ovimiento literario (Francia s. XVII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7432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acción al sufragismo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Movimiento antisufragista en Inglaterra (1908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Filosofía, ciencias biomédicas y soci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Principalmente desde la Medicina (aberraciones sexuales, perjuicios de la educación en las mujeres, etc.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62920" y="5029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New York Medical Journal</a:t>
            </a:r>
            <a:r>
              <a:rPr b="0" lang="es-ES" sz="3600" spc="-1" strike="noStrike">
                <a:solidFill>
                  <a:srgbClr val="ebd189"/>
                </a:solidFill>
                <a:latin typeface="Arial"/>
                <a:ea typeface="Times New Roman"/>
              </a:rPr>
              <a:t>  (1893)</a:t>
            </a:r>
            <a:endParaRPr b="0" lang="en-US" sz="36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Cualquier mujer partidaria de la igualdad entre los sexos o bien está evidenciando su masculo-femineidad o demuestra excluyentemente que es víctima de aberraciones sexuales”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Sufragismo en Inglaterr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03: Frente a fracaso de las vías formales, mujeres pasan a una lucha direct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Lady Pankhurs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I Guerra Mundial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Rey Jorge V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1917: Se aprueba ley de sufragio femenino (mayores de 30 año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bd189"/>
                </a:solidFill>
                <a:latin typeface="Arial"/>
              </a:rPr>
              <a:t>Feminismo años 60 / 70’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Igualdad legal 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s-MX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  <a:ea typeface="Arial"/>
              </a:rPr>
              <a:t> transformación de la comprensión de la realida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Antecedent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imone de Beauvoir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El segundo sexo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(1949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Betty Friedan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La mística de la feminidad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(1963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Desarrollo teórico: línea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liberal (de la igualdad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radical (de la dominac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de la diferencia (cultural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marxista / socialist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postmodern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cab40"/>
                </a:solidFill>
                <a:latin typeface="Verdana"/>
              </a:rPr>
              <a:t>Platón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pretensión de hacer de las mujeres una posesión común, junto a los hijos, de los ciudadanos griegos dedicados a las más altas tarea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cab40"/>
                </a:solidFill>
                <a:latin typeface="Verdana"/>
              </a:rPr>
              <a:t>Aristóteles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ser niña supone una monstruosidad, algo así como un error del valioso esperma generativo, causa formal y eficiente del nacimiento, que se ve imposibilitado, siempre por causa de la </a:t>
            </a:r>
            <a:r>
              <a:rPr b="0" i="1" lang="es-ES" sz="2800" spc="-1" strike="noStrike">
                <a:solidFill>
                  <a:srgbClr val="eaeaea"/>
                </a:solidFill>
                <a:latin typeface="Verdana"/>
              </a:rPr>
              <a:t>fría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materia femenina, a calentar suficientemente el feto en crecimien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La Ilustración </a:t>
            </a:r>
            <a:r>
              <a:rPr b="0" lang="es-MX" sz="2800" spc="-1" strike="noStrike">
                <a:solidFill>
                  <a:srgbClr val="ebd189"/>
                </a:solidFill>
                <a:latin typeface="Arial"/>
              </a:rPr>
              <a:t>(1660 a 1789)</a:t>
            </a: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Razón Ilustrada: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universalidad </a:t>
            </a:r>
            <a:r>
              <a:rPr b="0" lang="es-MX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 igualda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rancois Poullain de la Barre (filósofo cartesian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escartes: Razón debe esclarecerlo todo y luchar contra todo prejuici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673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Sobre la Igualdad Sexua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5105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680" y="10666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No se trata de demostrar </a:t>
            </a:r>
            <a:r>
              <a:rPr b="0" i="1" lang="es-MX" sz="3200" spc="-1" strike="noStrike">
                <a:solidFill>
                  <a:srgbClr val="eaeaea"/>
                </a:solidFill>
                <a:latin typeface="Arial"/>
              </a:rPr>
              <a:t>more deductivo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 la igualdad entre los sexos como idea verdadera, sino de potenciarla como sentimiento moral con virtualidades en orden a la transformación de las costumbres”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Debe sospecharse de todo lo escrito por los hombres acerca de las mujeres, pues ellos son juez y parte a la vez”. (F. Poullain de la Barre)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Mayo 1789: Convocatoria a Estados Gener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Mujeres (excluidas): Cahiers de doléa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Post Toma de la Bastill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Actividad de mujeres: clubes de mujeres, derecho a integrar el ejército, et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Condorcet: educación para mujeres (1790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bd189"/>
                </a:solidFill>
                <a:latin typeface="Arial"/>
              </a:rPr>
              <a:t>Revolución Francesa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eaeaea"/>
                </a:solidFill>
                <a:latin typeface="Arial"/>
              </a:rPr>
              <a:t>Feminismo Ilustrad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791: Olympia de Gouges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Declaración de derechos de la mujer y la ciudad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1792: Mary Wollstonecraft: </a:t>
            </a:r>
            <a:r>
              <a:rPr b="0" lang="es-MX" sz="2800" spc="-1" strike="noStrike" u="sng">
                <a:solidFill>
                  <a:srgbClr val="eaeaea"/>
                </a:solidFill>
                <a:uFillTx/>
                <a:latin typeface="Arial"/>
              </a:rPr>
              <a:t>Vindicación de los derechos de la muj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eaeaea"/>
                </a:solidFill>
                <a:latin typeface="Arial"/>
              </a:rPr>
              <a:t>Crítica a “Emilio” de Rousseau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35812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3804"/>
                </a:moveTo>
                <a:lnTo>
                  <a:pt x="17806" y="10810"/>
                </a:lnTo>
                <a:lnTo>
                  <a:pt x="3794" y="17817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10280" y="457200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6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DH: Los hombres nacen y permanecen libres e iguales en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DDM: La mujer nace libre y permanece igual al hombre en derecho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eaeaea"/>
                </a:solidFill>
                <a:latin typeface="Arial"/>
              </a:rPr>
              <a:t>DDH: Ningún hombre puede ser detenido más que en los casos determinados por la ley y según sus form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cab40"/>
                </a:solidFill>
                <a:latin typeface="Arial"/>
              </a:rPr>
              <a:t>DDM: Ninguna mujer se halla exceptuada de ser acusada, detenida y puesta en prisión en los casos determinados por la le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5257800" y="617220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  <a:ea typeface="Times New Roman"/>
              </a:rPr>
              <a:t>La educación de la mujer habrá de ser organizada con relación al hombre. Para ser agradable a su vista, para conquistar su respeto y su amor, para educarlo durante la infancia, cuidarlo durante su madurez, aconsejarle y consolarle, hacer su vida agradable y feliz; tales son los deberes de la mujer en todo momento, y esto es lo que hay que enseñarle cuando es joven”.  (Rousseau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5486400"/>
            <a:ext cx="609840" cy="60948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13" h="21600">
                <a:moveTo>
                  <a:pt x="0" y="0"/>
                </a:moveTo>
                <a:lnTo>
                  <a:pt x="21613" y="0"/>
                </a:lnTo>
                <a:lnTo>
                  <a:pt x="21613" y="21600"/>
                </a:lnTo>
                <a:lnTo>
                  <a:pt x="0" y="21600"/>
                </a:lnTo>
                <a:close/>
              </a:path>
              <a:path fill="lightenLess" w="21613" h="21600">
                <a:moveTo>
                  <a:pt x="0" y="0"/>
                </a:moveTo>
                <a:lnTo>
                  <a:pt x="21613" y="0"/>
                </a:lnTo>
                <a:lnTo>
                  <a:pt x="20213" y="1400"/>
                </a:lnTo>
                <a:lnTo>
                  <a:pt x="1400" y="1400"/>
                </a:lnTo>
                <a:close/>
              </a:path>
              <a:path fill="darken" w="21613" h="21600">
                <a:moveTo>
                  <a:pt x="21613" y="0"/>
                </a:moveTo>
                <a:lnTo>
                  <a:pt x="21613" y="21600"/>
                </a:lnTo>
                <a:lnTo>
                  <a:pt x="20213" y="20200"/>
                </a:lnTo>
                <a:lnTo>
                  <a:pt x="20213" y="1400"/>
                </a:lnTo>
                <a:close/>
              </a:path>
              <a:path fill="darkenLess" w="21613" h="21600">
                <a:moveTo>
                  <a:pt x="216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3" y="20200"/>
                </a:lnTo>
                <a:close/>
              </a:path>
              <a:path fill="lighten" w="216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3" h="21600">
                <a:moveTo>
                  <a:pt x="3800" y="10800"/>
                </a:moveTo>
                <a:lnTo>
                  <a:pt x="17813" y="3794"/>
                </a:lnTo>
                <a:lnTo>
                  <a:pt x="17813" y="17806"/>
                </a:lnTo>
                <a:close/>
              </a:path>
            </a:pathLst>
          </a:cu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1T15:57:54Z</dcterms:created>
  <dc:creator>Patsili Toledo</dc:creator>
  <dc:description/>
  <dc:language>en-US</dc:language>
  <cp:lastModifiedBy>Humanas</cp:lastModifiedBy>
  <dcterms:modified xsi:type="dcterms:W3CDTF">2005-12-15T10:46:47Z</dcterms:modified>
  <cp:revision>21</cp:revision>
  <dc:subject/>
  <dc:title>Evolución histórica del Feminismo</dc:title>
</cp:coreProperties>
</file>