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2AAA0-1020-4DCF-B42A-B39276C21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9F11-6F7F-4CE6-B638-97D369449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0EBE8-AA8B-4071-9620-A4A59FC4C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E4AEE-EF4B-4253-85A0-9B0A86C95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CD9AA-F37D-4B79-83E7-959BC03A1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2EDFD-AB11-43F1-B6A0-F94ED78E0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9C795-0B4B-4682-B98C-E9C0B1761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B9371-02EC-437A-AFD0-366FB8821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36FAE-DC09-4757-8351-8F79011FF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BCF25-A591-4182-823E-F3D81D420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C2FD1-2DBC-4E6A-831A-74AF1B864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91A25-0DD1-4395-AC99-54A9284A0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10EDA-07D4-4BAA-BA3D-8AEB5E7E7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67EF1-7EB7-40DE-AE4C-F04348B94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F4FBC-4075-4623-BDCD-A846E7D99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753F1-5B9B-4687-87D2-27F5824B7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2DA63-5801-4317-9FED-30ECBB714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D78FD-5574-4D40-9A89-0E4DD804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0F9D2-3EC6-4EB5-B2A5-5811F022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59AE-9CA2-45C1-A0E9-0FA40AEE0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2E7F-7BB5-44B1-81D5-B5F908BE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6C4C-A9E8-499A-B619-254662E3C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FB04-FB03-4E1A-ADC9-B0824D46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462A2-1759-41D1-AC89-9702BC67A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67A4-D1FE-4FD9-A435-E18A3280BBC2}"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B7F7-9883-4D5D-AED2-FED7CBB4E72C}"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Los medios jurisdiccionales de solución de controversias internacionales</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arbitra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Tahoma"/>
              </a:rPr>
              <a:t>Efectos del laudo</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laudo arbitral es obligatorio para las partes, sin perjuicio de los recursos que puedan ser procedentes. Res iudicata</a:t>
            </a:r>
            <a:r>
              <a:rPr b="0" i="1" lang="es-CL"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No hay doctrina de </a:t>
            </a:r>
            <a:r>
              <a:rPr b="0" i="1" lang="es-CL" sz="2800" spc="-1" strike="noStrike">
                <a:solidFill>
                  <a:srgbClr val="ffffff"/>
                </a:solidFill>
                <a:latin typeface="Tahoma"/>
              </a:rPr>
              <a:t>stare decisi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derecho internacional público no hay, en general, una autoridad dotada de imperio para hacer cumplir los fallos (ver art. 94 Carta ONU).</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n cuanto al arbitraje privado existen mecanismos para hacer valer esos fallos en el derecho nac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cc"/>
                </a:solidFill>
                <a:uFillTx/>
                <a:latin typeface="Tahoma"/>
              </a:rPr>
              <a:t>El arbitraje en el Tratado de Paz Amistad entre Argentina y Chile de 1984.</a:t>
            </a:r>
            <a:endParaRPr b="0" lang="en-US" sz="28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rtículo 6</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ambas partes o no una de ellas no hubieran aceptado los términos de arreglo propuestos por la Comisión de Conciliación dentro del plazo fijado por su Presidente, o si el procedimiento de conciliación fracasare por cualquier causa, ambas Partes o cualquiera de ellas podrá someter la controversia al procedimiento arbitral establecido en el Capítulo II del Anexo No. 1.</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mismo procedimiento se aplicará cuando las Partes, en conformidad con el Artículo 4, elijan el arbitraje como medio de solución de la controversia, a menos que ellas convengan en otras reglas.</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Composición del tribunal arbitral</a:t>
            </a:r>
            <a:endParaRPr b="0" lang="en-US" sz="3200" spc="-1" strike="noStrike">
              <a:solidFill>
                <a:srgbClr val="ffffcc"/>
              </a:solidFill>
              <a:latin typeface="Tahoma"/>
            </a:endParaRPr>
          </a:p>
        </p:txBody>
      </p:sp>
      <p:sp>
        <p:nvSpPr>
          <p:cNvPr id="11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Tahoma"/>
              </a:rPr>
              <a:t>Artículo 24</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Salvo acuerdo en contrario de las Partes, el Tribunal se compondrá de cinco miembros designados a título personal. Cada una de las Partes nombrará un miembro, que podrá ser nacional suyo. Los otros tres miembros, uno de los cuales será Presidente del Tribunal, serán elegidos de común acuerdo entre nacionales de terceros Estados. Estos tres árbitros deberán ser de nacionalidad diferente, no tener residencia habitual en el territorio de las Partes ni encontrarse a su serv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ahoma"/>
              </a:rPr>
              <a:t>Composición del tribunal arbitral</a:t>
            </a:r>
            <a:endParaRPr b="0" lang="en-US" sz="2800" spc="-1" strike="noStrike">
              <a:solidFill>
                <a:srgbClr val="ffffcc"/>
              </a:solidFill>
              <a:latin typeface="Tahoma"/>
            </a:endParaRPr>
          </a:p>
        </p:txBody>
      </p:sp>
      <p:sp>
        <p:nvSpPr>
          <p:cNvPr id="113"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25</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Si todos los miembros del Tribunal no hubieren sido nombrados dentro del plazo de 3 meses a contar de la recepción de la comunicación prevista en el Art. 23, el nombramiento de los miembros que falten será hecho por el Gobierno de la Confederación Suiza a solicitud de cualquiera de las Partes.  . .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Procedimiento</a:t>
            </a:r>
            <a:endParaRPr b="0" lang="en-US" sz="3200" spc="-1" strike="noStrike">
              <a:solidFill>
                <a:srgbClr val="ffffcc"/>
              </a:solidFill>
              <a:latin typeface="Tahoma"/>
            </a:endParaRPr>
          </a:p>
        </p:txBody>
      </p:sp>
      <p:sp>
        <p:nvSpPr>
          <p:cNvPr id="115"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28</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El Tribunal adoptará sus propias reglas de procedimiento, sin perjuicio de aquellas que las Partes pudieran haber convenido en el compromi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Principio de la “competence de la competence”</a:t>
            </a:r>
            <a:endParaRPr b="0" lang="en-US" sz="32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2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El Tribunal tendrá facultades para interpretar el compromiso y pronunciarse sobre su propia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ffcc"/>
                </a:solidFill>
                <a:uFillTx/>
                <a:latin typeface="Tahoma"/>
              </a:rPr>
              <a:t>Derecho aplicable</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33</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El Tribunal decidirá conforme al Derecho Internacional, a menos que las Partes hubieren dispuesto otra cosa en el compromi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a:t>
            </a:r>
            <a:endParaRPr b="0" lang="en-US" sz="3200" spc="-1" strike="noStrike">
              <a:solidFill>
                <a:srgbClr val="ffffcc"/>
              </a:solidFill>
              <a:latin typeface="Tahoma"/>
            </a:endParaRPr>
          </a:p>
        </p:txBody>
      </p:sp>
      <p:sp>
        <p:nvSpPr>
          <p:cNvPr id="121"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rtículo 34</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as decisiones del Tribunal se adoptarán por mayoría de sus miembros. La ausencia o abstención de uno o dos de sus miembros no será impedimento para que el Tribunal sesione o llegue a una decisión. En caso de empate decidirá el voto de su Presid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 (efectos)</a:t>
            </a:r>
            <a:endParaRPr b="0" lang="en-US" sz="3200" spc="-1" strike="noStrike">
              <a:solidFill>
                <a:srgbClr val="ffffcc"/>
              </a:solidFill>
              <a:latin typeface="Tahoma"/>
            </a:endParaRPr>
          </a:p>
        </p:txBody>
      </p:sp>
      <p:sp>
        <p:nvSpPr>
          <p:cNvPr id="123"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rtículo 3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La Sentencia será obligatoria para las Partes, definitiva e inapelable. Su cumplimiento está entregado al honor de las Naciones signatarias del Tratado de Paz y Amist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 (recursos)</a:t>
            </a:r>
            <a:endParaRPr b="0" lang="en-US" sz="3200" spc="-1" strike="noStrike">
              <a:solidFill>
                <a:srgbClr val="ffffcc"/>
              </a:solidFill>
              <a:latin typeface="Tahoma"/>
            </a:endParaRPr>
          </a:p>
        </p:txBody>
      </p:sp>
      <p:sp>
        <p:nvSpPr>
          <p:cNvPr id="12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Tahoma"/>
              </a:rPr>
              <a:t>Artículo 3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   </a:t>
            </a:r>
            <a:r>
              <a:rPr b="0" lang="es-CL" sz="3200" spc="-1" strike="noStrike">
                <a:solidFill>
                  <a:srgbClr val="ffffff"/>
                </a:solidFill>
                <a:latin typeface="Tahoma"/>
              </a:rPr>
              <a:t>A menos que las Partes convinieran otra cosa, los desacuerdos que surjan entre las Partes acerca de la interpretación o el modo de ejecución de la sentencia arbitral podrán ser sometidos por cualquiera de las Partes a la decisión del Tribunal que la haya dictad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l Arbitraje es un medio de solución de las controversias internacionales en que la decisión se entrega a un tercero imparcial cuya decisión es jurídicamente vinculante para las par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ahoma"/>
              </a:rPr>
              <a:t>Laudo arbitral (recursos)</a:t>
            </a:r>
            <a:endParaRPr b="0" lang="en-US" sz="3200" spc="-1" strike="noStrike">
              <a:solidFill>
                <a:srgbClr val="ffffcc"/>
              </a:solidFill>
              <a:latin typeface="Tahoma"/>
            </a:endParaRPr>
          </a:p>
        </p:txBody>
      </p:sp>
      <p:sp>
        <p:nvSpPr>
          <p:cNvPr id="127"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Tahoma"/>
              </a:rPr>
              <a:t>Artículo 40</a:t>
            </a:r>
            <a:endParaRPr b="0" lang="en-US" sz="2800" spc="-1" strike="noStrike">
              <a:solidFill>
                <a:srgbClr val="ffffff"/>
              </a:solidFill>
              <a:latin typeface="Tahom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Cualquiera de las partes podrá pedir la revisión de la sentencia ante el Tribunal que la dictó siempre que se deduzca antes de vencido el plazo señalado para su ejecución, y en los siguientes casos:</a:t>
            </a:r>
            <a:endParaRPr b="0" lang="en-US" sz="2800" spc="-1" strike="noStrike">
              <a:solidFill>
                <a:srgbClr val="ffffff"/>
              </a:solidFill>
              <a:latin typeface="Tahoma"/>
            </a:endParaRPr>
          </a:p>
          <a:p>
            <a:pPr marL="609480" indent="-609480" algn="just">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 se ha dictado sentencia en virtud de un documento falso o adulterado.</a:t>
            </a:r>
            <a:endParaRPr b="0" lang="en-US" sz="2800" spc="-1" strike="noStrike">
              <a:solidFill>
                <a:srgbClr val="ffffff"/>
              </a:solidFill>
              <a:latin typeface="Tahoma"/>
            </a:endParaRPr>
          </a:p>
          <a:p>
            <a:pPr marL="609480" indent="-609480" algn="just">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 la sentencia ha sido en todo o en parte consecuencia de un error de hecho, que resulte de las actuaciones o documentos de la causa.</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ffffcc"/>
                </a:solidFill>
                <a:uFillTx/>
                <a:latin typeface="Tahoma"/>
              </a:rPr>
              <a:t>Recursos en contra de un laudo arbitral</a:t>
            </a:r>
            <a:endParaRPr b="0" lang="en-US" sz="36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partes pueden haber acordado establecer recursos: reconsideración, apelación, revisión, interpretación, acción de nulida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Respecto de la interpretación algunos tribunales han fallado que ellos tienen competencia implícita para interpretar sus propios fallo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isten argumentos de peso para sostener que los laudos arbitrales son esencialmente anulables. Problema: la falta de un tribunal que declare esa nulida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El Arbitraje entre Chile y Argentina de 1902</a:t>
            </a:r>
            <a:endParaRPr b="0" lang="en-US" sz="32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ratado de 1881</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1" lang="es-ES" sz="2000" spc="-1" strike="noStrike" u="sng">
                <a:solidFill>
                  <a:srgbClr val="ffffff"/>
                </a:solidFill>
                <a:uFillTx/>
                <a:latin typeface="Tahoma"/>
              </a:rPr>
              <a:t>Artículo I</a:t>
            </a:r>
            <a:r>
              <a:rPr b="1" lang="es-ES" sz="2000" spc="-1" strike="noStrike">
                <a:solidFill>
                  <a:srgbClr val="ffffff"/>
                </a:solidFill>
                <a:latin typeface="Tahoma"/>
              </a:rPr>
              <a:t>.  El límite entre Chile y la República Argentina es, de Norte a Sur, hasta el paralelo cincuenta y dos de longitud, la Cordillera de los Andes. La línea froteriza correrá por esa extensión por las cumbres más elevadas de dichas Cordilleras que dividan las aguas y pasará entre las vertientes que se desprenden de un lado y otro. Las dificultades que pudieran suscitarse por la existencia de ciertos valles formados por la bifurcación de la Cordillera y en que no sea clara la línea divisoria de las aguas, serán resueltos amistosamente por dos peritos nombrados por cada parte. En caso de no arribar estos a un acuerdo, será llamado a decidirlas un tercer perito designado por ambos Gobiernos.</a:t>
            </a: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Protocolo de 1893</a:t>
            </a:r>
            <a:endParaRPr b="0" lang="en-US" sz="3200" spc="-1" strike="noStrike">
              <a:solidFill>
                <a:srgbClr val="ffffcc"/>
              </a:solidFill>
              <a:latin typeface="Tahoma"/>
            </a:endParaRPr>
          </a:p>
        </p:txBody>
      </p:sp>
      <p:sp>
        <p:nvSpPr>
          <p:cNvPr id="133"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1" lang="es-ES" sz="2000" spc="-1" strike="noStrike">
                <a:solidFill>
                  <a:srgbClr val="ffffff"/>
                </a:solidFill>
                <a:latin typeface="Tahoma"/>
              </a:rPr>
              <a:t>Primero</a:t>
            </a:r>
            <a:r>
              <a:rPr b="0" lang="es-ES" sz="2000" spc="-1" strike="noStrike">
                <a:solidFill>
                  <a:srgbClr val="ffffff"/>
                </a:solidFill>
                <a:latin typeface="Tahoma"/>
              </a:rPr>
              <a:t>. Estando dispuesto por el artículo Primero del Tratado de 23 de julio de 1881, que "el límite entre Chile y la República Argentina es de Norte a Sur hasta el paralelo 52 de latitud, la Cordillera de los Andes", y que "la línea fronteriza correrá por las cumbres más elevadas de dicha Cordillera, que dividan las aguas, y que pasará por entre las vertientes que se desprenden a un lado y a otro", los Peritos y las Sub-comisiones tendrán este principio por norma invariable de sus procedimientos. Se tendrá, en consecuencia, a perpetuidad, como de propiedad y dominio absoluto de la República Argentina, todas las tierras y todas las aguas, a saber: lagos, lagunas, ríos y partes de ríos, arroyos, vertientes que se hallen al oriente de la línea de las más elevadas cumbres de la Cordillera de los Andes que dividan las aguas, y como de propiedad y dominio absoluto de Chile todas las tierras y todas las aguas, a saber: lagos, lagunas, ríos, y partes de ríos, arroyos, vertientes, que se hallen al occidente de las más elevadas cumbres de la Cordillera de los Andes que dividan las aguas.</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ahoma"/>
              </a:rPr>
              <a:t>Tratado de 1896</a:t>
            </a:r>
            <a:endParaRPr b="0" lang="en-US" sz="2800" spc="-1" strike="noStrike">
              <a:solidFill>
                <a:srgbClr val="ffffcc"/>
              </a:solidFill>
              <a:latin typeface="Tahoma"/>
            </a:endParaRPr>
          </a:p>
        </p:txBody>
      </p:sp>
      <p:sp>
        <p:nvSpPr>
          <p:cNvPr id="13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ahoma"/>
              </a:rPr>
              <a:t>    </a:t>
            </a:r>
            <a:r>
              <a:rPr b="0" i="1" lang="es-ES" sz="2000" spc="-1" strike="noStrike">
                <a:solidFill>
                  <a:srgbClr val="ffffff"/>
                </a:solidFill>
                <a:latin typeface="Tahoma"/>
              </a:rPr>
              <a:t>Primera. </a:t>
            </a:r>
            <a:r>
              <a:rPr b="0" lang="es-ES" sz="2000" spc="-1" strike="noStrike">
                <a:solidFill>
                  <a:srgbClr val="ffffff"/>
                </a:solidFill>
                <a:latin typeface="Tahoma"/>
              </a:rPr>
              <a:t>Las operaciones de demarcación del límite entre la República Argentina y la República de Chile, que se ejecutan en conformidad al tratado de 1881 y al protocolo de 1893, se extenderán en la Cordillera de los Andes hasta el paralelo veinte y tres de latitud austral, debiendo trazarse la línea divisoria entre este paralelo y el veintiséis grados, cincuenta y dos minutos y cuarenta y cinco segundos, concurriendo a la operación ambos gobiernos y el gobierno de Bolivia, que será solicitado al efecto. </a:t>
            </a:r>
            <a:br>
              <a:rPr sz="2000"/>
            </a:br>
            <a:br>
              <a:rPr sz="2000"/>
            </a:br>
            <a:r>
              <a:rPr b="0" i="1" lang="es-ES" sz="2000" spc="-1" strike="noStrike">
                <a:solidFill>
                  <a:srgbClr val="ffffff"/>
                </a:solidFill>
                <a:latin typeface="Tahoma"/>
              </a:rPr>
              <a:t>Segunda. </a:t>
            </a:r>
            <a:r>
              <a:rPr b="0" lang="es-ES" sz="2000" spc="-1" strike="noStrike">
                <a:solidFill>
                  <a:srgbClr val="ffffff"/>
                </a:solidFill>
                <a:latin typeface="Tahoma"/>
              </a:rPr>
              <a:t>Si ocurrieran divergencias entre los peritos al fijar en la Cordillera de los Andes los hitos divisorios al sur del paralelo 26o 52' y 45" y no pudieran allanarse amigablemente por acuerdo de ambos Gobiernos, quedarán sometidas al fallo del Gobierno de Su Majestad Británica, a quien las partes contratantes designan, desde ahora, con el carácter de árbitro encargado de aplicar estrictamente, en tales casos, las disposiciones del tratado y protocolo mencionados, previo estudio del terreno, por una comisión que el árbitro designar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Tribunal nombrado por la Reina Victoria</a:t>
            </a:r>
            <a:endParaRPr b="0" lang="en-US" sz="3200" spc="-1" strike="noStrike">
              <a:solidFill>
                <a:srgbClr val="ffffcc"/>
              </a:solidFill>
              <a:latin typeface="Tahoma"/>
            </a:endParaRPr>
          </a:p>
        </p:txBody>
      </p:sp>
      <p:sp>
        <p:nvSpPr>
          <p:cNvPr id="137"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rón Machaghten, Lord of Appeal</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ayor-General Sir John Andagh, Director de Inteligencia Milita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ronel Sir Thomas Holdich, Miembro del Directorio de la Royal Geographic Socie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Memorandum de Ardagh (26 de diciembre de 1901)</a:t>
            </a:r>
            <a:endParaRPr b="0" lang="en-US" sz="2400" spc="-1" strike="noStrike">
              <a:solidFill>
                <a:srgbClr val="ffffcc"/>
              </a:solidFill>
              <a:latin typeface="Tahoma"/>
            </a:endParaRPr>
          </a:p>
        </p:txBody>
      </p:sp>
      <p:sp>
        <p:nvSpPr>
          <p:cNvPr id="139"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ventos recientes en el territorio disputado confirman la visión que se puede colegir de la historia pasada de esta controversia limítrofe – viz: - que ambos lados han hace tiempo tratado de obtener ventajas por medios subrepticios. … La esperanza que tenía en Tribunal en un principio, que los litigantes nos proveerían de estudios tan completos del territorio disputado que serían material adecuado para un laudo, no se han todavía materializado, y es muy dudoso si eso alguna vez sucederá.</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l envío un equipo de investigación parece, por lo tanto, inevitable, y en mi opinión no debieras dudar en enviar uno, a pesar de que tendríamos que gastar sumas considerables, ya que yo evitaría pedir a las Repúblicas que paguen, ya que no lo hemos pedido en otras instancias. … La presencia de un equipo de investigación delegado por el tribunal para allegar información suplementaria a las declaraciones </a:t>
            </a:r>
            <a:r>
              <a:rPr b="0" i="1" lang="es-ES" sz="1800" spc="-1" strike="noStrike">
                <a:solidFill>
                  <a:srgbClr val="ffffff"/>
                </a:solidFill>
                <a:latin typeface="Tahoma"/>
              </a:rPr>
              <a:t>ex parte</a:t>
            </a:r>
            <a:r>
              <a:rPr b="0" lang="es-ES" sz="1800" spc="-1" strike="noStrike">
                <a:solidFill>
                  <a:srgbClr val="ffffff"/>
                </a:solidFill>
                <a:latin typeface="Tahoma"/>
              </a:rPr>
              <a:t>, indudablemente que tendría un efecto suavizador y pacificador sobre ambas países, y tendería a restringir futuros intentos de interferencia y el desarrollo de nuevos terrenos para pelear.</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so solamente ya significaría una gran ventaja, si se consideran los amplios intereses financieros de Gran Bretaña en Chile y en Argentina. Debemos también hacer presente que si una guerra estallará entre estos países, no es improbable que la conflagración se extendiera sobre estados adyacentes, de manera que, en total, el costo extra del equipo de investigación sería un seguro bien invertido.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Memorandum de Ardagh (26 de diciembre de 1901)</a:t>
            </a:r>
            <a:endParaRPr b="0" lang="en-US" sz="2400" spc="-1" strike="noStrike">
              <a:solidFill>
                <a:srgbClr val="ffffcc"/>
              </a:solidFill>
              <a:latin typeface="Tahoma"/>
            </a:endParaRPr>
          </a:p>
        </p:txBody>
      </p:sp>
      <p:sp>
        <p:nvSpPr>
          <p:cNvPr id="141"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bueno también recordar que la divergencia principal entre Chile y Argentina es en lo abstracto bastante simple e irreconciliable.  Los chilenos alegan que el límite es la divisoria de aguas continental de Sudamérica:- i.e. que las cuencas de las aguas que fluyen hacia el Pacífico deben ser chilenas; y que las cuencas de todas las aguas que fluyen hacia el Atlántico deben ser argentinas. Por la otra parte, Argentina alega que la cadena principal de Los Andes, definida por las más altas montañas debe ser el límite, sin importar el hecho de que ésta se rompa por muchos ríos cuyas fuentes se encuentren hacia el Este, i.e en el lado atlántico de las más altas montañas. . . . El hecho es ellas acordar un texto ilógico y ambiguo, que cada parte interpreta a su propia manera; y que las interpretaciones extremas se distinguen en forma amplia, y ninguna de ellas resultaría en verdad en una solución buena y justa.</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Me parece a mí que se trata de un caso para un compromiso, un caso extremadamente difícil, admito, pero uno en cual amigos imparciales de ambos lados pueden tener éxito en  encontrar una solución práctic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Informe de Holdich (1902)</a:t>
            </a:r>
            <a:br>
              <a:rPr sz="3200"/>
            </a:br>
            <a:r>
              <a:rPr b="0" lang="es-ES" sz="3200" spc="-1" strike="noStrike">
                <a:solidFill>
                  <a:srgbClr val="ffffcc"/>
                </a:solidFill>
                <a:latin typeface="Tahoma"/>
              </a:rPr>
              <a:t>“Conditions other than geographical”</a:t>
            </a:r>
            <a:endParaRPr b="0" lang="en-US" sz="3200" spc="-1" strike="noStrike">
              <a:solidFill>
                <a:srgbClr val="ffffcc"/>
              </a:solidFill>
              <a:latin typeface="Tahoma"/>
            </a:endParaRPr>
          </a:p>
        </p:txBody>
      </p:sp>
      <p:sp>
        <p:nvSpPr>
          <p:cNvPr id="14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consideraciones geográficas hacen aplicable una solución de compromiso.</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la época de la redacción del tratado de 1881 no se conocía en detalle la zona y se supuso que existía una divisoria de aguas que coincidía con las más altas cumbres como en el nort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solución de compromiso se deben combinar, en cuanto sea posible, las condiciones de una elevada divisoria de aguas con la de continuidad geográfic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ero otros factores que no deben pasarse por alt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 el valor de la propiedad a dividirs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b) la presente ocupació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c) consideraciones estratégica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a:t>
            </a:r>
            <a:r>
              <a:rPr b="0" lang="es-ES" sz="4000" spc="-1" strike="noStrike">
                <a:solidFill>
                  <a:srgbClr val="ffffcc"/>
                </a:solidFill>
                <a:latin typeface="Tahoma"/>
              </a:rPr>
              <a:t>The Holich Introduction”</a:t>
            </a:r>
            <a:endParaRPr b="0" lang="en-US" sz="4000" spc="-1" strike="noStrike">
              <a:solidFill>
                <a:srgbClr val="ffffcc"/>
              </a:solidFill>
              <a:latin typeface="Tahoma"/>
            </a:endParaRPr>
          </a:p>
        </p:txBody>
      </p:sp>
      <p:sp>
        <p:nvSpPr>
          <p:cNvPr id="14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2) Al efectuar un compromiso, por lo tanto, yo propondría asignar a Chile todo lo que se pueda para acercarse a una proporción de territorio que sería de igual valor que aquel retenido por Argentina, respetando en lo posible las demandas de todos los colonos y pobladores que se sientan vinculados con el gobierno de Chile. Las consideraciones estratégicas, así como las que se refieren a la ocupación, apuntan hacia una sola manera en la que se puede alcanzar algo parecido a un compromiso satisfactorio, y esta es, asignar a Chile cuanto sea posible en los distritos del sur y dejar a Argentina las tierras que ella ha efectivamente ocupado en el n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La Corte Permanente de Arbitraje</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u="sng">
                <a:solidFill>
                  <a:srgbClr val="ffffff"/>
                </a:solidFill>
                <a:uFillTx/>
                <a:latin typeface="Tahoma"/>
              </a:rPr>
              <a:t>Origen</a:t>
            </a:r>
            <a:r>
              <a:rPr b="0" lang="es-ES" sz="3200" spc="-1" strike="noStrike">
                <a:solidFill>
                  <a:srgbClr val="ffffff"/>
                </a:solidFill>
                <a:latin typeface="Tahoma"/>
              </a:rPr>
              <a:t>: Conferencia de La Haya sobre Resolución Pacífica de las Controversias (189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u="sng">
                <a:solidFill>
                  <a:srgbClr val="ffffff"/>
                </a:solidFill>
                <a:uFillTx/>
                <a:latin typeface="Tahoma"/>
              </a:rPr>
              <a:t>Organos de funcionamiento</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1) Oficina Internacio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2) Consejo Administra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Informe del Tribunal (1902)</a:t>
            </a:r>
            <a:endParaRPr b="0" lang="en-US" sz="3200" spc="-1" strike="noStrike">
              <a:solidFill>
                <a:srgbClr val="ffffcc"/>
              </a:solidFill>
              <a:latin typeface="Tahoma"/>
            </a:endParaRPr>
          </a:p>
        </p:txBody>
      </p:sp>
      <p:sp>
        <p:nvSpPr>
          <p:cNvPr id="147"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16. Confrontados con estas posiciones divergentes hemos, después del más cuidadoso análisis, concluido que la cuestión que nos ha sido sometida, no es simplemente la de decidir cuál de las dos líneas alternativas es correcta o incorrecta, sino más bien determinar – dentro de los límites definidos por las pretensiones extremas de ambas partes – la línea precisa de la frontera que, en nuestra opinión, interpretaría mejor la intención de los instrumentos diplomáticos sometidos a nuestra consider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
          <p:cNvSpPr/>
          <p:nvPr/>
        </p:nvSpPr>
        <p:spPr>
          <a:xfrm>
            <a:off x="231840" y="563400"/>
            <a:ext cx="851688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rbitraje en el caso Palena (196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Tratado General de Arbitraje de 190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 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Altas Partes contratantes se obligan a someter a arbitraje todas las controversias entre ellas, de cualquier naturaleza que ellas sean, o que surjan por cualquier causa, excepto cuando afecten los principios de la Constitución de cualquiera de ambos países y cuando no sean posible solucionarlos por negociaciones direct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I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Altas Partes contratantes nombran como Arbitro al Gobierno de su Majestad Británica. Si cualquiera de las Partes rompe las relaciones amistosas con el Gobierno de su Majestad Británica, en ese evento las Partes nombran como árbitro al Gobierno de la Confederación Suiza.</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VI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Arbitro decidirá conforme a los principios del derecho internacional, a menos que el Compromiso establezca la aplicación de reglas especiales o autorice al árbitro decidir con el carácter de un árbitro mediad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
          <p:cNvSpPr/>
          <p:nvPr/>
        </p:nvSpPr>
        <p:spPr>
          <a:xfrm>
            <a:off x="519120" y="635040"/>
            <a:ext cx="75819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Miembros del Tribunal en el caso Palen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ord McNai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r. L. P. Kirw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Brigadier K.M. Papwor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
          <p:cNvSpPr/>
          <p:nvPr/>
        </p:nvSpPr>
        <p:spPr>
          <a:xfrm>
            <a:off x="376200" y="635040"/>
            <a:ext cx="8228160" cy="6403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COMPROMIS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Art.V Tratado Arbitraje</a:t>
            </a:r>
            <a:r>
              <a:rPr b="0" lang="es-ES_tradnl" sz="1800" spc="-1" strike="noStrike">
                <a:solidFill>
                  <a:srgbClr val="ffffff"/>
                </a:solidFill>
                <a:latin typeface="Tahoma"/>
              </a:rPr>
              <a:t>:</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i no hay acuerdo cualquiera de las Partes se encontrará facultada para invitar la intervención del Arbitro, quién tendrá que determinar el Compromiso . .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 I</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Corte de Arbitraje, actuando en conformidad con las disposiciones del presente compromiso, considerará la siguiente pregunta e informará al Gobierno de Su Majestad sobre las conclusiones a que hubiere llegado en relación con ella:</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n la medida, si la hubiere, en que el curso del límite entre los territorios de las Partes en el sector comprendido entre los hitos 16 y 17 haya quedado sin fijarse desde el Laudo de 1902, ¿cuál es el curso del límite en ese sector conforme a la recta interpretación y cumplimiento de dicho Laudo?</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 .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2. La Corte de Arbitraje adoptará sus conclusiones en conformidad con los principios del Derecho Internac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
          <p:cNvSpPr/>
          <p:nvPr/>
        </p:nvSpPr>
        <p:spPr>
          <a:xfrm>
            <a:off x="376200" y="492120"/>
            <a:ext cx="8372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ahoma"/>
              </a:rPr>
              <a:t>El problema de interpretación del Laudo de 190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nforme del Tribun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t>
            </a:r>
            <a:r>
              <a:rPr b="0" lang="es-ES_tradnl" sz="2400" spc="-1" strike="noStrike">
                <a:solidFill>
                  <a:srgbClr val="ffffff"/>
                </a:solidFill>
                <a:latin typeface="Tahoma"/>
              </a:rPr>
              <a:t>Cruzando el Palena en este punto frente a la confluencia del río Encuentro, seguirá, entonces el curso de este último y de su brazo occidental hasta su nacimiento en las faldas occidentales del Cerro La Vir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
          <p:cNvSpPr/>
          <p:nvPr/>
        </p:nvSpPr>
        <p:spPr>
          <a:xfrm>
            <a:off x="303120" y="492120"/>
            <a:ext cx="8661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Informe del Tribunal caso Pale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 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
            </a:r>
            <a:r>
              <a:rPr b="0" lang="es-ES_tradnl" sz="1800" spc="-1" strike="noStrike">
                <a:solidFill>
                  <a:srgbClr val="ffffff"/>
                </a:solidFill>
                <a:latin typeface="Tahoma"/>
              </a:rPr>
              <a:t>La Corte resuelve, por lo tanto, que el curso del límite entre el Cerro de la Virgen y el hito 17 fue fijado por el Laudo de 1902 y la demarcación de 1903, consistiendo dicha fijación en que desde el Cerro de la Virgen el límite seguirá hacia el sur por la divisoria local de aguas hasta la ribera norte del Lago General Paz en el punto en que está el hito 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n vista de estas resoluciones, el Tribunal debe limitar su interpretación y cumplimiento del Laudo al tramo del límite comprendido entre ‘la Cpnfluencia’ y el Cerro de la Virgen, a menos que Chile pueda demostrar que las partes del límite que se ha determinado que quedaron fijadas en 1902-1903, perdieron posteriormente ‘fijeza’ o se fijaron en forma diferen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
          <p:cNvSpPr/>
          <p:nvPr/>
        </p:nvSpPr>
        <p:spPr>
          <a:xfrm>
            <a:off x="376200" y="419040"/>
            <a:ext cx="8516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Principio de interpretació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 15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pina la Corte que en la interpretación de un fallo dictado por un Arbitro procede aplicar reglas más estrictas que en la interpretación de un tratado que es el fruto de negociaciones entre dos o más parte y cuyo proceso de interpretación puede significar esfuerzos para determinar la común voluntad de las Partes. En tales casos, puede ser útil buscar pruebas de esa voluntad común, sea en los documentos preparatorios, sea, aún, en actos posteriores de las Partes. Pero, en relación con el Laudo de 1902 la Corte se ha convencido de que parte determinar la intención del Arbitro, no es necesario ir más allá de los tres documentos en que consiste ese instrumento: el Laudo mismo, el Informe y los Mapas que menciona el Artículo V del primero. La cuestión no radica tanto en la intención del Arbitro sino en que esa intención se vio frustada a causa de una errónea apreciación de la geografía. En cuanto a la conducta posterior de las Partes, incluída también la conducta de personas privadas y autoridades locales, la Corte no llega a percibir cómo podría aquella arrojar luces sobre la intención del Arbitr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
          <p:cNvSpPr/>
          <p:nvPr/>
        </p:nvSpPr>
        <p:spPr>
          <a:xfrm>
            <a:off x="158760" y="347760"/>
            <a:ext cx="851688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rbitraje Laguna del Desierto 1994</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 Arbitral de 1991:</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ículo 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mbas Partes solicitan al Tribunal Arbitral (en adelante “El Tribunal”) que decida el recorrido de la traza del límite en el sector comprendido entre el Hito 62 y el Monte FitzRoy, de la 3a Región, definida en el número 18 del Informe del Tribunal Arbitral de 1902 y analizada en detalle en el párrafo final del número 22 del citado Inform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ículo 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Tribunal decidirá interpretando y aplicando el Laudo de 1902, conforme al derecho internacional.</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a tal efecto, no constituirán precedentes los principios, pautas, criterios o normas específicos aplicados en las soluciones adoptadas en virtud de la Declaración Presidencial del 2 de agosto de 1991, relativos a otras secciones del límit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
          <p:cNvSpPr/>
          <p:nvPr/>
        </p:nvSpPr>
        <p:spPr>
          <a:xfrm>
            <a:off x="231840" y="779400"/>
            <a:ext cx="8516880" cy="44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Tribunal Arbitral en la controversia relativa a Laguna del Desierto (1994)</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rtículo III del Compromis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Tribunal estará compuesto por los siguientes miembros: señores Reynaldo Galindo Pohl, Rafael Nieto Navia y Pedro Nikken, nombrados por las Partes de común acuerdo; Julio Barberis, nombrado por el Gobierno d la República Argentina y Santiago Benadava, nombrado por el Gobierno de la República de Chile.</a:t>
            </a: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esidente del Tribunal será elegido por los árbitros de entre ellos mismos.</a:t>
            </a: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 .</a:t>
            </a:r>
            <a:endParaRPr b="0" lang="en-US" sz="20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763640" y="1557360"/>
            <a:ext cx="525636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El Palacio de la Paz en la Haya</a:t>
            </a:r>
            <a:endParaRPr b="0" lang="en-US" sz="4400" spc="-1" strike="noStrike">
              <a:solidFill>
                <a:srgbClr val="ffffcc"/>
              </a:solidFill>
              <a:latin typeface="Tahoma"/>
            </a:endParaRPr>
          </a:p>
        </p:txBody>
      </p:sp>
      <p:pic>
        <p:nvPicPr>
          <p:cNvPr id="95" name="" descr=""/>
          <p:cNvPicPr/>
          <p:nvPr/>
        </p:nvPicPr>
        <p:blipFill>
          <a:blip r:embed="rId1"/>
          <a:stretch/>
        </p:blipFill>
        <p:spPr>
          <a:xfrm>
            <a:off x="611280" y="1413000"/>
            <a:ext cx="8064360" cy="460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
          <p:cNvSpPr/>
          <p:nvPr/>
        </p:nvSpPr>
        <p:spPr>
          <a:xfrm>
            <a:off x="231840" y="347760"/>
            <a:ext cx="8443800" cy="6165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bitraje en la controversia relativa a Laguna del Desierto (1994)</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 Arbitral de 1991</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Artículo 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mbas Partes solicitan al Tribunal Arbitral que decida el recorrido de la traza del límite en el sector comprendido entre el Hito 62 y el Monte Fitz Roy, de la 3a Región, definida en el número 18 del Informe del Tribunal Arbitral de 1902 y analizada en detalle en el párrafo final del número 22 del citado inform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Artículo 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Tribunal decidirá interpretando y aplicando el Laudo de 1902, conforme al derecho internacional.</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a tal efecto, no constituirán precedentes los principios, pautas, criterios o normas específicos aplicados en las soluciones adoptadas en virtud de la Declaración Presidencial del 2 de agosto de 1991, relativos a otras secciones del límit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
          <p:cNvSpPr/>
          <p:nvPr/>
        </p:nvSpPr>
        <p:spPr>
          <a:xfrm>
            <a:off x="158760" y="419040"/>
            <a:ext cx="87343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Compromiso de 1991</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rtículo II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Tribunal estará compuesto por los siguientes miembros: señores Reynaldo Galindo Pohl, Rafael Nieto Navia y Pedro Nikken, nombrados por las Partes de común acuerdo; Julio Barberis, nombrado por el Gobierno de la República Argentina y Santiago Benadava, nombrado por el Gobierno de la República de Chile.</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Presidente del Tribunal será elegido por los árbitros de entre ellos mism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
          <p:cNvSpPr/>
          <p:nvPr/>
        </p:nvSpPr>
        <p:spPr>
          <a:xfrm>
            <a:off x="376200" y="419040"/>
            <a:ext cx="83725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Laudo del Tribunal. Naturaleza de su función y derecho aplic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63. Este Tribunal es un órgano jurisdiccional autónomo instituido por el Compromiso del 31 de octubre de 1991, dentro del marco del Tratado de Paz y Amistad de 1984. Este Tribunal no es el sucesor del Rey Eduardo VII, ni depende de ningún otro órgano arbitral, sino que es enteramente autónomo. Su función está indicada con claridad en el Compromiso y consiste en decidir el recorrido de la traza del límite entre el hito 62 y el monte Fitz Roy fijada en el Laudo de 1902, el cual ha sido reconocido por las Partes como res judicata y que no está sujeto a ningún procedimiento de revisión, apelación o nulid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65. El Tribunal está llamado a decidir el recorrido de la traza del límite en un sector de la frontera. Esta decisión debe ser tomada fundándose en el Laudo de 1902, que el Tribunal debe interpretar y aplicar conforme al derecho internacional. En ese orden de ideas, el Tribunal no está limitado por el texto del Laudo sino que puede aplicar cualquier norma del orden internacional vigente para las Part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
          <p:cNvSpPr/>
          <p:nvPr/>
        </p:nvSpPr>
        <p:spPr>
          <a:xfrm>
            <a:off x="592200" y="563400"/>
            <a:ext cx="8300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ahoma"/>
              </a:rPr>
              <a:t>¿Qué instrumentos constituyen el Laudo de 190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66. . . . la Sentencia de 1966 consideró que el Laudo de 1902 está constituido por la decisión propiamente dicha, el Informe del Tribunal y el mapa del Arbitro. En el presente caso este Tribunal no encuentra razones para apartarse del precedente mencion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
          <p:cNvSpPr/>
          <p:nvPr/>
        </p:nvSpPr>
        <p:spPr>
          <a:xfrm>
            <a:off x="447840" y="563400"/>
            <a:ext cx="80848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Tahoma"/>
              </a:rPr>
              <a:t>El valor de cosa juzgada del Laudo de 1902 y el principio de non ultra peti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6. . . . un texto ni puede ser interpretado en el sentido de que sus efectos sean contrarios al derecho internacional. En el caso específico de las sentencias internacionales, cuya validez jurídica no está en discusión y tienen fuerza de </a:t>
            </a:r>
            <a:r>
              <a:rPr b="0" i="1" lang="es-ES_tradnl" sz="1800" spc="-1" strike="noStrike">
                <a:solidFill>
                  <a:srgbClr val="ffffff"/>
                </a:solidFill>
                <a:latin typeface="Tahoma"/>
              </a:rPr>
              <a:t>res judicata</a:t>
            </a:r>
            <a:r>
              <a:rPr b="0" lang="es-ES_tradnl" sz="1800" spc="-1" strike="noStrike">
                <a:solidFill>
                  <a:srgbClr val="ffffff"/>
                </a:solidFill>
                <a:latin typeface="Tahoma"/>
              </a:rPr>
              <a:t>, éstas deben ser interpretadas de modo tal que no conduzcan al resultado de que el juez o el árbitro han dictado su decisión violando normas del derecho de gentes. .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7. La competencia de los jueces internacionales está limitada por las atribuciones que las Partes en el caso les otorgan. Sus poderes están igualmente limitados por las pretensiones máximas que ellas demanden en el proceso. Exceder unas u otros implica decidir </a:t>
            </a:r>
            <a:r>
              <a:rPr b="0" i="1" lang="es-ES_tradnl" sz="1800" spc="-1" strike="noStrike">
                <a:solidFill>
                  <a:srgbClr val="ffffff"/>
                </a:solidFill>
                <a:latin typeface="Tahoma"/>
              </a:rPr>
              <a:t>ultra vires</a:t>
            </a:r>
            <a:r>
              <a:rPr b="0" lang="es-ES_tradnl" sz="1800" spc="-1" strike="noStrike">
                <a:solidFill>
                  <a:srgbClr val="ffffff"/>
                </a:solidFill>
                <a:latin typeface="Tahoma"/>
              </a:rPr>
              <a:t> y viciar el fallo de nulidad por </a:t>
            </a:r>
            <a:r>
              <a:rPr b="0" i="1" lang="es-ES_tradnl" sz="1800" spc="-1" strike="noStrike">
                <a:solidFill>
                  <a:srgbClr val="ffffff"/>
                </a:solidFill>
                <a:latin typeface="Tahoma"/>
              </a:rPr>
              <a:t>excés de pouvoir</a:t>
            </a:r>
            <a:r>
              <a:rPr b="0" lang="es-ES_tradnl" sz="1800" spc="-1" strike="noStrike">
                <a:solidFill>
                  <a:srgbClr val="ffffff"/>
                </a:solidFill>
                <a:latin typeface="Tahoma"/>
              </a:rPr>
              <a:t>. La misma regla es aplicable a la interpretación de sentenci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Una expresión de la aplicación de esta regla es la afirmación contenida en el párrafo 16 del Informe del Tribunal de 1902, según la cua el fallo se situó “within the limits defined by the extreme claims on both sid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
          <p:cNvSpPr/>
          <p:nvPr/>
        </p:nvSpPr>
        <p:spPr>
          <a:xfrm>
            <a:off x="231840" y="131760"/>
            <a:ext cx="8732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8. En el presente caso, la Argentina ha sostenido que el petitum chileno constituiría una reivindicación de territorio que va más al este de la pretensión máxima de Chile en el arbitraje de 1898-1902. Según la Argentina, Chile pretendería alcanzar tal fin por la vía de la interpretación del Laudo de 1902. La pretensión máxima de Chile en ese entonces habría sido el </a:t>
            </a:r>
            <a:r>
              <a:rPr b="0" i="1" lang="es-ES_tradnl" sz="1800" spc="-1" strike="noStrike">
                <a:solidFill>
                  <a:srgbClr val="ffffff"/>
                </a:solidFill>
                <a:latin typeface="Tahoma"/>
              </a:rPr>
              <a:t>divortium aquarum</a:t>
            </a:r>
            <a:r>
              <a:rPr b="0" lang="es-ES_tradnl" sz="1800" spc="-1" strike="noStrike">
                <a:solidFill>
                  <a:srgbClr val="ffffff"/>
                </a:solidFill>
                <a:latin typeface="Tahoma"/>
              </a:rPr>
              <a:t> continental, según el cual las cuencas atlánticas quedarían bajo jurisdicción argentina y las cuencas pacíficas bajo jurisdicción chilena. Ahora, por el contrario, Chile solicitaría jurisdicción sobre parte de la cuenca del río de las Vueltas o Gatica, que es atlántic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79. La Argentina sostiene que, si este Tribunal admitiera esa pretensión, decidiría que el laudo de 1902 otorgó a Chile un territorio no reclamado entonces por éste y, por lo tanto, la decisión del rey Eduardo VII habría estado viciada de </a:t>
            </a:r>
            <a:r>
              <a:rPr b="0" i="1" lang="es-ES_tradnl" sz="1800" spc="-1" strike="noStrike">
                <a:solidFill>
                  <a:srgbClr val="ffffff"/>
                </a:solidFill>
                <a:latin typeface="Tahoma"/>
              </a:rPr>
              <a:t>excés de pouvoi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ahoma"/>
              </a:rPr>
              <a:t>84. … </a:t>
            </a:r>
            <a:r>
              <a:rPr b="0" lang="es-ES_tradnl" sz="1800" spc="-1" strike="noStrike">
                <a:solidFill>
                  <a:srgbClr val="ffffff"/>
                </a:solidFill>
                <a:latin typeface="Tahoma"/>
              </a:rPr>
              <a:t>Chile reiteró su tesis de que en el arbitrae de 1898-1902 su reclamación consistía en la traza de una línea en un mapa y desarrolló ampliamente los aspectos vinculados con el conocimiento geográfico de la época. De acuerdo con la argumentación chilena, no es posible interpretar su pretensión de 1898-1902 fundándose en los conocimientos geográficos actuales, sino en los de esa época, en la cual había aún zonas inexploradas y otras conocidas deficientement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
          <p:cNvSpPr/>
          <p:nvPr/>
        </p:nvSpPr>
        <p:spPr>
          <a:xfrm>
            <a:off x="376200" y="635040"/>
            <a:ext cx="8443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106.  La interpretación del Laudo de 1902 deberá tener presente que la pretensión máxima de Chile en aquel arbitraje fue la línea del divortium aquarum natural y efectivo. Por lo tanto, según el derecho internacional, no podrá atribuirse a los términos utilizados por el Arbitro británico para definir la frontera entre el punto de la ribera sur del lago San Martín donde hoy está el hito 62 y el monte Fitz Roy, un efecto tal que otorgue a Chile territorios que, por exceder dicha línea, se sitúen más allá de esa pretensión máxima. Tal resultado equivaldría a concluir que el Laudo de 1902 infringió el derecho de gentes al violar la regla </a:t>
            </a:r>
            <a:r>
              <a:rPr b="0" i="1" lang="es-ES_tradnl" sz="1800" spc="-1" strike="noStrike">
                <a:solidFill>
                  <a:srgbClr val="ffffff"/>
                </a:solidFill>
                <a:latin typeface="Tahoma"/>
              </a:rPr>
              <a:t>non ultra petita partium</a:t>
            </a:r>
            <a:r>
              <a:rPr b="0" lang="es-ES_tradnl"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ahoma"/>
              </a:rPr>
              <a:t>Artículo 27 (Conv. 1899)</a:t>
            </a:r>
            <a:endParaRPr b="0" lang="en-US" sz="32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Potencias signatarias consideran como un deber, en caso de que un serio conflicto amenace estallar entre dos o varias de ellas, el recordarles que la Corte Permanente les está abierta.</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n consecuencia, ellas declaran que el hecho de recordar a las Partes en conflicto las disposiciones de la presente Convención, y el consejo dado, en el supremo interés de la paz, de recurrir a la Corte Permanente, pueden sólo ser considerados como Buenos Ofic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ahoma"/>
              </a:rPr>
              <a:t>¿Cómo se somete una controversia a arbitraje?</a:t>
            </a:r>
            <a:endParaRPr b="0" lang="en-US" sz="28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venio general para someter las controversias que surjan entre ellas.</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venio especial (ad-ho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Formas de arbitraje</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Comisión se árbitros compuesta por un número igual de árbitros nacionales y un empire que decide la cuestión si los nacionales no logran ponerse de acuerdo.</a:t>
            </a:r>
            <a:endParaRPr b="0" lang="en-US" sz="3200" spc="-1" strike="noStrike">
              <a:solidFill>
                <a:srgbClr val="ffffff"/>
              </a:solidFill>
              <a:latin typeface="Tahoma"/>
            </a:endParaRPr>
          </a:p>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Árbitro individual.</a:t>
            </a:r>
            <a:endParaRPr b="0" lang="en-US" sz="3200" spc="-1" strike="noStrike">
              <a:solidFill>
                <a:srgbClr val="ffffff"/>
              </a:solidFill>
              <a:latin typeface="Tahoma"/>
            </a:endParaRPr>
          </a:p>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isión de árbitros de número impar.</a:t>
            </a:r>
            <a:endParaRPr b="0" lang="en-US" sz="3200" spc="-1" strike="noStrike">
              <a:solidFill>
                <a:srgbClr val="ffffff"/>
              </a:solidFill>
              <a:latin typeface="Tahoma"/>
            </a:endParaRPr>
          </a:p>
          <a:p>
            <a:pPr marL="585000" indent="-5850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isiones permanentes de arbitra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Tahoma"/>
              </a:rPr>
              <a:t>Procedimiento arbitral</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ónde se desarrollará el arbitraje?</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procedimiento a seguirse: plazos para los memoriales, plazos para replicar, si se oirán o no alegatos, plazo para el pronunciamiento del laudo.</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ómo se pagarán los gastos del arbitraje? Pago de árbitros, abogados, personal de secretaría.</a:t>
            </a:r>
            <a:endParaRPr b="0" lang="en-US" sz="2800" spc="-1" strike="noStrike">
              <a:solidFill>
                <a:srgbClr val="ffffff"/>
              </a:solidFill>
              <a:latin typeface="Tahoma"/>
            </a:endParaRPr>
          </a:p>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claramente cuáles son las cuestiones sometidas a la decisión d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91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Tahoma"/>
              </a:rPr>
              <a:t>Derecho aplicable</a:t>
            </a:r>
            <a:endParaRPr b="0" lang="en-US" sz="3200" spc="-1" strike="noStrike">
              <a:solidFill>
                <a:srgbClr val="ffffcc"/>
              </a:solidFill>
              <a:latin typeface="Tahoma"/>
            </a:endParaRPr>
          </a:p>
        </p:txBody>
      </p:sp>
      <p:sp>
        <p:nvSpPr>
          <p:cNvPr id="10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ormalmente las partes señalan que el derecho aplicable es el derecho internacion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podrían también acordar aplicar el derecho interno de una de las partes o de un tercer paí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ambién está la opción de una autorización para fallar </a:t>
            </a:r>
            <a:r>
              <a:rPr b="0" i="1" lang="es-CL" sz="3200" spc="-1" strike="noStrike">
                <a:solidFill>
                  <a:srgbClr val="ffffff"/>
                </a:solidFill>
                <a:latin typeface="Tahoma"/>
              </a:rPr>
              <a:t>ex aequo et bono</a:t>
            </a:r>
            <a:r>
              <a:rPr b="0" lang="es-CL"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3:33:27Z</dcterms:created>
  <dc:creator>Ximena Fuentes</dc:creator>
  <dc:description/>
  <dc:language>en-US</dc:language>
  <cp:lastModifiedBy>Ximena Fuentes</cp:lastModifiedBy>
  <dcterms:modified xsi:type="dcterms:W3CDTF">2006-03-30T21:00:32Z</dcterms:modified>
  <cp:revision>9</cp:revision>
  <dc:subject/>
  <dc:title>Los medios jurisdiccionales de solución de controversias internaciona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