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D5B91-79F8-400C-B098-4FFA6EF4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FC36D-3565-48E7-8D7C-D9588A51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1EFC3-E88B-45FE-86A2-DAB02685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F78A8-79DF-47B4-8D42-DAF7C5AD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FA07-5FC7-4A24-807B-D8811B58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E951-9438-406B-A9FF-EBC3ED0F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6043-2503-44FD-B11B-0A35F4CD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6224-D889-4514-9947-EE367D58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22E2-BB46-484A-8DA9-392E5AC7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4E32-5DA3-45BC-ACF1-CF544D33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F70E-E365-4B27-BBE2-2AA0AA60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EBF31-8951-45FC-942C-EE5B3A7E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68CE-7487-46EA-A5C1-EFB3862F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1D5D-75FF-45A2-A31D-13D2CE24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9EC8-3F6B-4BB9-86FF-D48E7FE5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5C45-6F8E-41E4-B8B6-133C24AA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298B-D8FE-494A-B4F1-DF5AAA04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B6FF6-A269-446C-A6C0-69E6BEDF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7DB0C-9E39-4541-80B9-BC343822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657B6-C385-4C11-9309-A9E832AA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7F13E-6CED-4E38-AED9-656F4C3B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D5512-70E3-4966-BEAB-07C75E16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83A09-8375-41A2-97A5-5F883D37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DE96D-98EB-4C36-9894-31AF6671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945A-45BA-47D1-BF27-AFF2431878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4DDB-FDD6-4BC2-84ED-DFC31FA156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9280" y="184680"/>
            <a:ext cx="8785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00"/>
              </a:buClr>
              <a:buFont typeface="Arial"/>
              <a:buAutoNum type="romanUcPeriod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VOLUCION HACIA EL DERECHO DE LOS DERECHOS HUMANOS: SUS ASPECTOS NACIONALES E INTERNA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L DERECHO N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ARTA MAGNA (1215), HABEAS CORPUS (1679), BILL OF RIGHTS (1689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CLARACIÓN DE LA INDEPENDENCIA DE USA 1776: IGUALDAD; DERECHOS INHERENTES; SOBERANÍA DE LA N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CLARACION DE LOS DERECHOS DEL HOMBRE Y DEL CIUDADANO (1789): LOS HOMBRES NACEN LIBRES E IGUALES EN DERECHOS – PROHIBICIÓN, EN GENERAL, DE DISTINCIONES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NSTITUCIONALISMO Y DERECH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NSTITUCIONALISMO LATINOAMERIC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282240"/>
            <a:ext cx="8280360" cy="60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27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127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 DESARROLLO HISTÓRICO PROTECCION INTERNACIONAL ANTERIOR A LAS GUERRAS MUND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127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127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LOS SISTEMAS INTERNACIONALES DESARROLLADOS PARA LA PROTECCION DE LAS PERSO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127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27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OTECCION DIPLOMÁT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27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BOLICION ESCLAVITU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27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OTECCION DE MINORI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27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NTERVENCION HUMANITA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SzPct val="25000"/>
              <a:buFont typeface="Wingdings" charset="2"/>
              <a:buChar char=""/>
              <a:tabLst>
                <a:tab algn="l" pos="127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127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TE SISTEMA INTERNACIONAL QUE SE PREOCUPABA POR LOS DERECHOS DE LAS PERSONAS FRACASA EN EL SIGLO XX, TANTO EN EL CONFLICTO DE I y II GUERRA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AutoNum type="romanUcParenR"/>
              <a:tabLst>
                <a:tab algn="l" pos="127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FIN DE LA PRIMERA GUERRA MUND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ffffff"/>
              </a:buClr>
              <a:buSzPct val="25000"/>
              <a:buFont typeface="Wingdings" charset="2"/>
              <a:buChar char=""/>
              <a:tabLst>
                <a:tab algn="l" pos="12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a minorí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ffffff"/>
              </a:buClr>
              <a:buSzPct val="25000"/>
              <a:buFont typeface="Wingdings" charset="2"/>
              <a:buChar char=""/>
              <a:tabLst>
                <a:tab algn="l" pos="12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a internacional de protección trabajadores (OI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ffffff"/>
              </a:buClr>
              <a:buSzPct val="25000"/>
              <a:buFont typeface="Wingdings" charset="2"/>
              <a:buChar char=""/>
              <a:tabLst>
                <a:tab algn="l" pos="12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27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IFERENCIA EUROPA CON RESTO MUNDO DESPUES 2ª GUER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ffffff"/>
              </a:buClr>
              <a:buSzPct val="25000"/>
              <a:buFont typeface="Wingdings" charset="2"/>
              <a:buChar char=""/>
              <a:tabLst>
                <a:tab algn="l" pos="12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Desconfianza en los gobiern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ffff00"/>
              </a:buClr>
              <a:buSzPct val="25000"/>
              <a:buFont typeface="Wingdings" charset="2"/>
              <a:buChar char=""/>
              <a:tabLst>
                <a:tab algn="l" pos="12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- Idea central en la época: habiendo sido testigo de los dramas de la Segunda Guerra, no era posible dejar entregada a la soberanía de los Estados la protección total y absoluta de sus habita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11280" y="173916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 conclusión a que llegan los Estados se implementa a través de los siguientes element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ATÁLOGO DE CIERTOS DERECHOS MINI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MECANISMOS DISEÑADOS PARA DAR EFECTIVIDAD AL SIST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NECESIDAD DE UN ORDEN INTERNACIONAL POR ENCIMA DE LOS ES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25000"/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25000"/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 este mismo sentido se ubican los esfuerzos en el plano político (Naciones Unidas), económico (FMI y Banco Mundial), y derechos mínimos (Declaración Universal de Derechos Humano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166608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II.  QUE ES EL DERECHO INTERNACIONAL DE LOS DERECH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UANDO HABLAMOS DE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SISTEMAS NORMATIVOS HUMANITARIOS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erecho Internacional de los Derechos Humanos / Derecho Internacional Humanitario / Derecho de los Refugi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UANDO HABLAMOS DE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RECHO INTERNACIONAL DE LOS DERECHOS HUMANOS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normas positivas internacionales que regulan las obligaciones internacionales del Estado en materia de derech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126800"/>
            <a:ext cx="820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III.  DESARROLLO NORMATIVO DEL DERECHO INTERNACIONAL DE LOS DERECH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ROCESO DE GESTACIÓN DE LAS NORMAS: discusión filosóficas, políticas, metajuríd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ROCESO DE RECONOCIMIENTO Y POSITIVIZACIÓN: a través del sistema de fuentes del derecho internacional se van reconociendo ciertos derechos y libert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XIGIBILIDAD: la aplicación de las normas, su aplicación por los sistemas de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CESIDAD DE AMPLIAR LOS CATÁLOGOS, REFORMULAR DERECHOS Y DISEÑAR SISTEMAS DE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172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4:37:27Z</dcterms:created>
  <dc:creator>Claudio Nash</dc:creator>
  <dc:description/>
  <dc:language>en-US</dc:language>
  <cp:lastModifiedBy>claudio</cp:lastModifiedBy>
  <dcterms:modified xsi:type="dcterms:W3CDTF">2006-03-27T20:53:23Z</dcterms:modified>
  <cp:revision>6</cp:revision>
  <dc:subject/>
  <dc:title>Diapositiva 1</dc:title>
</cp:coreProperties>
</file>