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FB6B-F47E-4263-A5A4-10A6D199D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0E64-9E20-4AAD-8AE3-7F75A8B0C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F936-CAF0-4DF7-8BA9-EB377B77A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86D8-FFC3-4D46-93A0-1CA30AEF0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17DA-1402-4183-B3CD-68615A9F5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2865-D0F8-4C24-AC74-B03763B97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D702-0D59-4E29-94BA-3048B6E4C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7B36-143F-4F99-B823-6A94ED2F5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5CE4-CBBF-4EE2-B571-EFF65C6BB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9F0E-7DC9-4AC3-AFF3-5F3BF6145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3935-F920-4131-83E0-D2BADAD15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F185-5BDB-4199-B830-210F64FC8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fff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1283D-28E7-4E5C-9E88-BE1CD12639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fff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260880"/>
            <a:ext cx="9144000" cy="33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2. Problemas en el ámbito internacional: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Reconocimiento de las sentencias de los tribunales extranjeros: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Tratados: Código de Bustamante, art. 318-325;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Reciprocidad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CPC: reglas de regularidad internacional de los fallos (nada contrario a la legislación nacional o a la jurisdicción nacional, notificación de la demanda y falta de impedimentos, fallo ejecutoriado. (Art. 16.1 C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. Reglas de competencia judicial en materia ci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20640"/>
            <a:ext cx="9144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1. Problemas en el ámbito intern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) Sumisión a un tribunal extranjero: ¿objeto ilícito? (art. 1462 CC) Respuesta: DL 23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21337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) Jurisdicción internacional de los tribunales chilenos: art. 5 COT: litigios “que se promuevan” en el territorio 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fff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I. Arbitraje Comercial Inter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20640"/>
            <a:ext cx="914400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y 19.971 de 29.09.2004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éntica a la Ley-Modelo de la UNCITRAL de 198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establece un procedimiento nuevo para el derecho chileno: arbitraje comercial internacional en el suelo chil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 un procedimiento altamente desvinculado de la justicia ordinaria: los tribunales sirven de apoyo para que lleve a cabo un proceso arbitral justo y conforme a la autonomía de la voluntad de las par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60" y="4437000"/>
            <a:ext cx="9144000" cy="141048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50000">
                <a:srgbClr val="ffffff"/>
              </a:gs>
              <a:gs pos="100000">
                <a:srgbClr val="ffcc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cepto muy amplio del carácter internacional de arbitr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cepto muy amplio, no correspondiente al art. 3 C de C, del carácter comercial de arbitr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021360"/>
            <a:ext cx="9144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¿Ventajas del arbitraje comercial internacion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fff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3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onomía de la voluntad en el procedimiento arbitral internacion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eligen los árbi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elige el idio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puede celebrar las sesiones en cualquier lugar del mu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puede fijar el procedimiento oral o escr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puede fijar el número de pruebas admisibles, el número de testigos y la forma en que se conocerá su testimon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5240"/>
            <a:ext cx="9144000" cy="228816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50000">
                <a:srgbClr val="ffffff"/>
              </a:gs>
              <a:gs pos="100000">
                <a:srgbClr val="ffcc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upervisión por parte de la justicia ordinar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ólo existe un recurso en contra el laudo: el de nu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s razones para atacar el fallo son limitados: violación del debido proceso, de la autonomía de la voluntad de las partes, la inarbitrabilidad de la materia y la violación del orden públ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73360"/>
            <a:ext cx="914400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utonomía de la cláusula arbitral y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principio Kompetenz Kompeten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fff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conocimiento de las sentencias arbitrales extranjer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vención de las Naciones Unidas sobre el reconocimiento de las sentencias arbitrales extranjeras (Convención de Nueva York, 195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vención Interamericana sobre arbitraje comercial internacional (Convención de Panamá, 197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ley 19.97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s Convenciones son tratados y se aplican a los laudos dictados en los países partes; la nueva ley se aplica a todos los lau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5451480"/>
            <a:ext cx="9144000" cy="141048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50000">
                <a:srgbClr val="ffffff"/>
              </a:gs>
              <a:gs pos="100000">
                <a:srgbClr val="ffcc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 puede negar el reconocimiento a un lado arbitral extranjero por razones casi idénticas a las de su nu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problema de orden público según el art. 16.1 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3T20:50:01Z</dcterms:created>
  <dc:creator>Facultad de Derecho</dc:creator>
  <dc:description/>
  <dc:language>en-US</dc:language>
  <cp:lastModifiedBy>Elina</cp:lastModifiedBy>
  <dcterms:modified xsi:type="dcterms:W3CDTF">2005-11-10T13:34:25Z</dcterms:modified>
  <cp:revision>29</cp:revision>
  <dc:subject/>
  <dc:title>Diapositiva 1</dc:title>
</cp:coreProperties>
</file>