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EA4-ECCB-4285-9A6A-7C1A7320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820-8609-4298-BB1E-408F9BB9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CB8-3682-43B0-AFCA-46585A97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97D-9899-4C3C-8EDB-CBAAEBBC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1D0-0EED-48A6-A918-1FEC42EC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7B4-BB37-4AF2-982D-2E0F5340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919-F0A2-4B19-A4B0-C91CB3E3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086-FA31-4B92-AF45-3F27FE88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521-9DD2-4CD0-BE47-7B1C865D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5CC-0443-42E9-AA0D-585739A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5F6-1ADA-4746-9CDF-EB57DDD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FC1-C7C0-47A4-B960-19374159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98E2-80F4-4FBA-A833-27F7EFBA6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60880"/>
            <a:ext cx="9144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2. Problemas en el ámbito internacional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conocimiento de las sentencias de los tribunales extranjeros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Tratados: Código de Bustamante, art. 318-325;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Reciprocidad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CPC: reglas de regularidad internacional de los fallos (nada contrario a la legislación nacional o a la jurisdicción nacional, notificación de la demanda y falta de impedimentos, fallo ejecutoriado. (Art. 16.1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. Reglas de competencia judicial en materi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06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. Problemas en el ámbito inter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) Sumisión a un tribunal extranjero: ¿objeto ilícito? (art. 1462 CC) Respuesta: DL 2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) Jurisdicción internacional de los tribunales chilenos: art. 5 COT: litigios “que se promuevan” en el territori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. Arbitraje Comercial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0640"/>
            <a:ext cx="9144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y 19.971 de 29.09.200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éntica a la Ley-Modelo de la UNCITRAL de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stablece un procedimiento nuevo para el derecho chileno: arbitraje comercial internacional en el suelo ch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procedimiento altamente desvinculado de la justicia ordinaria: los tribunales sirven de apoyo para que lleve a cabo un proceso arbitral justo y conforme a la autonomía de la voluntad de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4437000"/>
            <a:ext cx="9144000" cy="14104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 muy amplio del carácter internacional de arbit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 muy amplio, no correspondiente al art. 3 C de C, del carácter comercial de arbit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2136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Ventajas del arbitraje comercial internacio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nomía de la voluntad en el procedimiento arbitral intern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ligen los árbi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lige el idi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celebrar las sesiones en cualquier lugar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fijar el procedimiento oral o esc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fijar el número de pruebas admisibles, el número de testigos y la forma en que se conocerá su test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5240"/>
            <a:ext cx="9144000" cy="22881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pervisión por parte de la justicia ordin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ólo existe un recurso en contra el laudo: el de nu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razones para atacar el fallo son limitados: violación del debido proceso, de la autonomía de la voluntad de las partes, la inarbitrabilidad de la materia y la violación del orden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73360"/>
            <a:ext cx="914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nomía de la cláusula arbitral y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incipio Kompetenz 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onocimiento de las sentencias arbitrales extranj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vención de las Naciones Unidas sobre el reconocimiento de las sentencias arbitrales extranjeras (Convención de Nueva York,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vención Interamericana sobre arbitraje comercial internacional (Convención de Panamá, 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ey 19.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Convenciones son tratados y se aplican a los laudos dictados en los países partes; la nueva ley se aplica a todos los lau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451480"/>
            <a:ext cx="9144000" cy="14104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puede negar el reconocimiento a un lado arbitral extranjero por razones casi idénticas a las de su nu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oblema de orden público según el art. 16.1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20:50:01Z</dcterms:created>
  <dc:creator>Facultad de Derecho</dc:creator>
  <dc:description/>
  <dc:language>en-US</dc:language>
  <cp:lastModifiedBy>Elina</cp:lastModifiedBy>
  <dcterms:modified xsi:type="dcterms:W3CDTF">2005-11-10T13:34:25Z</dcterms:modified>
  <cp:revision>29</cp:revision>
  <dc:subject/>
  <dc:title>Diapositiva 1</dc:title>
</cp:coreProperties>
</file>