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69A38-FBF7-40AC-87A5-026392821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B6C49-1012-4B2D-8A66-F475BE4A9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DE995-D580-47E0-B800-527818E23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3A659-806F-47C5-A2B4-EE4BB1E2F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DE4AA-24B7-41FB-BFDC-3CB5370FF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EBD01-9D01-40CB-B005-8439B2B4B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D5290-6E2D-44B9-AFDE-EB7377E21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D81B3-0876-4F7A-8BD0-61CE1804A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D45FE-99E8-4612-AA06-C930B59A7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5C4E7-FB71-4F29-9996-6CA975A5A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AAC82-11C9-4507-9AB0-04FFF00A9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DD4FB-4F8F-4584-8EE8-2A1D74420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4838F-D208-4F81-8D55-2BA420866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FA59B-8D91-425C-8666-8167F2C70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8CE30-A99D-4BE4-8B5F-346DDEEC7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EB350-14D9-4F90-BCD4-41FDD1739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C2E5B-2C6D-4457-A588-3E2F92B3E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BFEBC-6F60-445E-9928-B32E6002D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6CE20-A196-4F30-AA55-815CC299A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358CC-1ADE-46E3-9C0E-FC2CE727E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498AA-2A34-457A-94A5-34AA29E59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6C1D3-B047-47D4-8946-A4A69DC16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C34A6-861E-4A4D-8A9A-2C5253648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3CF58-DA4D-4192-8C08-A3ED7BC9E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79AB-9963-4872-AF9B-6CC3C1F7F36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C834-DA7C-4801-8D8C-6A81E7A29B1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c66"/>
                </a:solidFill>
                <a:latin typeface="Arial"/>
              </a:rPr>
              <a:t>La protección diplomática</a:t>
            </a:r>
            <a:br>
              <a:rPr sz="4400"/>
            </a:b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7"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rPr>
              <a:t> </a:t>
            </a:r>
            <a:r>
              <a:rPr b="1" i="1" lang="es-ES_tradnl" sz="2800" spc="-1" strike="noStrike" u="sng">
                <a:solidFill>
                  <a:srgbClr val="ffffff"/>
                </a:solidFill>
                <a:uFillTx/>
                <a:latin typeface="Times New Roman"/>
              </a:rPr>
              <a:t>caso  Barcelona Traction: </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Compañía constituida en Canadá,  realizaba inversiones ferroviarias en Barcelona, y ferrocarriles son expropiados por gobierno español.  Canadá renuncia,  a la protección de esta empresa. Los accionistas de la empresa eran Belgas y  piden al gobierno belga que los proteja  esto </a:t>
            </a:r>
            <a:r>
              <a:rPr b="0" i="1" lang="es-MX" sz="2800" spc="-1" strike="noStrike">
                <a:solidFill>
                  <a:srgbClr val="ffffff"/>
                </a:solidFill>
                <a:latin typeface="Times New Roman"/>
                <a:ea typeface="Times New Roman"/>
              </a:rPr>
              <a:t>IMPLICA </a:t>
            </a:r>
            <a:r>
              <a:rPr b="0" i="1" lang="es-ES" sz="2800" spc="-1" strike="noStrike">
                <a:solidFill>
                  <a:srgbClr val="ffffff"/>
                </a:solidFill>
                <a:latin typeface="Times New Roman"/>
                <a:ea typeface="Times New Roman"/>
              </a:rPr>
              <a:t> disputa entre Bélgica y España </a:t>
            </a:r>
            <a:r>
              <a:rPr b="0" i="1" lang="es-MX" sz="2800" spc="-1" strike="noStrike">
                <a:solidFill>
                  <a:srgbClr val="ffffff"/>
                </a:solidFill>
                <a:latin typeface="Times New Roman"/>
                <a:ea typeface="Times New Roman"/>
              </a:rPr>
              <a:t>van </a:t>
            </a:r>
            <a:r>
              <a:rPr b="0" i="1" lang="es-ES" sz="2800" spc="-1" strike="noStrike">
                <a:solidFill>
                  <a:srgbClr val="ffffff"/>
                </a:solidFill>
                <a:latin typeface="Times New Roman"/>
                <a:ea typeface="Times New Roman"/>
              </a:rPr>
              <a:t>a la Corte Internacional de Justicia. España  sostuvo  doctrina de la personalidad jurídica en que se postula que ésta es independiente a los individuos que la conforman.   Una doctrina distinta señala que cuando, por problemas de nacionalidad, una persona jurídica no puede actuar, los individuos que la conforman si pueden, si no están impedidos por problemas de nacionalidad. La Corte Internacional De Justicia estimó que era injusto que las personas de los accionistas no pudieran defenderse y les concedió tal beneficio A igual solución se llegó en el caso de Kuwait e Irak.</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9"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 </a:t>
            </a:r>
            <a:r>
              <a:rPr b="1" i="1" lang="es-ES_tradnl" sz="3200" spc="-1" strike="noStrike" u="sng">
                <a:solidFill>
                  <a:srgbClr val="ffffff"/>
                </a:solidFill>
                <a:uFillTx/>
                <a:latin typeface="Times New Roman"/>
              </a:rPr>
              <a:t>renuncia de un particular a la protección diplomátic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caso de México:</a:t>
            </a:r>
            <a:endParaRPr b="0" lang="en-US" sz="3200" spc="-1" strike="noStrike">
              <a:solidFill>
                <a:srgbClr val="ffffff"/>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Un americano invierte en México y se le hace firmar en el contrato una cláusula de renuncia a la protección diplomática de su Estado nacional.  La Corte Internacional De Justicia determinó que si bien puede renunciar a lo que le es propio , no puede renunciar a lo que no le pertenece.</a:t>
            </a:r>
            <a:endParaRPr b="0" lang="en-US" sz="3200" spc="-1" strike="noStrike">
              <a:solidFill>
                <a:srgbClr val="ffffff"/>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1"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La "cláusula Calvo" (jurista argentino) se incorporó en muchos contratos y consiste en la renuncia que hace el extranjero a la posibilidad de solicitar el amparo diplomático, para evitar cualquier tipo de abus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La solución para evitar presiones políticas entre los Estados, es hacer justicia mediante arbitraje del ICSID, organismo que se encarga de solucionar conflictos de contratos de inver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3"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a quién corresponde la indemnización. </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La doctrina clásica señala que es el Estado subrogante el que se hace titular de la indemnización y que es libre de determinar a quién y cuando se la entrega.</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caso Letelier-Moffit, EE.UU. tomó la acción en representación de los familiares chilenos y norteamericanos, lo que nos muestra la tendencia de que es la justicia al individuo la que prima, y que además se introduce un elemento nuevo que cambia la subrogación por la representación. </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5"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1.- NACIONALIDA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PARTICULAR DEBE SER NACIONAL DEL ESTADO AL QUE SOLICITA LA P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EBE SER   NACIONALIDAD REAL  Y EFECTIVA </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EBE TENERLA  ANTES DE INICIAR EL JUICIO</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URANTE EL JUICIO</a:t>
            </a:r>
            <a:r>
              <a:rPr b="0" lang="es-MX" sz="3200" spc="-1" strike="noStrike">
                <a:solidFill>
                  <a:srgbClr val="ffffff"/>
                </a:solidFill>
                <a:latin typeface="Times New Roman"/>
                <a:ea typeface="Times New Roman"/>
              </a:rPr>
              <a:t>  Y</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CUANDO DICTEN SENTENCIA</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7"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XTOS NORMATIVOS</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1. Proyectos de Artículo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Proyecto de artículos sobre la Protección Diplomática (Texto adoptado por la CDI en primera lectura en 2004), Informe de la CDI en su 59º período de sesiones, Naciones Unidas, Doc. Suplemento 10 (A/59/10), pp. 20 y s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9" name="PlaceHolder 2"/>
          <p:cNvSpPr>
            <a:spLocks noGrp="1"/>
          </p:cNvSpPr>
          <p:nvPr>
            <p:ph/>
          </p:nvPr>
        </p:nvSpPr>
        <p:spPr>
          <a:xfrm>
            <a:off x="304560" y="304560"/>
            <a:ext cx="8839080" cy="6553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2.- AGOTAMIENTO DE LOS RECURSOS INTERNO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NTES DE PEDIR LA PD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E DEBEN AGOTAR  LOS RECURSOS INTERNO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DIP  DA  OPORTUNIDAD AL EST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ONDE SE COMETIO EL HECHO ILICIT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PARA </a:t>
            </a:r>
            <a:r>
              <a:rPr b="0" lang="es-ES" sz="2800" spc="-1" strike="noStrike">
                <a:solidFill>
                  <a:srgbClr val="ffffff"/>
                </a:solidFill>
                <a:latin typeface="Times New Roman"/>
                <a:ea typeface="Times New Roman"/>
              </a:rPr>
              <a:t>QUE LO  REPARE POR SUS PROPIOS MEDIO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ARA EVITAR UNA CONTROVERSIA INTERNACIONA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LA CONTROVERSIA </a:t>
            </a:r>
            <a:r>
              <a:rPr b="0" lang="es-MX" sz="2800" spc="-1" strike="noStrike">
                <a:solidFill>
                  <a:srgbClr val="ffffff"/>
                </a:solidFill>
                <a:latin typeface="Times New Roman"/>
                <a:ea typeface="Times New Roman"/>
              </a:rPr>
              <a:t> SE SITU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NTRE UN ESTADO  Y SU NACIONA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685800" y="380880"/>
            <a:ext cx="7772400" cy="6477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LA CONTROVERSIA </a:t>
            </a:r>
            <a:r>
              <a:rPr b="0" lang="es-MX" sz="3200" spc="-1" strike="noStrike">
                <a:solidFill>
                  <a:srgbClr val="ffffff"/>
                </a:solidFill>
                <a:latin typeface="Times New Roman"/>
                <a:ea typeface="Times New Roman"/>
              </a:rPr>
              <a:t>E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TRE UN ESTADO  Y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POR LA PD   SE CONVIERTE EN UNA CONTROVERSIA INTER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TRE DOS ESTAD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L ESTADO EXTRANJERO DONDE SE COMETIO EL PERJUICIO A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Y EL ESTADO  DEL CUAL ES NACIONAL EL PARTICULAR PERJUDIC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3"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5"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CUANDO EL ESTADO ASUME LA PD DE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1"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PROTECCIÓN DIPLOMÁT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oncepto y naturaleza jurídica de la protección diplomát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HECHO ILICITO :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UN ESTADO</a:t>
            </a:r>
            <a:r>
              <a:rPr b="0" lang="es-MX" sz="2800" spc="-1" strike="noStrike">
                <a:solidFill>
                  <a:srgbClr val="ffffff"/>
                </a:solidFill>
                <a:latin typeface="Times New Roman"/>
                <a:ea typeface="Times New Roman"/>
              </a:rPr>
              <a:t> -AUTOR HECHO ILICITO</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B.- </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VICTIMA</a:t>
            </a:r>
            <a:r>
              <a:rPr b="0" lang="es-MX" sz="2800" spc="-1" strike="noStrike">
                <a:solidFill>
                  <a:srgbClr val="ffffff"/>
                </a:solidFill>
                <a:latin typeface="Times New Roman"/>
                <a:ea typeface="Times New Roman"/>
              </a:rPr>
              <a:t>  DEL HECHO ILICITO</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UN PARTICULAR   PERSONA  NATURAL  O  JURÍD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STADO PUEDE LLEVAR A OTRO A UNA INSTANCIA INTERNACIONAL</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ARTICULAR NO PUEDE LLEVAR  A UN ESTADO   INFRACTOR  ANTE UNA INSTANCIA INTERNACIONAL</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3"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Cuando el acto contrario al Derecho Internacional afecta a un particular extranjero, la causa del particular la puede asumir el estado de su nacionalidad mediante la protección o amparo diplomático, en que dicho Estado asume la reclamación y la presenta en su nombre.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Objetivo</a:t>
            </a:r>
            <a:r>
              <a:rPr b="0" lang="es-MX"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mparar al particular al cual siempre se le hará difícil actuar en contra de un Estado</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RT 34  ESTATUTO  CIJ DI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OLO LOS ESTADOS  VAN  A LA CIJ</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PARTICULAR VICTIMA DE UN HECHO ILICIT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IDE LA PROTECCIÓN DIPLOMÁTICA A SU EST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STADO NO ESTA OBLIGADO A  PROTEGER DIPLOMÁTICAMENT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L   PARTICULA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NO HAY  NORMA INTERNACIONAL QUE  OBLIGU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 UN ESTADO A PROTEGER  A SUS NACIONALES EN EL EXTERI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QUISITOS DE LA PROTECCIÓN DIPLOMÁTIC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0" lang="es-ES" sz="3200" spc="-1" strike="noStrike">
                <a:solidFill>
                  <a:srgbClr val="ffffff"/>
                </a:solidFill>
                <a:latin typeface="Times New Roman"/>
              </a:rPr>
              <a:t>Requisitos para su ejercici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1.- </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NACIONALIDA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2.- </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AGOTAMIENTO DE LOS RECURSOS INTERN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 Que el particular tenga la nacionalidad del Estado protector, al momento en que ocurre el hecho ilícito. La necesidad de tenerla al momento de presentar la reclamación está en discusió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vínculo de nacionalidad debe ser efectivo. La relación Estado - persona debe ser real.</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gotamiento de los recursos internos del Estado infractor para la solución de la controvers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Aceptación de la subrogación por parte del Estado protector, la cual está conferida a la mera discrecionalidad de ést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rPr>
              <a:t>caso Notteboh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Involucró a Guatemala y a Leichtenstein. Nottebohn, alemán, viaja a Guatemala durante la segunda guerra mundial. En el curso de la guerra EE.UU. pidió que se incautaran las propiedades alemanas y esto alcanzó sus bienes. Leichtenstein señala que Nottebohn era nacional de ese país y el asunto llega a la Corte Internacional de Justici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Es relevante para determinar la nacionalidad la residencia efectiva en un paí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El pago de impuesto también ayuda a determinar la nacionalidad, pero no sirve por si sol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La Corte decidió que como Nottebohn no había residido en Leichtenstein ni había pagado impuestos, el vínculo de nacionalidad alegado era ficticio y no efectiv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5"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Nacionalidad de una Sociedad (o persona jurídic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Obviamente si la sociedad tiene la misma nacionalidad que el Estado que comete el acto de infracción, ésta no puede solicitar la protección o amparo diplomáticos contra su mismo Est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04:38:10Z</dcterms:created>
  <dc:creator>GILDA CICCI SALAZAR</dc:creator>
  <dc:description/>
  <dc:language>en-US</dc:language>
  <cp:lastModifiedBy>xvidal</cp:lastModifiedBy>
  <dcterms:modified xsi:type="dcterms:W3CDTF">2006-06-05T16:46:32Z</dcterms:modified>
  <cp:revision>23</cp:revision>
  <dc:subject/>
  <dc:title>La protección diplomática </dc:title>
</cp:coreProperties>
</file>