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827-E98C-4406-8E23-1808C8B9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B4E-D428-4F9A-BEDD-B2DD8FD0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6BC-E360-492B-B27B-01FB5D8B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C15-999F-4CA9-B483-A3DCAAE9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78DD-36B0-4BC8-880E-91252318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0DE2-6EE2-4D37-B342-A06F16F9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785C-2815-4DE9-A731-894D5D87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CB07-AAB3-4A2A-8594-D4829223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092-471A-4295-9E6D-3373FEAA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618D-9C12-4929-AE5E-39A8AE48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1198-A200-42CA-AAFF-AAAAC6E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B23-78A7-4316-AAA3-B4FC1C50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5352-2127-4862-9CFC-EDED78B1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8CAD-2ACC-47B6-8FEB-3276BC8E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63FB-AD06-4E90-B7C0-506314A6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3A65-F058-4957-A114-28EAEE1E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F23A-2F55-423B-8BB4-FBC0A048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1AE-D66F-4777-8E3B-0534F8A0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B88-A309-4F54-B6E1-3A3A8103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0FF-BF0D-4AE8-ACC1-836AD18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C51-4DFB-4D65-AE57-50612519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33D-2F09-4554-B12D-ABB26F00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54B-7BB0-4B6C-A1D0-EF9FE295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A89-4003-4364-A072-324F760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E45A-89DB-450D-A8E2-A16EAEE6EF63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CFDB-6BD3-4474-B755-BBFF6185D5C6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Antisindicales y Desle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yo-Junio. 2006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2000" y="3024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Despido Antisindical. (Art. 215)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295280"/>
          <a:ext cx="8381880" cy="5321520"/>
        </p:xfrm>
        <a:graphic>
          <a:graphicData uri="http://schemas.openxmlformats.org/drawingml/2006/table">
            <a:tbl>
              <a:tblPr/>
              <a:tblGrid>
                <a:gridCol w="1905120"/>
                <a:gridCol w="2895480"/>
                <a:gridCol w="358128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19.75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20.087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Afo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º resolución, orde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ar reincorporación del trabaj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go de remuner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ones adeudad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de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ñalar día, hora y fun- cio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percibimiento de multa de 100-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ber de acreditar. (5d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no afor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Ordi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de Op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orpora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Op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 más alt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en la Negociación Colectiva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00200"/>
            <a:ext cx="820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cciones del empleador, de los trabajadores y/o organizaciones sindicales en su caso, que entorpezcan la negociación colectiva y sus procedimientos.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7. Practicas desleales del Emple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8. Prácticas desleales del Empleador, OS, Trabajador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: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ácticas Antisindicales.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deas Gener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Capítulo IX, Título I del Libro III. (Art. 289-294) y título VIII, Libro IV. (Art. 387-390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ienes Jurídicos protegid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ertad Sindical</a:t>
            </a:r>
            <a:r>
              <a:rPr b="0" lang="es-E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Negociación Colec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re Competencia. DL211. Sanción mas drást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1981080"/>
          <a:ext cx="7353360" cy="4694400"/>
        </p:xfrm>
        <a:graphic>
          <a:graphicData uri="http://schemas.openxmlformats.org/drawingml/2006/table">
            <a:tbl>
              <a:tblPr/>
              <a:tblGrid>
                <a:gridCol w="3619440"/>
                <a:gridCol w="373392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90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5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601"/>
                        </a:spcBef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n Sujeto Calific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 en la Negociación Colectiva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Antisindicales o Desleales.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1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iertos hechos de autoría del empleador, o de los trabajadores, o de las organizaciones sindicales, en su caso, que tienen por objeto atentar en contra de la libertad sindical o de la autonomía de funcionamiento de aquell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 Antisindical del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89: “Las acciones que atenten contra la Libertad Sindic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2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cciones u Omision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del Trabajador, OS o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0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 acciones que atenten contra la libertad sindic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sin Sujeto Activo Calificado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1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 ser cualquier person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6240" y="-2520"/>
            <a:ext cx="8650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95360" y="914400"/>
          <a:ext cx="8153280" cy="586728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.75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.087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Concent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b. Com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es Juzgados de Letr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s Juzgados de Letras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gitima-ción ac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v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Cualquier Interes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ganización Sindic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ólo Trabajador en caso de Despi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alor Prob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orm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presa presunción de veracidad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 Art. 292 no lo dice expresamente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95360" y="227160"/>
          <a:ext cx="8153280" cy="612936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lidad de las Actuacio-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2 inciso 10º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 Art. 49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ulta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, consi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ando reiteracio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idencia: 100-150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s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n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3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 293. Se mantien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blica-ción de E y Org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ractora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3:06:49Z</dcterms:created>
  <dc:creator>Veronica</dc:creator>
  <dc:description/>
  <dc:language>en-US</dc:language>
  <cp:lastModifiedBy>Universidad del Desarrollo</cp:lastModifiedBy>
  <dcterms:modified xsi:type="dcterms:W3CDTF">2006-06-16T19:52:18Z</dcterms:modified>
  <cp:revision>10</cp:revision>
  <dc:subject/>
  <dc:title>Prácticas Antisindicales y Desleales.</dc:title>
</cp:coreProperties>
</file>