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A1FF-04B3-475B-AE11-E608EB256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8BCC-CDB9-4A35-9A53-07EAE22B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B967-F8B1-4C7E-9290-2A6F70820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026C-57F6-4949-B45A-FE75D2B07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BBDB-D860-4029-A9D6-B8225C1D3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A8DB-7A9B-4CF2-BB70-8B5F166D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2023-D42D-481F-8431-0D050F7F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93E0-D146-413B-A3C3-A25D21C5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09A1-0B82-4275-B03A-DF9C40F5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A5A0-36A0-4FB7-ACD7-AF97A3B7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187C-2305-457C-8F37-F4B64CC1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8FBA-9F8E-41F8-BB08-96D59C07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1DCC-0B9E-4507-B40C-4B86BF20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6A2D-6F6C-4AE1-8C60-5447EA74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ACE3-802C-48F6-A75C-0BC0C7EA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87C4-9010-49FF-814D-3331EA6D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4F56-513F-46CD-B9B2-1E892701B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84A3-EEAB-4119-9BC9-1CF488BA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FD8F-AD2F-45DA-A154-D1736A69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225D-A529-48CB-ADF7-51F0BCE1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57EC-6F27-4333-8AD0-AC438975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5FE2-0F6F-4946-A3C9-36D84E81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B5E3-F4C4-4E77-890B-2C8DBD95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2897-C95C-495D-95CC-62DB17D2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5137-B526-4529-B9E5-3F056A406234}" type="slidenum"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3066-F8E3-45B1-831D-2BCA31E9C389}" type="slidenum"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Prácticas Antisindicales y Desleales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Mayo-Junio. 2006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2000" y="3024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Despido Antisindical. (Art. 215)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295280"/>
          <a:ext cx="8381880" cy="5321520"/>
        </p:xfrm>
        <a:graphic>
          <a:graphicData uri="http://schemas.openxmlformats.org/drawingml/2006/table">
            <a:tbl>
              <a:tblPr/>
              <a:tblGrid>
                <a:gridCol w="1905120"/>
                <a:gridCol w="2895480"/>
                <a:gridCol w="3581280"/>
              </a:tblGrid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ey 19.759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ey 20.087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rabajador Aforado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º resolución, orde-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ar reincorporación del trabajador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ago de remunera-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iones adeudadas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dem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eñalar día, hora y fun- cionari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percibimiento de multa de 100-150 UTM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ber de acreditar. (5d)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1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rabajador no aforad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ocedimiento Ordinari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recho de Opción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eincorporación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demnizaciones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ocedimiento de Tutela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recho Opción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demnizaciones más altas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Practicas Desleales en la Negociación Colectiva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6200" y="1600200"/>
            <a:ext cx="820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oncept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1904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i="1" lang="es-ES" sz="2800" spc="-1" strike="noStrike">
                <a:solidFill>
                  <a:srgbClr val="ffffcc"/>
                </a:solidFill>
                <a:latin typeface="Arial"/>
              </a:rPr>
              <a:t>Acciones del empleador, de los trabajadores y/o organizaciones sindicales en su caso, que entorpezcan la negociación colectiva y sus procedimientos.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190440" algn="just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Regulación: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190440" algn="just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Art. 387. Practicas desleales del Empleador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190440" algn="just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Art. 388. Prácticas desleales del Empleador, OS, Trabajadore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190440" algn="just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rocedimiento: 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Prácticas Antisindicales.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1904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Ideas Generales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Regulación: Capítulo IX, Título I del Libro III. (Art. 289-294) y título VIII, Libro IV. (Art. 387-390)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Bienes Jurídicos protegid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ibertad Sindical</a:t>
            </a:r>
            <a:r>
              <a:rPr b="0" lang="es-E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Negociación Colectiv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ibre Competencia. DL211. Sanción mas drástic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Clasificación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914400" y="1981080"/>
          <a:ext cx="7353360" cy="4694400"/>
        </p:xfrm>
        <a:graphic>
          <a:graphicData uri="http://schemas.openxmlformats.org/drawingml/2006/table">
            <a:tbl>
              <a:tblPr/>
              <a:tblGrid>
                <a:gridCol w="3619440"/>
                <a:gridCol w="3733920"/>
              </a:tblGrid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acticas Desleales o Antisindicales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l Empleador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904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l Trabajador, Organizaciones Sindicales o Empleador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54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>
                        <a:spcBef>
                          <a:spcPts val="601"/>
                        </a:spcBef>
                        <a:tabLst>
                          <a:tab algn="l" pos="0"/>
                          <a:tab algn="l" pos="103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in Sujeto Calificad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acticas Desleales o Antisindicales en la Negociación Colectiva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l Emplead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8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l Trabajador, Organizaciones Sindicales o Emplead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Practicas Antisindicales o Desleales.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21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Concepto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iertos hechos de autoría del empleador, o de los trabajadores, o de las organizaciones sindicales, en su caso, que tienen por objeto atentar en contra de la libertad sindical o de la autonomía de funcionamiento de aquella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Práctica Antisindical del Empleador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rt. 289: “Las acciones que atenten contra la Libertad Sindical”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22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cciones u Omisione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21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Numeración no taxativ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Prácticas del Trabajador, OS o Empleador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rt. 290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s  acciones que atenten contra la libertad sindical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numeración no taxativ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Practicas Desleales sin Sujeto Activo Calificado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rt. 291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27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uede ser cualquier person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2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6240" y="-2520"/>
            <a:ext cx="8650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Procedimient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95360" y="914400"/>
          <a:ext cx="8153280" cy="5867280"/>
        </p:xfrm>
        <a:graphic>
          <a:graphicData uri="http://schemas.openxmlformats.org/drawingml/2006/table">
            <a:tbl>
              <a:tblPr/>
              <a:tblGrid>
                <a:gridCol w="1485720"/>
                <a:gridCol w="3314880"/>
                <a:gridCol w="3352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ctual Procedimiento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uturo Procedimiento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ey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9.759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0.087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ipo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ocedimiento Concentrado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ocedimiento de Tutela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rib. Comp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ctuales Juzgados de Letras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uevos Juzgados de Letras del Trabaj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egitima-ción ac-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iva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ccff33"/>
                        </a:buClr>
                        <a:buSzPct val="7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spección del Traba-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j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-Cualquier Interesad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spección del Trabaj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rganización Sindical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ólo Trabajador en caso de Despido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33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Valor Prob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forme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xpresa presunción de veracidad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uevo Art. 292 no lo dice expresamente.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495360" y="227160"/>
          <a:ext cx="8153280" cy="6129360"/>
        </p:xfrm>
        <a:graphic>
          <a:graphicData uri="http://schemas.openxmlformats.org/drawingml/2006/table">
            <a:tbl>
              <a:tblPr/>
              <a:tblGrid>
                <a:gridCol w="1485720"/>
                <a:gridCol w="3314880"/>
                <a:gridCol w="3352680"/>
              </a:tblGrid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ctual Procedimiento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uturo Procedimiento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6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ulidad de las Actuacio-nes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rt. 292 inciso 10º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ocedimiento de Tutela Art. 49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9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ultas.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0 a 150 UTM, consi-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rando reiteracion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0 a 150 UTM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eincidencia: 100-150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11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esp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enal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rt. 293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rt 293. Se mantiene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ublica-ción de E y Org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nfractora 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egistro D.T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egistro D.T.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23:06:49Z</dcterms:created>
  <dc:creator>Veronica</dc:creator>
  <dc:description/>
  <dc:language>en-US</dc:language>
  <cp:lastModifiedBy>Universidad del Desarrollo</cp:lastModifiedBy>
  <dcterms:modified xsi:type="dcterms:W3CDTF">2006-06-16T19:52:18Z</dcterms:modified>
  <cp:revision>10</cp:revision>
  <dc:subject/>
  <dc:title>Prácticas Antisindicales y Desleales.</dc:title>
</cp:coreProperties>
</file>