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543-6E5E-4DA7-8518-1F200B02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570-7366-447F-9B0E-C7F82325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DD0-0D93-4DFC-8B8F-F6E33911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8777-C9BD-4604-885C-B75ACC04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5EE9-C4D9-4A90-9698-DC1F68B3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EC95-0311-4F43-82DB-23E70359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4EB8-2D5F-4D59-8392-EFEDE34C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1204-9E90-45DC-97FA-5217EEEC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AF16-C63B-45BC-88F3-C5187446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B270-3F27-4253-8881-6F92C63F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2B92-52F7-4497-AC65-8FDC2E74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64D-8111-4788-A4A3-FDC69E5E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CAC9-5A7B-431B-8783-BBC9211E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0F96-EAC7-4856-9997-A5C01CC6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9FB2-95DA-496C-8260-5309F587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2C35-0880-4088-B5B6-091689EB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656A-2F0B-4E2A-B366-BA0E6E33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BB5-BCAB-47C6-A64D-8C543BD4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FF8-A548-4CA0-957A-BF2F076D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504-D2CB-44E9-987C-E4B1839E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AB8-8DA4-4806-8779-6044AB21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A5A9-8DF1-43DE-A009-10B84F6D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49B-E51A-42F9-BD57-72D8ABF6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08E-7971-458C-B61C-119448F5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6261-4C22-4AFB-8F21-E0153B7D9EDE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6D5A-9054-4794-8912-65D75AEDE804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s Antisindicales y Desleales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yo-Junio. 2006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2000" y="3024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Despido Antisindical. (Art. 215)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295280"/>
          <a:ext cx="8381880" cy="5321520"/>
        </p:xfrm>
        <a:graphic>
          <a:graphicData uri="http://schemas.openxmlformats.org/drawingml/2006/table">
            <a:tbl>
              <a:tblPr/>
              <a:tblGrid>
                <a:gridCol w="1905120"/>
                <a:gridCol w="2895480"/>
                <a:gridCol w="358128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 19.75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 20.087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abajador Aforad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º resolución, orde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ar reincorporación del trabajador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ago de remunera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iones adeudad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de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eñalar día, hora y fun- cionari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percibimiento de multa de 100-150 UT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ber de acreditar. (5d)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1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abajador no afor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Ordinari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echo de Opció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incorporació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emnizacione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echo Opció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emnizaciones más alt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Desleales en la Negociación Colectiva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1600200"/>
            <a:ext cx="820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ncep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cciones del empleador, de los trabajadores y/o organizaciones sindicales en su caso, que entorpezcan la negociación colectiva y sus procedimientos.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gulación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rt. 387. Practicas desleales del Empleado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rt. 388. Prácticas desleales del Empleador, OS, Trabajador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cedimiento: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rácticas Antisindicales.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Ideas Generales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gulación: Capítulo IX, Título I del Libro III. (Art. 289-294) y título VIII, Libro IV. (Art. 387-390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Bienes Jurídicos protegid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ibertad Sindical</a:t>
            </a:r>
            <a:r>
              <a:rPr b="0" lang="es-E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Negociación Colec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ibre Competencia. DL211. Sanción mas drástic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ificación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14400" y="1981080"/>
          <a:ext cx="7353360" cy="4694400"/>
        </p:xfrm>
        <a:graphic>
          <a:graphicData uri="http://schemas.openxmlformats.org/drawingml/2006/table">
            <a:tbl>
              <a:tblPr/>
              <a:tblGrid>
                <a:gridCol w="3619440"/>
                <a:gridCol w="373392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acticas Desleales o Antisindicales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Empleador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90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Trabajador, Organizaciones Sindicales o Empleador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5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601"/>
                        </a:spcBef>
                        <a:tabLst>
                          <a:tab algn="l" pos="0"/>
                          <a:tab algn="l" pos="10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in Sujeto Calific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acticas Desleales o Antisindicales en la Negociación Colectiva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Emplead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Trabajador, Organizaciones Sindicales o Emplead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Antisindicales o Desleales.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21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Concept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iertos hechos de autoría del empleador, o de los trabajadores, o de las organizaciones sindicales, en su caso, que tienen por objeto atentar en contra de la libertad sindical o de la autonomía de funcionamiento de aquell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 Antisindical del Empleador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89: “Las acciones que atenten contra la Libertad Sindical”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22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cciones u Omision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21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Numeración no tax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s del Trabajador, OS o Empleador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90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 acciones que atenten contra la libertad sindic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umeración no tax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Desleales sin Sujeto Activo Calificado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91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27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uede ser cualquier person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2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6240" y="-2520"/>
            <a:ext cx="8650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ocedimi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95360" y="914400"/>
          <a:ext cx="8153280" cy="5867280"/>
        </p:xfrm>
        <a:graphic>
          <a:graphicData uri="http://schemas.openxmlformats.org/drawingml/2006/table">
            <a:tbl>
              <a:tblPr/>
              <a:tblGrid>
                <a:gridCol w="1485720"/>
                <a:gridCol w="3314880"/>
                <a:gridCol w="3352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turo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9.75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.087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po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Concentrad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ib. Comp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es Juzgados de Letr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evos Juzgados de Letras del Traba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gitima-ción ac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va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spección del Traba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-Cualquier Interes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spección del Traba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ganización Sindical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ólo Trabajador en caso de Despi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alor Prob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forme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xpresa presunción de veracidad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evo Art. 292 no lo dice expresamente.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95360" y="227160"/>
          <a:ext cx="8153280" cy="6129360"/>
        </p:xfrm>
        <a:graphic>
          <a:graphicData uri="http://schemas.openxmlformats.org/drawingml/2006/table">
            <a:tbl>
              <a:tblPr/>
              <a:tblGrid>
                <a:gridCol w="1485720"/>
                <a:gridCol w="3314880"/>
                <a:gridCol w="335268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turo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lidad de las Actuacio-ne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. 292 inciso 10º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 Art. 49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9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ultas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 a 150 UTM, consi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ando reiteracio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 a 150 UT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incidencia: 100-150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sp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nal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. 293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 293. Se mantiene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blica-ción de E y Org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fractora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gistro D.T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gistro D.T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23:06:49Z</dcterms:created>
  <dc:creator>Veronica</dc:creator>
  <dc:description/>
  <dc:language>en-US</dc:language>
  <cp:lastModifiedBy>Universidad del Desarrollo</cp:lastModifiedBy>
  <dcterms:modified xsi:type="dcterms:W3CDTF">2006-06-16T19:52:18Z</dcterms:modified>
  <cp:revision>10</cp:revision>
  <dc:subject/>
  <dc:title>Prácticas Antisindicales y Desleales.</dc:title>
</cp:coreProperties>
</file>