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25C-4EAC-4BF4-8571-1A87E845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BA4-5938-4552-A764-EC9B25D0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B09-7260-485A-A3C8-B36985AD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B3E-8110-4776-B743-47832D42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E81A-C88E-46BB-86F4-FB3678C5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113A-A623-421C-B3B9-2C34F4B8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DD77-DF8F-4107-9C32-E5A61953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7686-90DA-42FD-8244-B73A3CAC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890A-F96B-4284-8E27-C53C643C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F591-30DB-4A2B-9E53-DA9AD1A1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F595-E8C6-42E9-992C-9D2C8DD4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9F8-B0A2-4803-91EE-D25574A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A08F-4604-46E1-AF8F-209A85A8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C816-CB2F-4154-9A1E-F7F6D36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4FE5-8FB5-406C-BB85-8625AF0A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1C26-5BAD-47A9-B109-D95E8479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E4E4-B627-47F5-86AC-3F2D8A19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C12-7E4A-4522-BF06-5D234414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D4B-B01D-4701-A776-E7D02B3D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531-3B67-4733-8826-CE7320B4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33B-188E-4CC3-AE8B-3472B342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FC4-FF78-40D7-AF61-D3F57397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668-03FE-4FA4-8CC3-F3F8BB30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5C9-9F2E-4F33-A2A4-D2BC8A10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4C07-19B4-4228-B3A6-63A8463A4258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93F8-2699-4B3D-B35C-63CD04AFC7B7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Antisindicales y Desle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yo-Junio. 2006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200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Despido Antisindical. (Art. 215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295280"/>
          <a:ext cx="8381880" cy="5321520"/>
        </p:xfrm>
        <a:graphic>
          <a:graphicData uri="http://schemas.openxmlformats.org/drawingml/2006/table">
            <a:tbl>
              <a:tblPr/>
              <a:tblGrid>
                <a:gridCol w="1905120"/>
                <a:gridCol w="2895480"/>
                <a:gridCol w="358128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19.75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20.087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Afo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º resolución, orde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r reincorporación del trabaj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go de remuner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ones adeudad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ñalar día, hora y fun- cio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percibimiento de multa de 100-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ber de acreditar. (5d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no afor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Ordi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de Op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orpora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Op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 más alt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en la Negociación Colectiva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00200"/>
            <a:ext cx="820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cciones del empleador, de los trabajadores y/o organizaciones sindicales en su caso, que entorpezcan la negociación colectiva y sus procedimientos.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7. Practicas desleales del Emple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8. Prácticas desleales del Empleador, OS, Trabajad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: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ácticas Antisindicales.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deas Gener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Capítulo IX, Título I del Libro III. (Art. 289-294) y título VIII, Libro IV. (Art. 387-390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ienes Jurídicos protegid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ertad Sindical</a:t>
            </a:r>
            <a:r>
              <a:rPr b="0" lang="es-E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Negociación Colec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re Competencia. DL211. Sanción mas drást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981080"/>
          <a:ext cx="7353360" cy="4694400"/>
        </p:xfrm>
        <a:graphic>
          <a:graphicData uri="http://schemas.openxmlformats.org/drawingml/2006/table">
            <a:tbl>
              <a:tblPr/>
              <a:tblGrid>
                <a:gridCol w="3619440"/>
                <a:gridCol w="373392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90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5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601"/>
                        </a:spcBef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n Sujeto Calific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 en la Negociación Colectiva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Antisindicales o Desleales.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1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iertos hechos de autoría del empleador, o de los trabajadores, o de las organizaciones sindicales, en su caso, que tienen por objeto atentar en contra de la libertad sindical o de la autonomía de funcionamiento de aquell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 Antisindical del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89: “Las acciones que atenten contra la Libertad Sindic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2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ciones u Omisi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del Trabajador, OS o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0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 acciones que atenten contra la libertad sindic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sin Sujeto Activo Calificado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1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ser cualquier person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-2520"/>
            <a:ext cx="8650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95360" y="914400"/>
          <a:ext cx="8153280" cy="586728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.75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.087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Concent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b. Com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es Juzgados de Letr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s Juzgados de Letras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gitima-ción ac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v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Cualquier Interes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ganización Sindic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ólo Trabajador en caso de Despi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alor Prob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orm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presa presunción de veracidad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 Art. 292 no lo dice expresamente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95360" y="227160"/>
          <a:ext cx="8153280" cy="612936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lidad de las Actuacio-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2 inciso 10º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 Art. 49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ult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, consi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ando reiteracio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idencia: 100-150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n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3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 293. Se mantien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a-ción de E y Org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ractora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3:06:49Z</dcterms:created>
  <dc:creator>Veronica</dc:creator>
  <dc:description/>
  <dc:language>en-US</dc:language>
  <cp:lastModifiedBy>Universidad del Desarrollo</cp:lastModifiedBy>
  <dcterms:modified xsi:type="dcterms:W3CDTF">2006-06-16T19:52:18Z</dcterms:modified>
  <cp:revision>10</cp:revision>
  <dc:subject/>
  <dc:title>Prácticas Antisindicales y Desleales.</dc:title>
</cp:coreProperties>
</file>