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114-03F0-45AA-93A1-BD0E47F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C2D-2F80-4FE3-8A70-5163FAA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86D-0D2B-4BAC-8BAD-9CFA256F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947-6476-4854-8E2A-EBEFAF4C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AC3B-529A-4D65-B397-E76B163D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CD4D-4E71-4E74-9E9E-F4582763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D41B-96F7-48CE-848B-53C2A3E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A19D-AE02-471D-819E-121E32FF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AF3C-9913-47E5-BF18-5FF53B1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1396-8424-45A4-8479-3D7A2CC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AE1A-4CC7-44CF-8081-F2F6560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D9E-4420-4216-AC7C-4BB34EB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263-AC62-4762-9A35-A1A80A9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6F93-6337-4801-91AC-80E5552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B91-ACF6-40E8-9005-1C72E35F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680F-56AA-4895-9D90-9129BE92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69A-C756-4D24-8F01-7487DADB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68C-714F-4123-B473-E6C69963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E28-A882-4724-A93C-E667D6C4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5D8-0FDB-4291-AC6A-F422BCEA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AC4-55C6-4BF0-BB19-E399ADF3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F23-7D82-46BD-901B-D60564F7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C3E-0545-4A24-8161-D107E09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F8C-A82E-40AF-89BF-90EF285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72FE-940F-4BEF-ACA0-695958E5384B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C81C-1D28-4CA9-81D8-95990F10475A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Antisindicales y Desle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yo-Junio. 2006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Despido Antisindical. (Art. 215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95280"/>
          <a:ext cx="8381880" cy="532152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58128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19.75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20.087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Afo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º resolución, orde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r reincorporación del trabaj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go de remuner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ones adeudad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ñalar día, hora y fun- cio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percibimiento de multa de 100-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ber de acreditar. (5d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no afor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Ordi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de Op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orpora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Op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 más alt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en la Negociación Colectiva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0020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cciones del empleador, de los trabajadores y/o organizaciones sindicales en su caso, que entorpezcan la negociación colectiva y sus procedimientos.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7. Practicas desleales del Emple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8. Prácticas desleales del Empleador, OS, Trabajad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: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ácticas Antisindicales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deas Gener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Capítulo IX, Título I del Libro III. (Art. 289-294) y título VIII, Libro IV. (Art. 387-390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ienes Jurídicos protegid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ertad Sindical</a:t>
            </a:r>
            <a:r>
              <a:rPr b="0" lang="es-E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Negociación Colec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re Competencia. DL211. Sanción mas drást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981080"/>
          <a:ext cx="7353360" cy="4694400"/>
        </p:xfrm>
        <a:graphic>
          <a:graphicData uri="http://schemas.openxmlformats.org/drawingml/2006/table">
            <a:tbl>
              <a:tblPr/>
              <a:tblGrid>
                <a:gridCol w="3619440"/>
                <a:gridCol w="373392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90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601"/>
                        </a:spcBef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n Sujeto Calific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 en la Negociación Colectiva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Antisindicales o Desleales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1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iertos hechos de autoría del empleador, o de los trabajadores, o de las organizaciones sindicales, en su caso, que tienen por objeto atentar en contra de la libertad sindical o de la autonomía de funcionamiento de aquell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 Antisindical del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89: “Las acciones que atenten contra la Libertad Sindic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2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ciones u Omis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del Trabajador, OS o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 acciones que atenten contra la libertad sind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sin Sujeto Activo Calificado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1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ser cualquier person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-2520"/>
            <a:ext cx="8650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5360" y="914400"/>
          <a:ext cx="8153280" cy="586728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75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087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Concent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b. Com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es Juzgados de Letr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s Juzgados de Letras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itima-ción ac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v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Cualquier Interes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ción Sindic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ólo Trabajador en caso de Despi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alor Prob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orm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presa presunción de veracidad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 Art. 292 no lo dice expresamente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95360" y="227160"/>
          <a:ext cx="8153280" cy="612936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lidad de las Actuacio-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2 inciso 10º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 Art. 49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lt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, consi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ando reiteracio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idencia: 100-150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n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3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 293. Se mantien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a-ción de E y Org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ractora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3:06:49Z</dcterms:created>
  <dc:creator>Veronica</dc:creator>
  <dc:description/>
  <dc:language>en-US</dc:language>
  <cp:lastModifiedBy>Universidad del Desarrollo</cp:lastModifiedBy>
  <dcterms:modified xsi:type="dcterms:W3CDTF">2006-06-16T19:52:18Z</dcterms:modified>
  <cp:revision>10</cp:revision>
  <dc:subject/>
  <dc:title>Prácticas Antisindicales y Desleales.</dc:title>
</cp:coreProperties>
</file>