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A98D-7DD9-4B80-A086-F6BFC808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C88-890A-4D78-913C-CBCA1D44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2B5-DB06-45E0-A411-9E42DFD2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B87-3241-4C9A-A7D6-03F6E7AC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44C8-096B-494E-B7E9-3B07BEE9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6F3-1485-45F4-8C0A-201CA80B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1B69-F505-440E-9BB6-4B8B49B8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195F-B49D-4AC7-9C62-ABCC3421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92F-2FAF-4B9C-89DC-81BC52C0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913-31CF-4944-B485-ABCB49AE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5B3-418A-4E7B-A871-2D160860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183-CB90-41D6-8C58-79420F89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9F62-3EB0-4839-9CFB-A2EF8BED1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457200"/>
            <a:ext cx="57150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00400" y="1981080"/>
            <a:ext cx="57150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304920"/>
            <a:ext cx="533520" cy="144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315200" y="1752480"/>
            <a:ext cx="14479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69520" y="990720"/>
            <a:ext cx="79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PECTOS LEGALES DE LA SECURIT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30360" y="2924280"/>
            <a:ext cx="6613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MINARIO SOBRE FUNDAMENTOS Y APLIC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 LA SECURIT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81040" y="4437000"/>
            <a:ext cx="30196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ctavio Bofill Genz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77280" y="76500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SPECTOS DEL MAYOR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2421000"/>
            <a:ext cx="800100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FECTOS FINANCI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CONOCIMIENTO OFF BAL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¿RECONOCIMIENTO DE OBLIGACIONES DE HACER QUE ASUME EL ORIGIN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CONOCIMIENTO DEL SOBRECOLATERAL QUE ENTREGA EL ORIGINADOR, VAL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EL FINANCIAMIENTO DEL ACOPIO POR EL MERCADO DE CAPI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7280" y="4797360"/>
            <a:ext cx="475308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6080" y="990720"/>
            <a:ext cx="79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PECTOS LEGALES DE LA TITULA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205000"/>
            <a:ext cx="7848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RA ENTENDERNOS MEJ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 TITULARIZAR = SECURIT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 SECURITIZACIONES: FÓRMULAS DE SOLUCION 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STRUCTURAS FIDUCI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pio de Jurisdicciones del Common La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STRUCTURAS PROPIET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pio de Jurisidicciones herederas del Derech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uropeo Contin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09840" y="838080"/>
            <a:ext cx="63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RUCTURA DE SECURITIZACIÓN DE ACTIVOS [Estructura Propietari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362320"/>
            <a:ext cx="1082880" cy="142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1916280"/>
            <a:ext cx="1355760" cy="1368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tulariza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endCxn id="52" idx="1"/>
          </p:cNvCxnSpPr>
          <p:nvPr/>
        </p:nvCxnSpPr>
        <p:spPr>
          <a:xfrm>
            <a:off x="1676520" y="2590920"/>
            <a:ext cx="13114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00200" y="2200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CEDE ACTIVOS SECURITIZAB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2286000"/>
            <a:ext cx="990720" cy="60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2133720"/>
            <a:ext cx="144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SUME OBLIGACIÓN PAGO VALORES TITULARIZADOS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20000" y="4187880"/>
            <a:ext cx="165564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intend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Valores [S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/>
          <p:nvPr/>
        </p:nvCxnSpPr>
        <p:spPr>
          <a:xfrm>
            <a:off x="6705720" y="25905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61" idx="0"/>
          </p:cNvCxnSpPr>
          <p:nvPr/>
        </p:nvCxnSpPr>
        <p:spPr>
          <a:xfrm flipH="1" flipV="1">
            <a:off x="4809600" y="5446800"/>
            <a:ext cx="6184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821720" y="2963880"/>
            <a:ext cx="1143000" cy="60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rtificad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2200" y="363996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900" spc="-1" strike="noStrike">
                <a:solidFill>
                  <a:srgbClr val="000000"/>
                </a:solidFill>
                <a:latin typeface="Arial"/>
              </a:rPr>
              <a:t>Solicitud de inscrip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900" spc="-1" strike="noStrike">
                <a:solidFill>
                  <a:srgbClr val="000000"/>
                </a:solidFill>
                <a:latin typeface="Arial"/>
              </a:rPr>
              <a:t>en registro de val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5516640"/>
            <a:ext cx="9903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scrip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5805360"/>
            <a:ext cx="990720" cy="6098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lo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6059520"/>
            <a:ext cx="1371600" cy="60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caudació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 colo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endCxn id="61" idx="6"/>
          </p:cNvCxnSpPr>
          <p:nvPr/>
        </p:nvCxnSpPr>
        <p:spPr>
          <a:xfrm flipH="1">
            <a:off x="5922720" y="61099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/>
          <p:nvPr/>
        </p:nvCxnSpPr>
        <p:spPr>
          <a:xfrm rot="10800000">
            <a:off x="1042200" y="5589000"/>
            <a:ext cx="83916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556000" y="4365720"/>
            <a:ext cx="143496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parado (P.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4906800"/>
            <a:ext cx="1219320" cy="609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ú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/>
          <p:nvPr/>
        </p:nvCxnSpPr>
        <p:spPr>
          <a:xfrm flipH="1">
            <a:off x="4066920" y="3428640"/>
            <a:ext cx="21816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2" idx="4"/>
            <a:endCxn id="57" idx="0"/>
          </p:cNvCxnSpPr>
          <p:nvPr/>
        </p:nvCxnSpPr>
        <p:spPr>
          <a:xfrm rot="5400000">
            <a:off x="7813080" y="3608280"/>
            <a:ext cx="615240" cy="545040"/>
          </a:xfrm>
          <a:prstGeom prst="bentConnector3">
            <a:avLst>
              <a:gd name="adj1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/>
          <p:nvPr/>
        </p:nvCxnSpPr>
        <p:spPr>
          <a:xfrm rot="5400000">
            <a:off x="7906320" y="4846320"/>
            <a:ext cx="1394640" cy="14364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573440" y="3139920"/>
            <a:ext cx="1727280" cy="43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te. Ten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Valores [RT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56360" y="5229360"/>
            <a:ext cx="136836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c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08440" y="38559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PORTA ACTIVOS SECURITIZAB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108000" y="4295880"/>
            <a:ext cx="144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AGA PRECIO CES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DE ACT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9" idx="0"/>
            <a:endCxn id="51" idx="2"/>
          </p:cNvCxnSpPr>
          <p:nvPr/>
        </p:nvCxnSpPr>
        <p:spPr>
          <a:xfrm flipV="1">
            <a:off x="1077480" y="3789360"/>
            <a:ext cx="73800" cy="11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76000" y="3357720"/>
            <a:ext cx="1512000" cy="15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4500720" y="4292640"/>
            <a:ext cx="1223640" cy="60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rtific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tero ac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endCxn id="79" idx="1"/>
          </p:cNvCxnSpPr>
          <p:nvPr/>
        </p:nvCxnSpPr>
        <p:spPr>
          <a:xfrm flipH="1">
            <a:off x="4679280" y="3645000"/>
            <a:ext cx="253080" cy="73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9" idx="6"/>
          </p:cNvCxnSpPr>
          <p:nvPr/>
        </p:nvCxnSpPr>
        <p:spPr>
          <a:xfrm>
            <a:off x="5724360" y="4597200"/>
            <a:ext cx="2161080" cy="632520"/>
          </a:xfrm>
          <a:prstGeom prst="straightConnector1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9" idx="3"/>
          </p:cNvCxnSpPr>
          <p:nvPr/>
        </p:nvCxnSpPr>
        <p:spPr>
          <a:xfrm flipH="1">
            <a:off x="1331640" y="4812840"/>
            <a:ext cx="3348720" cy="1064520"/>
          </a:xfrm>
          <a:prstGeom prst="straightConnector1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237440" y="2347920"/>
            <a:ext cx="1727280" cy="43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ller R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3" idx="2"/>
            <a:endCxn id="62" idx="1"/>
          </p:cNvCxnSpPr>
          <p:nvPr/>
        </p:nvCxnSpPr>
        <p:spPr>
          <a:xfrm flipH="1">
            <a:off x="7987680" y="2781360"/>
            <a:ext cx="11340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/>
          <p:nvPr/>
        </p:nvCxnSpPr>
        <p:spPr>
          <a:xfrm flipV="1">
            <a:off x="6372000" y="29235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348000" y="5373720"/>
            <a:ext cx="1440000" cy="719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6" idx="1"/>
          </p:cNvCxnSpPr>
          <p:nvPr/>
        </p:nvCxnSpPr>
        <p:spPr>
          <a:xfrm flipH="1">
            <a:off x="2555640" y="5734080"/>
            <a:ext cx="79272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2908440" y="6167520"/>
            <a:ext cx="144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AGAN PRECIO COLOCACIÓN VAL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9280" y="2421000"/>
            <a:ext cx="4335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dente de activos titular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to de cesión: entrega activo y percibe pre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de ser titular de valores junior (sobrecolater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parte: Titulariza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21337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4760" y="537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61080" y="514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65240" y="954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27360" y="1230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4360" y="990720"/>
            <a:ext cx="84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PERSPECTIVAS DE LAS PARTES INVOLUC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4581360"/>
            <a:ext cx="8964720" cy="719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2187720"/>
            <a:ext cx="38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INAD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4221000"/>
            <a:ext cx="382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dministrador primario de activos titular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3716280"/>
            <a:ext cx="433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ún el activo, puede tener que asumir obligaciones que aseguren la existencia y solvencia del ac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49920" y="2133720"/>
            <a:ext cx="38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TULARIZADO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2421000"/>
            <a:ext cx="47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esionaria de activos titular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trato de cesión: recibe activo y paga pre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jeto activo de obligaciones que asume 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traparte: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27640" y="3284640"/>
            <a:ext cx="47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misora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trato de Emisión: recibe producto de la colocación y se obliga al pago de los valores en el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27640" y="3933720"/>
            <a:ext cx="47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orma patrimonio sepa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porta los activos y otras obligaciones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porta la obligación de pago de los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27640" y="479736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antiene su patrimonio común para su gi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27640" y="456408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dministrador maestro de la titula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8000" y="465300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920" y="5013360"/>
            <a:ext cx="4335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presenta a los inversionistas en el ctto. de em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s “contraparte” de la Titularizadora en el ctt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 emisión, exige cumplimiento de sus oblig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ertifica el debido entero del activo del patrimonio sepa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[Libera los fondos de la recaudació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514044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NVERS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4520" y="5373720"/>
            <a:ext cx="4335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ran valores, pagan pre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erciben pago de los valores en el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n [casi] los únicos acreedores del patrimonio separado [éste no tiene patrimonio net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n la verdadera contraparte de la Titularizado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97400" y="765000"/>
            <a:ext cx="610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OBJETIVO DE LA ESTRUCTURA LEG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EN LA TITULA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13372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BLINDAR UN PATRIMONIO: SUS ACTIVOS, SUS FLUJOS Y SUS 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33760" y="2421000"/>
            <a:ext cx="61862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ocidos y determinados desde un comienzo (¿sustituciones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opiedad del patrimonio separado (venta verdadera / acciones paulian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ibres de graváme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o reconozcan derechos en favor de terceros (venta verdade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os flujos sólo se perciban por el patrimonio separ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inversión de los excedentes de ca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os mejoramientos credit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S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ocidos y avaluados desde un comien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astos por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lores emitidos (preferentes / subordinad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ción de otros pasivos de otros patrimonios separado de la mi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itularizadora y de su patrimonio comú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sabilidades extracontractu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spectos tributari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uerte del Originador no repercuta en patrimonio separado  (ej.: su quieb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4360" y="2637000"/>
            <a:ext cx="1825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16960" y="76500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SPECTOS LEGALES DEL MAYOR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219400"/>
            <a:ext cx="800100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TIPOS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E ACTIVOS,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DESDE UN PUNTO DE VISTA 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CTIVOS QUE SE INDEPENDIZAN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TRATOS RE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UNIDAD DEL CONTRATO Y SUS CAU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CTIVOS QUE NO SE INDEPENDIZAN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ESIONES DE CRÉDI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QUE EMANAN DE CONTRATOS BILATERA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DE EJECUCION DIFERIDA O TRACTO SUCE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L PATRIMONIO SEPARADO Y SU CONTROL SOBRE LA EJECUCIÓN DE LAS OBLIGACIONES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REACION DE ACTIVOS ESPECIALES: FLUJOS FUTU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GULACIÓN TEMÁTICA DE SU PROPI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L CONTROL DE LA EJECUCIÓN DE LAS OBLIGACIONES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UJECIÓN AL EVENTO DE INSOLVENCIA DEL DEUDOR DE LOS FLUJOS FUTU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16960" y="76500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SPECTOS LEGALES DEL MAYOR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2205000"/>
            <a:ext cx="800100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ESIONES DE ACTIVOS AL PATRIMONIO SEPA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ÉGIMEN SIMPLIFICADO DE C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entr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ostos y plaz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OPONIBLE AL DEUDOR Y SUS ACR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Activos se restan de la prenda general de los acreedores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ÉGIMEN EXTENSIBLE A DERECHOS, CRÉDITOS Y TÍTULOS </a:t>
            </a:r>
            <a:r>
              <a:rPr b="1" i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NOMINA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Aplicación del endoso de los títulos de crédito como méto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LA CLÁUSULA ANTI – CESIÓN, OBLIGACIÓN DE NO HA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Un entorpecimiento general a la circulación de los créditos de contratos comer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LA SECRECÍA DEL CLIENTE DE LOS CRÉDI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La fricción entre la publicidad de los valores y la secrecía de los activos titular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0" y="2492280"/>
            <a:ext cx="3816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16960" y="76500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SPECTOS LEGALES DEL MAYOR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2276640"/>
            <a:ext cx="800100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FECTOS TRIBUTA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NTA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STO TRIBUTARIO DEL ACTIVO (SI AUN NO CONTABILIZAD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CONOCIMIENTO EN EL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SPONSABILIDADES QUE ASUME: ¿EFECTO DE PASIV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VENTA POR ANTICIPADO: COSTO FUTURO DE 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IMPUESTOS DE SELLOS (TIMB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¿Qué si el activo subyacente ya pagó el impuesto? ¿Y si está exent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IVA EN LOS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¿Cómo lo descarga el patrimonio separado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¿Lo puede trasladar a los inversionistas (si ellos pueden descargarlo)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¿Es costo para el patrimonio separad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ERO EFECTO TRIBUTARIO PARA EL PATRIMONIO SEPARADO (O RECONOCIMIENTO DE CRÉDITOS A TENEDORES DE VAL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16960" y="76500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SPECTOS LEGALES DEL MAYOR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133720"/>
            <a:ext cx="8577000" cy="35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EGULACION ESTRUCTURAL QUE HACE VIABLE A LA SECURIT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NTIDAD SEPARADA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DE GIRO ÚNICO, EMISORA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 FISCALIZACIÓN GUBERNAMENTAL (PERSPECTIVA DE LOS VAL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EPARACIÓN DE PATRIMONI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ORMAS ESPECIALES DE LIQUIDACIÓN Y QUIEBRAS DE LA SECURITIZA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ERFECCIONAMIENTO DE LEGISLACIÓN COMÚ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IMULACIÓN DE CONTR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CCIONES REVOCATORIAS O PAULIA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QUIEBRA DEL ORIGINADOR Y EL CRÉDITO DEL PATRIMONIO SEPARADO EN SU CONT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MULTIAGENTES DE GARANTÍASY SUS ACR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00:42:07Z</dcterms:created>
  <dc:creator>OBG</dc:creator>
  <dc:description/>
  <dc:language>en-US</dc:language>
  <cp:lastModifiedBy>Octavio Bofill</cp:lastModifiedBy>
  <dcterms:modified xsi:type="dcterms:W3CDTF">2006-05-02T22:37:58Z</dcterms:modified>
  <cp:revision>49</cp:revision>
  <dc:subject/>
  <dc:title>Aspectos Legales </dc:title>
</cp:coreProperties>
</file>