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DFB4E-2E63-4354-88F9-9AAC8A2A4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F656-583F-4607-A926-995F1FB84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269A2-E6CA-4EB8-90C0-C430EDB32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7C8F-A0B3-4F35-8417-4D8F0575C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2CCB5-A0A1-4DF9-A00B-B8483F971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595AC-92A8-459C-B49C-A87841051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123D-FC51-4F86-8CF1-7C82EB77A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61FB9-EF3D-40F5-8E46-3E94AA3CD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0CDA-B1C1-4ACE-AA59-2F6A4B14C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8FD17-BC2C-46E5-8CF4-E760B0000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9F14-DC13-49BF-8A9C-C2821C58C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9A64-8D4B-4526-B86A-BFFF0CD58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8C6AE-AD57-4464-93F1-F9797CE56F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609480" y="457200"/>
            <a:ext cx="571500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200400" y="1981080"/>
            <a:ext cx="5715000" cy="0"/>
          </a:xfrm>
          <a:prstGeom prst="line">
            <a:avLst/>
          </a:prstGeom>
          <a:ln w="7632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838080" y="304920"/>
            <a:ext cx="533520" cy="14475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315200" y="1752480"/>
            <a:ext cx="1447920" cy="457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69520" y="990720"/>
            <a:ext cx="79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SPECTOS LEGALES DE LA SECURIT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530360" y="2924280"/>
            <a:ext cx="66135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EMINARIO SOBRE FUNDAMENTOS Y APLICACIÓ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E LA SECURITIZ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481040" y="4437000"/>
            <a:ext cx="3019680" cy="8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ctavio Bofill Genzs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2422440" y="84924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177280" y="765000"/>
            <a:ext cx="517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Arial"/>
              </a:rPr>
              <a:t>ASPECTOS DEL MAYOR INTER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17680" y="26020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9640" y="2421000"/>
            <a:ext cx="8001000" cy="23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EFECTOS FINANCIE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RECONOCIMIENTO OFF BALANC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¿RECONOCIMIENTO DE OBLIGACIONES DE HACER QUE ASUME EL ORIGINADOR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RECONOCIMIENTO DEL SOBRECOLATERAL QUE ENTREGA EL ORIGINADOR, VALOR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EL FINANCIAMIENTO DEL ACOPIO POR EL MERCADO DE CAPIT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17680" y="29829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41360" y="29066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187280" y="4797360"/>
            <a:ext cx="4753080" cy="178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586080" y="990720"/>
            <a:ext cx="792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SPECTOS LEGALES DE LA TITULAR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55640" y="2205000"/>
            <a:ext cx="784872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ARA ENTENDERNOS MEJ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1. TITULARIZAR = SECURITIZ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2. SECURITIZACIONES: FÓRMULAS DE SOLUCION LEG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STRUCTURAS FIDUCIAR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ropio de Jurisdicciones del Common Law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STRUCTURAS PROPIETAR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Propio de Jurisidicciones herederas del Derecho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Europeo Continen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509840" y="838080"/>
            <a:ext cx="6338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ESTRUCTURA DE SECURITIZACIÓN DE ACTIVOS [Estructura Propietaria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2362320"/>
            <a:ext cx="1082880" cy="14270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rigin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87640" y="1916280"/>
            <a:ext cx="1355760" cy="13683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tularizado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endCxn id="52" idx="1"/>
          </p:cNvCxnSpPr>
          <p:nvPr/>
        </p:nvCxnSpPr>
        <p:spPr>
          <a:xfrm>
            <a:off x="1676520" y="2590920"/>
            <a:ext cx="1311480" cy="10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1600200" y="2200320"/>
            <a:ext cx="144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CEDE ACTIVOS SECURITIZAB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715000" y="2286000"/>
            <a:ext cx="990720" cy="6094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ntrat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mi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43400" y="2133720"/>
            <a:ext cx="1447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ASUME OBLIGACIÓN PAGO VALORES TITULARIZADOS</a:t>
            </a: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020000" y="4187880"/>
            <a:ext cx="1655640" cy="6094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uperintenden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 Valores [SV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43400" y="2590920"/>
            <a:ext cx="1371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/>
          <p:nvPr/>
        </p:nvCxnSpPr>
        <p:spPr>
          <a:xfrm>
            <a:off x="6705720" y="259056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61" idx="0"/>
          </p:cNvCxnSpPr>
          <p:nvPr/>
        </p:nvCxnSpPr>
        <p:spPr>
          <a:xfrm flipH="1" flipV="1">
            <a:off x="4809600" y="5446800"/>
            <a:ext cx="618480" cy="358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821720" y="2963880"/>
            <a:ext cx="1143000" cy="6094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ertificado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lasifi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442200" y="3639960"/>
            <a:ext cx="150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900" spc="-1" strike="noStrike">
                <a:solidFill>
                  <a:srgbClr val="000000"/>
                </a:solidFill>
                <a:latin typeface="Arial"/>
              </a:rPr>
              <a:t>Solicitud de inscripció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900" spc="-1" strike="noStrike">
                <a:solidFill>
                  <a:srgbClr val="000000"/>
                </a:solidFill>
                <a:latin typeface="Arial"/>
              </a:rPr>
              <a:t>en registro de valo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596360" y="5516640"/>
            <a:ext cx="990360" cy="53316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scrip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mi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932360" y="5805360"/>
            <a:ext cx="990720" cy="60984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lo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63640" y="6059520"/>
            <a:ext cx="1371600" cy="6094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Recaudación 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la colo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6" name=""/>
          <p:cNvCxnSpPr>
            <a:endCxn id="61" idx="6"/>
          </p:cNvCxnSpPr>
          <p:nvPr/>
        </p:nvCxnSpPr>
        <p:spPr>
          <a:xfrm flipH="1">
            <a:off x="5922720" y="6109920"/>
            <a:ext cx="457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/>
          <p:nvPr/>
        </p:nvCxnSpPr>
        <p:spPr>
          <a:xfrm rot="10800000">
            <a:off x="1042200" y="5589000"/>
            <a:ext cx="839160" cy="5338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8" name=""/>
          <p:cNvSpPr/>
          <p:nvPr/>
        </p:nvSpPr>
        <p:spPr>
          <a:xfrm>
            <a:off x="2556000" y="4365720"/>
            <a:ext cx="1434960" cy="68580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trimon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parado (P.S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68360" y="4906800"/>
            <a:ext cx="1219320" cy="609840"/>
          </a:xfrm>
          <a:prstGeom prst="ellips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Patrimon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ú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0" name=""/>
          <p:cNvCxnSpPr/>
          <p:nvPr/>
        </p:nvCxnSpPr>
        <p:spPr>
          <a:xfrm flipH="1">
            <a:off x="4066920" y="3428640"/>
            <a:ext cx="218160" cy="115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"/>
          <p:cNvCxnSpPr>
            <a:stCxn id="62" idx="4"/>
            <a:endCxn id="57" idx="0"/>
          </p:cNvCxnSpPr>
          <p:nvPr/>
        </p:nvCxnSpPr>
        <p:spPr>
          <a:xfrm rot="5400000">
            <a:off x="7813080" y="3608280"/>
            <a:ext cx="615240" cy="545040"/>
          </a:xfrm>
          <a:prstGeom prst="bentConnector3">
            <a:avLst>
              <a:gd name="adj1" fmla="val 4982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"/>
          <p:cNvCxnSpPr/>
          <p:nvPr/>
        </p:nvCxnSpPr>
        <p:spPr>
          <a:xfrm rot="5400000">
            <a:off x="7906320" y="4846320"/>
            <a:ext cx="1394640" cy="143640"/>
          </a:xfrm>
          <a:prstGeom prst="bentConnector3">
            <a:avLst>
              <a:gd name="adj1" fmla="val 49987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4573440" y="3139920"/>
            <a:ext cx="1727280" cy="433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Repte. Tened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 Valores [RTV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156360" y="5229360"/>
            <a:ext cx="1368360" cy="8636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gen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locad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 Val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908440" y="3855960"/>
            <a:ext cx="144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APORTA ACTIVOS SECURITIZABL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-108000" y="4295880"/>
            <a:ext cx="1447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PAGA PRECIO CESION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DE ACTIVO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" name=""/>
          <p:cNvCxnSpPr>
            <a:stCxn id="69" idx="0"/>
            <a:endCxn id="51" idx="2"/>
          </p:cNvCxnSpPr>
          <p:nvPr/>
        </p:nvCxnSpPr>
        <p:spPr>
          <a:xfrm flipV="1">
            <a:off x="1077480" y="3789360"/>
            <a:ext cx="73800" cy="1117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8" name=""/>
          <p:cNvCxnSpPr/>
          <p:nvPr/>
        </p:nvCxnSpPr>
        <p:spPr>
          <a:xfrm flipH="1">
            <a:off x="1476000" y="3357720"/>
            <a:ext cx="1512000" cy="1512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" name=""/>
          <p:cNvSpPr/>
          <p:nvPr/>
        </p:nvSpPr>
        <p:spPr>
          <a:xfrm>
            <a:off x="4500720" y="4292640"/>
            <a:ext cx="1223640" cy="609480"/>
          </a:xfrm>
          <a:prstGeom prst="ellipse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ertificado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entero activ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" name=""/>
          <p:cNvCxnSpPr>
            <a:endCxn id="79" idx="1"/>
          </p:cNvCxnSpPr>
          <p:nvPr/>
        </p:nvCxnSpPr>
        <p:spPr>
          <a:xfrm flipH="1">
            <a:off x="4679280" y="3645000"/>
            <a:ext cx="253080" cy="737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1" name=""/>
          <p:cNvCxnSpPr>
            <a:stCxn id="79" idx="6"/>
          </p:cNvCxnSpPr>
          <p:nvPr/>
        </p:nvCxnSpPr>
        <p:spPr>
          <a:xfrm>
            <a:off x="5724360" y="4597200"/>
            <a:ext cx="2161080" cy="632520"/>
          </a:xfrm>
          <a:prstGeom prst="straightConnector1">
            <a:avLst/>
          </a:prstGeom>
          <a:ln w="9360">
            <a:solidFill>
              <a:srgbClr val="ff7c80"/>
            </a:solidFill>
            <a:miter/>
            <a:tailEnd len="med" type="triangle" w="med"/>
          </a:ln>
        </p:spPr>
      </p:cxnSp>
      <p:cxnSp>
        <p:nvCxnSpPr>
          <p:cNvPr id="82" name=""/>
          <p:cNvCxnSpPr>
            <a:stCxn id="79" idx="3"/>
          </p:cNvCxnSpPr>
          <p:nvPr/>
        </p:nvCxnSpPr>
        <p:spPr>
          <a:xfrm flipH="1">
            <a:off x="1331640" y="4812840"/>
            <a:ext cx="3348720" cy="1064520"/>
          </a:xfrm>
          <a:prstGeom prst="straightConnector1">
            <a:avLst/>
          </a:prstGeom>
          <a:ln w="9360">
            <a:solidFill>
              <a:srgbClr val="ff7c8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7237440" y="2347920"/>
            <a:ext cx="1727280" cy="4334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eller R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3" idx="2"/>
            <a:endCxn id="62" idx="1"/>
          </p:cNvCxnSpPr>
          <p:nvPr/>
        </p:nvCxnSpPr>
        <p:spPr>
          <a:xfrm flipH="1">
            <a:off x="7987680" y="2781360"/>
            <a:ext cx="113400" cy="272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85" name=""/>
          <p:cNvCxnSpPr/>
          <p:nvPr/>
        </p:nvCxnSpPr>
        <p:spPr>
          <a:xfrm flipV="1">
            <a:off x="6372000" y="292356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6" name=""/>
          <p:cNvSpPr/>
          <p:nvPr/>
        </p:nvSpPr>
        <p:spPr>
          <a:xfrm>
            <a:off x="3348000" y="5373720"/>
            <a:ext cx="1440000" cy="71928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ersionis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6" idx="1"/>
          </p:cNvCxnSpPr>
          <p:nvPr/>
        </p:nvCxnSpPr>
        <p:spPr>
          <a:xfrm flipH="1">
            <a:off x="2555640" y="5734080"/>
            <a:ext cx="79272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8" name=""/>
          <p:cNvSpPr/>
          <p:nvPr/>
        </p:nvSpPr>
        <p:spPr>
          <a:xfrm>
            <a:off x="2908440" y="6167520"/>
            <a:ext cx="1447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Arial"/>
              </a:rPr>
              <a:t>PAGAN PRECIO COLOCACIÓN VALORE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" dur="250" autoRev="1" fill="hold"/>
                                        <p:tgtEl>
                                          <p:spTgt spid="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7" dur="250" autoRev="1" fill="hold"/>
                                        <p:tgtEl>
                                          <p:spTgt spid="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79280" y="2421000"/>
            <a:ext cx="4335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dente de activos titulariz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ato de cesión: entrega activo y percibe prec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ede ser titular de valores junior (sobrecolatera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aparte: Titularizado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284720" y="2133720"/>
            <a:ext cx="0" cy="4724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784760" y="5373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861080" y="5145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965240" y="954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727360" y="12304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4360" y="990720"/>
            <a:ext cx="849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CL" sz="2400" spc="-1" strike="noStrike">
                <a:solidFill>
                  <a:srgbClr val="000000"/>
                </a:solidFill>
                <a:latin typeface="Arial"/>
              </a:rPr>
              <a:t>PERSPECTIVAS DE LAS PARTES INVOLUCR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79280" y="4581360"/>
            <a:ext cx="8964720" cy="7192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95280" y="2187720"/>
            <a:ext cx="38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RIGINADO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9280" y="4221000"/>
            <a:ext cx="3826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dministrador primario de activos titulariz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79280" y="3716280"/>
            <a:ext cx="4330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gún el activo, puede tener que asumir obligaciones que aseguren la existencia y solvencia del activ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849920" y="2133720"/>
            <a:ext cx="382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ITULARIZADOR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27640" y="2421000"/>
            <a:ext cx="4752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esionaria de activos titulariz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ontrato de cesión: recibe activo y paga prec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ujeto activo de obligaciones que asume el Origin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ontraparte: Origin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427640" y="3284640"/>
            <a:ext cx="4752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misora de Val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ontrato de Emisión: recibe producto de la colocación y se obliga al pago de los valores en el tiem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27640" y="3933720"/>
            <a:ext cx="4752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Forma patrimonio separ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porta los activos y otras obligaciones del Origin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porta la obligación de pago de los val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27640" y="479736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Mantiene su patrimonio común para su gi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427640" y="456408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Administrador maestro de la titular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08000" y="4653000"/>
            <a:ext cx="475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RT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4920" y="5013360"/>
            <a:ext cx="43354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Representa a los inversionistas en el ctto. de emi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Es “contraparte” de la Titularizadora en el ctto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de emisión, exige cumplimiento de sus obligac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ertifica el debido entero del activo del patrimonio separa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[Libera los fondos de la recaudación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00720" y="514044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i="1" lang="en-US" sz="1400" spc="-1" strike="noStrike">
                <a:solidFill>
                  <a:srgbClr val="000000"/>
                </a:solidFill>
                <a:latin typeface="Times New Roman"/>
              </a:rPr>
              <a:t>INVERSIONIS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484520" y="5373720"/>
            <a:ext cx="4335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Compran valores, pagan prec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Perciben pago de los valores en el tiem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on [casi] los únicos acreedores del patrimonio separado [éste no tiene patrimonio neto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</a:rPr>
              <a:t>Son la verdadera contraparte de la Titularizador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33cc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422440" y="84924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697400" y="765000"/>
            <a:ext cx="610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Arial"/>
              </a:rPr>
              <a:t>OBJETIVO DE LA ESTRUCTURA LEG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Arial"/>
              </a:rPr>
              <a:t>EN LA TITULAR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7680" y="26020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2133720"/>
            <a:ext cx="80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MX" sz="1600" spc="-1" strike="noStrike">
                <a:solidFill>
                  <a:srgbClr val="000000"/>
                </a:solidFill>
                <a:latin typeface="Arial"/>
              </a:rPr>
              <a:t>BLINDAR UN PATRIMONIO: SUS ACTIVOS, SUS FLUJOS Y SUS PAS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17680" y="29829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41360" y="29066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633760" y="2421000"/>
            <a:ext cx="618624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CTIV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onocidos y determinados desde un comienzo (¿sustituciones?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ropiedad del patrimonio separado (venta verdadera / acciones pauliana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Libres de graváme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No reconozcan derechos en favor de terceros (venta verdader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Los flujos sólo se perciban por el patrimonio separad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La reinversión de los excedentes de caj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Los mejoramientos creditic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PASIV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Conocidos y avaluados desde un comienz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Gastos por servic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Valores emitidos (preferentes / subordinado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eparación de otros pasivos de otros patrimonios separado de la mis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Titularizadora y de su patrimonio comú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Responsabilidades extracontractu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Aspectos tributari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Suerte del Originador no repercuta en patrimonio separado  (ej.: su quiebra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4360" y="2637000"/>
            <a:ext cx="18255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422440" y="84924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416960" y="765000"/>
            <a:ext cx="66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Arial"/>
              </a:rPr>
              <a:t>ASPECTOS LEGALES DEL MAYOR INTER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17680" y="26020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8360" y="2219400"/>
            <a:ext cx="8001000" cy="38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1800" spc="-1" strike="noStrike">
                <a:solidFill>
                  <a:srgbClr val="000000"/>
                </a:solidFill>
                <a:latin typeface="Arial"/>
              </a:rPr>
              <a:t>TIPOS </a:t>
            </a: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DE ACTIVOS, </a:t>
            </a:r>
            <a:r>
              <a:rPr b="1" i="1" lang="es-MX" sz="1800" spc="-1" strike="noStrike">
                <a:solidFill>
                  <a:srgbClr val="000000"/>
                </a:solidFill>
                <a:latin typeface="Arial"/>
              </a:rPr>
              <a:t>DESDE UN PUNTO DE VISTA LEG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ACTIVOS QUE SE INDEPENDIZAN DEL ORIGIN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CONTRATOS RE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UNIDAD DEL CONTRATO Y SUS CAUC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ACTIVOS QUE NO SE INDEPENDIZAN DEL ORIGIN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CESIONES DE CRÉDIT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QUE EMANAN DE CONTRATOS BILATERAL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DE EJECUCION DIFERIDA O TRACTO SUCES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EL PATRIMONIO SEPARADO Y SU CONTROL SOBRE LA EJECUCIÓN DE LAS OBLIGACIONES DEL ORIGIN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CREACION DE ACTIVOS ESPECIALES: FLUJOS FUTU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REGULACIÓN TEMÁTICA DE SU PROPIE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EL CONTROL DE LA EJECUCIÓN DE LAS OBLIGACIONES DEL ORIGIN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SUJECIÓN AL EVENTO DE INSOLVENCIA DEL DEUDOR DE LOS FLUJOS FUTUR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17680" y="29829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1360" y="29066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422440" y="84924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416960" y="765000"/>
            <a:ext cx="66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Arial"/>
              </a:rPr>
              <a:t>ASPECTOS LEGALES DEL MAYOR INTER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17680" y="26020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68360" y="2205000"/>
            <a:ext cx="8001000" cy="39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CESIONES DE ACTIVOS AL PATRIMONIO SEPA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RÉGIMEN SIMPLIFICADO DE CES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Central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Public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Costos y plaz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OPONIBLE AL DEUDOR Y SUS ACREED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Activos se restan de la prenda general de los acreedores del origin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RÉGIMEN EXTENSIBLE A DERECHOS, CRÉDITOS Y TÍTULOS </a:t>
            </a:r>
            <a:r>
              <a:rPr b="1" i="1" lang="es-ES" sz="1400" spc="-1" strike="noStrike" u="sng">
                <a:solidFill>
                  <a:srgbClr val="000000"/>
                </a:solidFill>
                <a:uFillTx/>
                <a:latin typeface="Arial"/>
              </a:rPr>
              <a:t>NOMINATIV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Aplicación del endoso de los títulos de crédito como méto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LA CLÁUSULA ANTI – CESIÓN, OBLIGACIÓN DE NO HAC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Un entorpecimiento general a la circulación de los créditos de contratos comerci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LA SECRECÍA DEL CLIENTE DE LOS CRÉDIT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La fricción entre la publicidad de los valores y la secrecía de los activos titulariz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17680" y="29829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360" y="29066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72000" y="2492280"/>
            <a:ext cx="3816360" cy="129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422440" y="84924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416960" y="765000"/>
            <a:ext cx="66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Arial"/>
              </a:rPr>
              <a:t>ASPECTOS LEGALES DEL MAYOR INTER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17680" y="26020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39640" y="2276640"/>
            <a:ext cx="8001000" cy="399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EFECTOS TRIBUTARIO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RENTA DEL ORIGIN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COSTO TRIBUTARIO DEL ACTIVO (SI AUN NO CONTABILIZADO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RECONOCIMIENTO EN EL TIEMP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RESPONSABILIDADES QUE ASUME: ¿EFECTO DE PASIVO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VENTA POR ANTICIPADO: COSTO FUTURO DE PRODUC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IMPUESTOS DE SELLOS (TIMBR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¿Qué si el activo subyacente ya pagó el impuesto? ¿Y si está exento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IVA EN LOS SERVIC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¿Cómo lo descarga el patrimonio separado?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¿Lo puede trasladar a los inversionistas (si ellos pueden descargarlo)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CL" sz="1400" spc="-1" strike="noStrike">
                <a:solidFill>
                  <a:srgbClr val="000000"/>
                </a:solidFill>
                <a:latin typeface="Arial"/>
              </a:rPr>
              <a:t>¿Es costo para el patrimonio separado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CERO EFECTO TRIBUTARIO PARA EL PATRIMONIO SEPARADO (O RECONOCIMIENTO DE CRÉDITOS A TENEDORES DE VALOR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7680" y="29829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1360" y="29066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422440" y="84924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416960" y="765000"/>
            <a:ext cx="66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Arial"/>
              </a:rPr>
              <a:t>ASPECTOS LEGALES DEL MAYOR INTER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17680" y="260208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24000" y="2133720"/>
            <a:ext cx="8577000" cy="359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800" spc="-1" strike="noStrike">
                <a:solidFill>
                  <a:srgbClr val="000000"/>
                </a:solidFill>
                <a:latin typeface="Arial"/>
              </a:rPr>
              <a:t>REGULACION ESTRUCTURAL QUE HACE VIABLE A LA SECURIT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ENTIDAD SEPARADA DEL ORIGINAD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DE GIRO ÚNICO, EMISORA DE VAL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CON FISCALIZACIÓN GUBERNAMENTAL (PERSPECTIVA DE LOS VALOR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SEPARACIÓN DE PATRIMONI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NORMAS ESPECIALES DE LIQUIDACIÓN Y QUIEBRAS DE LA SECURITIZADO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PERFECCIONAMIENTO DE LEGISLACIÓN COMÚ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SIMULACIÓN DE CONTRAT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ACCIONES REVOCATORIAS O PAULIAN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QUIEBRA DEL ORIGINADOR Y EL CRÉDITO DEL PATRIMONIO SEPARADO EN SU CONTR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400" spc="-1" strike="noStrike">
                <a:solidFill>
                  <a:srgbClr val="000000"/>
                </a:solidFill>
                <a:latin typeface="Arial"/>
              </a:rPr>
              <a:t>MULTIAGENTES DE GARANTÍASY SUS ACREED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17680" y="298296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41360" y="2906640"/>
            <a:ext cx="183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0T00:42:07Z</dcterms:created>
  <dc:creator>OBG</dc:creator>
  <dc:description/>
  <dc:language>en-US</dc:language>
  <cp:lastModifiedBy>Octavio Bofill</cp:lastModifiedBy>
  <dcterms:modified xsi:type="dcterms:W3CDTF">2006-05-02T22:37:58Z</dcterms:modified>
  <cp:revision>49</cp:revision>
  <dc:subject/>
  <dc:title>Aspectos Legales </dc:title>
</cp:coreProperties>
</file>