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03FC-CC0A-4820-A6BB-366BE367B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7AD4-658E-4AEE-936E-3E4DB1047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A85B-C002-4D3D-A382-465CC6167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FEFC-B5C5-4A2D-9A31-755579866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61D8-BD9A-4D5F-A41E-068EADD78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8993-B8C0-458C-8D16-C898A51C9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3751-BEA4-4FF5-882B-CFE93EDDF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BB7E-4D5F-43DA-96D4-09755BC1A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C77E-B4C7-4BD1-A61C-837B2BB16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342F-6DB6-480C-9A7D-1E1D0923C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A22C-8826-48BB-ACF6-C065E1A5F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FD07-8689-4A83-A1C3-D153912B1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A8EEE-2AF5-408D-9108-67B621150A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17524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02480" y="3124080"/>
            <a:ext cx="492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El Mercado Financier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624852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616560" y="5899320"/>
            <a:ext cx="33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3333cc"/>
                </a:solidFill>
                <a:latin typeface="Tahoma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0666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4008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6294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47640" y="836640"/>
            <a:ext cx="6199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Financiamiento de Empres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130880" y="6053040"/>
            <a:ext cx="1689120" cy="4003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11280" y="5229360"/>
            <a:ext cx="29527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Curso Electivo Derecho Comer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1° semestre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Profesor Octavio Bofill Genzs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E mail obofill@derecho.uchile.c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55640" y="549360"/>
            <a:ext cx="762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El Mercado Financi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496800" y="1339920"/>
            <a:ext cx="8107560" cy="49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Operaciones de crédito de dinero (OC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5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5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DL 455, Ley 18.010, un poco de histo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5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Concepto de OCD, la entrega y promesa de restit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5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Dinero, fungible, géne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5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Reajustes, unidades de reajustab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5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Realismo moneta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5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Reajuste como paridad de valor de compra del dinero en el tiem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5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Intereses corrientes, forma de determin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5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Costo de Fondos y la utilidad del acreed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5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Tasa máxima convenc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5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Impuesto de timbres y estampillas y OC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55640" y="549360"/>
            <a:ext cx="762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El Mercado Financi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496800" y="1339920"/>
            <a:ext cx="8107560" cy="51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Operaciones bancari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5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Art. 69 Ley General de Ban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5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Normativa Superban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5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n qué consiste el negocio banca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5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Dedicación a operaciones autoriza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5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Controles: solvencia del banco y sus accionis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5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Controles financieros y controles por ries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5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Intervención y liquidación: algo de histo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5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l financiamiento de corto plaz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5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Mercado monetario o money mark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5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l financiamiento hipoteca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5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Letras de crédito hipotecari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5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Mutuos hipotecarios endos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1280" y="1557360"/>
            <a:ext cx="792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ontraparte de la empresa que requiere financia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55640" y="549360"/>
            <a:ext cx="762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El Mercado Financi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493560" y="2060640"/>
            <a:ext cx="491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Mercado Real: transacción de bienes y servici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28400" y="2637000"/>
            <a:ext cx="65170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Mercado Financiero: transacción de dine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inero nace como medio de intermedi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eviene como bien en sí mism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inero es objeto de oferta y deman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volución permite hablar de mercado del dine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Mercado Financiero moderno es sustento del  Mercado 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73400" y="4505400"/>
            <a:ext cx="8289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Manifestaciones del Mercado Financie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Financiación directa: Instituciones Financieras, que son a su vez intermediari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Mercados de val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Mercado asegurador de personas: Vida, salud y pens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55640" y="549360"/>
            <a:ext cx="762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El Mercado Financi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72600" y="1460520"/>
            <a:ext cx="8442000" cy="47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Sectores del Mercado Financie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Mercado de dinero o monetario, corto plazo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liquidez, tradicionalmente bancario, expansión del crédito se ubica acá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Mercado de capitales o valores, mediano y largo plaz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Bolsas, Mercados de Valores y OT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Operadores son agentes o corredores, que no registran operacion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n sus balan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rédito bancario que participa en el Mercado de Valores los vincula y catapul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Mercado primario, primera venta, regist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esbalance en la inform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Mercado secundario, valores circulando entre inversionis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Información privilegia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55640" y="549360"/>
            <a:ext cx="762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El Mercado Financi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412920" y="1484280"/>
            <a:ext cx="8335800" cy="526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Mercado Financiero: Un mercado de intermediación má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Hay oferentes y demandantes de dine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Fija precio de los activos financieros que se transan: tasa de interés como precio del dine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inero no es el único activo, instrumentos financieros sustitutos del diner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Valores públicos del Estado o entes estatales o semi estatal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(origen histórico en el financiamiento de los Estados Nacionales modernos 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A que monopolizaron el “negocio americano”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Valores privados autoriza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erechos valor: representación de derechos, legitimidad, ejercicio, transfer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Valores derivados, futuros, opciones sobre activos financieros y del mercado 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55640" y="549360"/>
            <a:ext cx="762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El Mercado Financi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425520" y="1454040"/>
            <a:ext cx="8107200" cy="47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Regulación del Mercado Financiero, áreas de la regul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OBJETO DEL MERCADO FINANCIE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Instrumentos financieros, dinero, títul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Lectura valores negocia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SUJETOS DEL MERCADO FINANCIE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Entidades de crédito, agentes intermediarios y sus servic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ORGÁNICA DEL MERCADO DE VAL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Lectura Mercados de Valores y Superintendenci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Lectura tendenci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ACTOS Y CONTRATOS EN EL MERCADO FINANCIE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55640" y="549360"/>
            <a:ext cx="762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El Mercado Financi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96800" y="1339920"/>
            <a:ext cx="8107560" cy="53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ahoma"/>
              </a:rPr>
              <a:t>ACTOS Y CONTRATOS EN EL MERCADO FINANCIE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5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Contratos tradici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5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Mutuo o préstamo de dine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5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Títulos de crédi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5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Contrato de Cambio, Letra de camb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5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Pagar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5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Operaciones de crédito de din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5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Operaciones de dinero, art. 1559 C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5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DL 455, Ley 18.0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5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Operaciones bancari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5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Art. 69 Ley General de Ban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5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Normativa SuperBan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55640" y="549360"/>
            <a:ext cx="762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El Mercado Financi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425520" y="1454040"/>
            <a:ext cx="8107200" cy="497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ahoma"/>
              </a:rPr>
              <a:t>ACTOS Y CONTRATOS EN EL MERCADO FINANCIE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Créditos sindicad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Facturas / Facto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Lea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Operativo y Financie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Emisiones de Bon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Líneas de Bon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Financiamiento de infraestructura, la experiencia chilena, Monolin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Financiamiento Estructur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Securitiz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55640" y="549360"/>
            <a:ext cx="762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El Mercado Financi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496800" y="1611360"/>
            <a:ext cx="8107560" cy="42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Mutuo o préstamo de dine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15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3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Préstamo de uso y de consu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3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Obligaciones de género vs. de espec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3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l dinero como cosa fuing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3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Contrato re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3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Cumplimiento de obligación del acree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3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xcepción de contrato no cumpl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3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Nominalismo moneta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15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5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55640" y="549360"/>
            <a:ext cx="762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El Mercado Financi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468360" y="1536840"/>
            <a:ext cx="8107200" cy="615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Operaciones de din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3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3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Operaciones de dinero, art. 1559 C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3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Indemnización compensatoria y morato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3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l porcentaje o tasa como expresión del precio del dine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3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Adaptación a conceptos de la ley 18.0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3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Relación con DL 455, Ley 18.0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3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3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Operaciones dentro y fuera de bal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3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Financiamiento por el activo y por el pas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3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l ratio deuda patrimonio ne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3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3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5T21:09:26Z</dcterms:created>
  <dc:creator>asm</dc:creator>
  <dc:description/>
  <dc:language>en-US</dc:language>
  <cp:lastModifiedBy>Octavio Bofill</cp:lastModifiedBy>
  <dcterms:modified xsi:type="dcterms:W3CDTF">2006-05-02T02:33:42Z</dcterms:modified>
  <cp:revision>94</cp:revision>
  <dc:subject/>
  <dc:title>Sin título de diapositiva</dc:title>
</cp:coreProperties>
</file>