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6EB-DF96-4233-84B6-DE7C7898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7AF2-8DE0-4DBD-B2DA-87A73861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7CAB-5D4A-4236-9B0B-CD8DB2CE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740-E5C7-44DA-8CE5-6FAC70B5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8DA-7B4A-44A9-9BD7-8FCBC78A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0B4-1C2D-4CFE-B23E-7FCA1D2C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2A8B-9550-43AB-9F16-3F45D990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446E-4FBE-42EB-B925-9D038030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01E-97ED-4192-BDAB-26F5EB92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FF34-49C9-43D1-BD11-2A351918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B42A-72B9-474A-9F36-48066245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DA3A-AF39-431F-8C5E-6F3EB70E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74F2-7B85-4308-A864-585D17EB5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2480" y="3124080"/>
            <a:ext cx="49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836640"/>
            <a:ext cx="619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inanciamiento de Empre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522936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Electivo Derecho Comer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° semestre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derecho.uchile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96800" y="1339920"/>
            <a:ext cx="810756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de crédito de dinero (OC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L 455, Ley 18.010, un poco de his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cepto de OCD, la entrega y promesa de restit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nero, fungible, gén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ajustes, unidades de reajus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alismo mone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ajuste como paridad de valor de compra del dinero e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eses corrientes, forma de determ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sto de Fondos y la utilidad del acreed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asa máxima conve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mpuesto de timbres y estampillas y O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96800" y="1339920"/>
            <a:ext cx="810756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bancar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69 Ley General de Ban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tiva Superban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qué consiste el negocio banc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dicación a operaciones autor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oles: solvencia del banco y su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oles financieros y controles por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vención y liquidación: algo de his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financiamiento de corto pl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rcado monetario o money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financiamiento hipotec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etras de crédito hipotecar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utuos hipotecarios endos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55736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traparte de la empresa que requiere financi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93560" y="2060640"/>
            <a:ext cx="49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Real: transacción de bienes y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8400" y="2637000"/>
            <a:ext cx="6517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Financiero: transacción de din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nero nace como medio de intermed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viene como bien en sí m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nero es objeto de oferta y dem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volución permite hablar de mercado del din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Financiero moderno es sustento del  Mercado 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00" y="4505400"/>
            <a:ext cx="8289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anifestaciones del Mercado Financi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ación directa: Instituciones Financieras, que son a su vez intermedi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s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asegurador de personas: Vida, salud y pen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72600" y="1460520"/>
            <a:ext cx="84420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Sectores del Mercado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de dinero o monetario, corto plaz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quidez, tradicionalmente bancario, expansión del crédito se ubica ac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de capitales o valores, mediano y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olsas, Mercados de Valores y O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peradores son agentes o corredores, que no registran opera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sus bal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rédito bancario que participa en el Mercado de Valores los vincula y catapu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primario, primera venta, regis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balance en la 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secundario, valores circulando entre invers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formación privilegi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12920" y="1484280"/>
            <a:ext cx="833580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ercado Financiero: Un mercado de intermediación m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oferentes y demandantes de din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a precio de los activos financieros que se transan: tasa de interés como precio del din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nero no es el único activo, instrumentos financieros sustitutos del diner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Valores públicos del Estado o entes estatales o semi estat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origen histórico en el financiamiento de los Estados Nacionales modernos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A que monopolizaron el “negocio americano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Valores privados autoriz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valor: representación de derechos, legitimidad, ejercicio, transf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Valores derivados, futuros, opciones sobre activos financieros y del mercado 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25520" y="1454040"/>
            <a:ext cx="81072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Regulación del Mercado Financiero, áreas de la reg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OBJETO DEL MERCADO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Instrumentos financieros, dinero, tít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ectura valores negoc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UJETOS DEL MERCADO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ntidades de crédito, agentes intermediarios y sus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ORGÁNICA DEL 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ectura Mercados de Valores y Superintend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ectura tend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CTOS Y CONTRATOS EN EL MERCADO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96800" y="1339920"/>
            <a:ext cx="8107560" cy="53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ACTOS Y CONTRATOS EN EL MERCADO 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tratos tradi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utuo o préstamo de din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ítulos de créd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ato de Cambio, Letra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aga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de crédito de di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ciones de dinero, art. 1559 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L 455, Ley 18.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bancar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69 Ley General de Ban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tiva SuperBan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25520" y="1454040"/>
            <a:ext cx="810720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ACTOS Y CONTRATOS EN EL MERCADO 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éditos sindic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acturas / Fac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tivo y 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misiones de Bon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íneas de Bo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inanciamiento de infraestructura, la experiencia chilena, Monol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inanciamiento Estructu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curit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96800" y="1611360"/>
            <a:ext cx="8107560" cy="42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utuo o préstamo de din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éstamo de uso y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bligaciones de género vs. de espe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dinero como cosa fuin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ato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umplimiento de obligación del acree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xcepción de contrato no cump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minalismo mone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8360" y="1536840"/>
            <a:ext cx="8107200" cy="61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de di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ciones de dinero, art. 1559 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demnización compensatoria y mor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porcentaje o tasa como expresión del precio del din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daptación a conceptos de la ley 18.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lación con DL 455, Ley 18.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ciones dentro y fuera de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inanciamiento por el activo y por el p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ratio deuda patrimonio n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</cp:lastModifiedBy>
  <dcterms:modified xsi:type="dcterms:W3CDTF">2006-05-02T02:33:42Z</dcterms:modified>
  <cp:revision>94</cp:revision>
  <dc:subject/>
  <dc:title>Sin título de diapositiva</dc:title>
</cp:coreProperties>
</file>