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D3E-6CFD-4B18-9962-50144591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D94-E2D9-4767-9D0C-200BE3EB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E89-53CA-4A22-BA69-1C5628B9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E9A-5C0D-4CF3-B6A6-8FE877CE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326-7E4F-47EA-B772-9CCF7238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0C9-77CC-4950-84FC-600758BA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D94-0D8D-41CB-83FD-366CF485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4AD-33F7-4BFF-8729-337D2800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6A8-918C-4F50-843B-BFB57326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3E3-CFF8-4F9F-8FC2-F44CB296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68B-BD7A-4B64-B253-8D0AAB2B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78E-33E1-4717-BABA-C4884AE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7196-BE74-4BD0-BC7F-BA04C4200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2480" y="312408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96800" y="1339920"/>
            <a:ext cx="810756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 (O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, un poco de his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OCD, la entrega y promesa de re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nero, fungible, gé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s, unidades de reajus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lismo mon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 como paridad de valor de compra del dinero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eses corrientes, forma de 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sto de Fondos y la utilidad del acree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sa máxima conv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uesto de timbres y estampillas y O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96800" y="1339920"/>
            <a:ext cx="81075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qué consiste el negocio banc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dicación a operaciones autor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: solvencia del banco y su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 financieros y controles por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ención y liquidación: algo de his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de cort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rcado monetario o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hipotec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tras de crédito hipoteca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s hipotecarios endo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raparte de la empresa que requiere 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3560" y="2060640"/>
            <a:ext cx="49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Real: transacción de biene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400" y="2637000"/>
            <a:ext cx="651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: transacción de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ace como medio de intermed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viene como bien en sí m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es objeto de oferta y 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volución permite hablar de mercado del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 moderno es sustento del  Mercado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00" y="4505400"/>
            <a:ext cx="828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nifestaciones del Mercado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ción directa: Instituciones Financieras, que son a su vez intermedi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s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asegurador de personas: Vida, salud y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2600" y="1460520"/>
            <a:ext cx="8442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ctores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dinero o monetario, corto plaz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ez, tradicionalmente bancario, expansión del crédito se ubica ac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capitales o valores, mediano y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olsas, Mercados de Valores y O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peradores son agentes o corredores, que no registran oper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sus bal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rédito bancario que participa en el Mercado de Valores los vincula y catapu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primario, primera venta, regis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balance en la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secundario, valores circulando entre 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formación privilegi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2920" y="1484280"/>
            <a:ext cx="83358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ercado Financiero: Un mercado de intermediación 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ferentes y demandantes de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a precio de los activos financieros que se transan: tasa de interés como precio del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o es el único activo, instrumentos financieros sustitutos del din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úblicos del Estado o entes estatales o semi esta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origen histórico en el financiamiento de los Estados Nacionales moderno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A que monopolizaron el “negocio americano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rivados autor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valor: representación de derechos, legitimidad, ejercicio, trans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derivados, futuros, opciones sobre activos financieros y del mercado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5520" y="1454040"/>
            <a:ext cx="81072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gulación del Mercado Financiero, áreas de la reg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BJETO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strumentos financieros, dinero,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valores negoc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JETOS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tidades de crédito, agentes intermediarios y sus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RGÁNICA D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Mercados de Valores y 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96800" y="1339920"/>
            <a:ext cx="810756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atos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ítulos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de Cambio, Letra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ga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5520" y="1454040"/>
            <a:ext cx="81072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éditos sindic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uras / Fac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tivo y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iones de Bo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íneas de Bo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de infraestructura, la experiencia chilena, Monol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nanciamiento Estructu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ri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96800" y="1611360"/>
            <a:ext cx="810756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éstamo de uso y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género vs. de espe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dinero como cosa fuin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mplimiento de obligación del acr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cepción de contrato no cump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minalismo mon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536840"/>
            <a:ext cx="810720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d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demnización compensatoria y mo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orcentaje o tasa como expresión del precio del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aptación a conceptos de la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lación con DL 455,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ntro y fuera de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por el activo y por el 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ratio deuda patrimonio n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</cp:lastModifiedBy>
  <dcterms:modified xsi:type="dcterms:W3CDTF">2006-05-02T02:33:42Z</dcterms:modified>
  <cp:revision>94</cp:revision>
  <dc:subject/>
  <dc:title>Sin título de diapositiva</dc:title>
</cp:coreProperties>
</file>