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94D9-B447-4319-91D1-70A815AC1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DC49-23C5-4252-B1BD-D7C5F27CF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E0F7-FA30-4B84-B3D1-5C62FFD3A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A8C7-6F8B-4B02-9629-5FE452CD7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452D-DDB7-4301-9803-95D7EC831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5B15-7023-4E5C-9FA7-B5CAFC606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84D3-9E9A-4BB6-BE31-CF59AB15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058B-CFEC-438C-8605-E8FC56330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5A46-43A7-4B6A-B6B1-81566B98C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E717-F36A-439B-A57C-C41DFF94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19C5-4FCD-45BC-AE4B-EC95A7D2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F509-9D84-4485-BC17-A209339A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DC98E-B48E-4E1B-8565-A7CA930160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02480" y="3124080"/>
            <a:ext cx="492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El Mercado Financie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836640"/>
            <a:ext cx="6199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Financiamiento de Empres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11280" y="5229360"/>
            <a:ext cx="2952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Curso Electivo Derecho Comer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1° semestre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Profesor Octavio Bofill Genzs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E mail obofill@derecho.uchile.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55640" y="549360"/>
            <a:ext cx="76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El Mercado Financi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496800" y="1339920"/>
            <a:ext cx="8107560" cy="49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Operaciones de crédito de dinero (OC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L 455, Ley 18.010, un poco de histo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ncepto de OCD, la entrega y promesa de restit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inero, fungible, gén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Reajustes, unidades de reajust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Realismo monet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Reajuste como paridad de valor de compra del dinero en el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ntereses corrientes, forma de determin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sto de Fondos y la utilidad del acreed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Tasa máxima conven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mpuesto de timbres y estampillas y OC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55640" y="549360"/>
            <a:ext cx="76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El Mercado Financi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496800" y="1339920"/>
            <a:ext cx="8107560" cy="51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Operaciones bancari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rt. 69 Ley General de Ban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Normativa Superban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n qué consiste el negocio banc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edicación a operaciones autoriz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ntroles: solvencia del banco y sus accion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ntroles financieros y controles por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ntervención y liquidación: algo de histo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l financiamiento de corto pla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ercado monetario o money mar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l financiamiento hipotec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etras de crédito hipotecar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utuos hipotecarios endos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1280" y="1557360"/>
            <a:ext cx="79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ntraparte de la empresa que requiere financi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55640" y="549360"/>
            <a:ext cx="76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El Mercado Financi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93560" y="2060640"/>
            <a:ext cx="491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Mercado Real: transacción de bienes y servi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28400" y="2637000"/>
            <a:ext cx="65170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Mercado Financiero: transacción de din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inero nace como medio de intermedi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viene como bien en sí m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inero es objeto de oferta y deman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volución permite hablar de mercado del din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Mercado Financiero moderno es sustento del  Mercado 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3400" y="4505400"/>
            <a:ext cx="8289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Manifestaciones del Mercado Financi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inanciación directa: Instituciones Financieras, que son a su vez intermediar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Mercados de val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Mercado asegurador de personas: Vida, salud y pens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549360"/>
            <a:ext cx="76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El Mercado Financi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72600" y="1460520"/>
            <a:ext cx="844200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Sectores del Mercado Financi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Mercado de dinero o monetario, corto plazo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iquidez, tradicionalmente bancario, expansión del crédito se ubica ac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Mercado de capitales o valores, mediano y largo pla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Bolsas, Mercados de Valores y OT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peradores son agentes o corredores, que no registran operacion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n sus bal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rédito bancario que participa en el Mercado de Valores los vincula y catapul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Mercado primario, primera venta, regist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sbalance en la infor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Mercado secundario, valores circulando entre inversion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Información privilegi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549360"/>
            <a:ext cx="76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El Mercado Financi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12920" y="1484280"/>
            <a:ext cx="8335800" cy="52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Mercado Financiero: Un mercado de intermediación má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Hay oferentes y demandantes de din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ija precio de los activos financieros que se transan: tasa de interés como precio del din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inero no es el único activo, instrumentos financieros sustitutos del diner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Valores públicos del Estado o entes estatales o semi estatal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(origen histórico en el financiamiento de los Estados Nacionales modernos 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A que monopolizaron el “negocio americano”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Valores privados autoriz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rechos valor: representación de derechos, legitimidad, ejercicio, transfer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Valores derivados, futuros, opciones sobre activos financieros y del mercado 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55640" y="549360"/>
            <a:ext cx="76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El Mercado Financi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25520" y="1454040"/>
            <a:ext cx="810720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Regulación del Mercado Financiero, áreas de la regu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OBJETO DEL MERCADO FINANCI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Instrumentos financieros, dinero, títu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Lectura valores negoci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SUJETOS DEL MERCADO FINANCI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Entidades de crédito, agentes intermediarios y sus servi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ORGÁNICA DEL MERCADO DE VAL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Lectura Mercados de Valores y Superintendenc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Lectura tendenc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CTOS Y CONTRATOS EN EL MERCADO FINANCI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5640" y="549360"/>
            <a:ext cx="76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El Mercado Financi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96800" y="1339920"/>
            <a:ext cx="8107560" cy="53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ACTOS Y CONTRATOS EN EL MERCADO FINANCI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ontratos tradi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utuo o préstamo de din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Títulos de créd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ntrato de Cambio, Letra de 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agar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Operaciones de crédito de din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Operaciones de dinero, art. 1559 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L 455, Ley 18.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Operaciones bancari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rt. 69 Ley General de Ban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Normativa SuperBan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55640" y="549360"/>
            <a:ext cx="76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El Mercado Financi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25520" y="1454040"/>
            <a:ext cx="8107200" cy="49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ACTOS Y CONTRATOS EN EL MERCADO FINANCI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réditos sindicad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Facturas / Facto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Lea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Operativo y Financi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misiones de Bon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íneas de Bo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inanciamiento de infraestructura, la experiencia chilena, Monoli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Financiamiento Estructu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curit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55640" y="549360"/>
            <a:ext cx="76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El Mercado Financi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96800" y="1611360"/>
            <a:ext cx="8107560" cy="42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utuo o préstamo de din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réstamo de uso y de consu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Obligaciones de género vs. de espec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l dinero como cosa fuing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ntrato r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umplimiento de obligación del acree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xcepción de contrato no cumpl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Nominalismo monet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55640" y="549360"/>
            <a:ext cx="76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El Mercado Financi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68360" y="1536840"/>
            <a:ext cx="8107200" cy="61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Operaciones de din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Operaciones de dinero, art. 1559 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ndemnización compensatoria y morato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l porcentaje o tasa como expresión del precio del din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daptación a conceptos de la ley 18.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Relación con DL 455, Ley 18.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Operaciones dentro y fuera de bal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inanciamiento por el activo y por el pas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l ratio deuda patrimonio n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21:09:26Z</dcterms:created>
  <dc:creator>asm</dc:creator>
  <dc:description/>
  <dc:language>en-US</dc:language>
  <cp:lastModifiedBy>Octavio Bofill</cp:lastModifiedBy>
  <dcterms:modified xsi:type="dcterms:W3CDTF">2006-05-02T02:33:42Z</dcterms:modified>
  <cp:revision>94</cp:revision>
  <dc:subject/>
  <dc:title>Sin título de diapositiva</dc:title>
</cp:coreProperties>
</file>