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D7FE3-E04F-4F3E-85F0-78A7B5B0A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6E722-C3B4-4811-8A53-8DF031DE5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1F9E6-5624-461D-BFF4-AEBAB5444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78D3D-2CE5-4DB5-8C88-C2B0BD023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A0DDD-2F8E-4F09-8D5D-C48963E3B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F65CF-F680-4F7E-8857-66F4BB9FE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09157-A6BD-4E87-8442-8A37D61B4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F83AF-00A6-4F52-9E6D-63265BE57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00587-6AB6-47A9-AC8C-4DBB48843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B84C3-B589-4418-A112-13085FA62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11793-B585-470F-9FF1-96C342EA0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229C9-884C-49C5-B542-F04F5F584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7B091-2C17-4924-B556-3B42C8FC7E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09480" y="17524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15238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317760" y="3124080"/>
            <a:ext cx="268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99"/>
                </a:solidFill>
                <a:latin typeface="Tahoma"/>
              </a:rPr>
              <a:t>La Empres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520" y="624852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616560" y="5899320"/>
            <a:ext cx="33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3333cc"/>
                </a:solidFill>
                <a:latin typeface="Tahoma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38080" y="15238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066680" y="15238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400800" y="6324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629400" y="6324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58000" y="6324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547640" y="836640"/>
            <a:ext cx="6199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99"/>
                </a:solidFill>
                <a:latin typeface="Tahoma"/>
              </a:rPr>
              <a:t>Financiamiento de Empres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7130880" y="6053040"/>
            <a:ext cx="1689120" cy="4003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611280" y="5229360"/>
            <a:ext cx="29527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Curso Electivo Derecho Comer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1° semestre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Profesor Octavio Bofill Genzs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E mail obofill@derecho.uchile.c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09480" y="6400800"/>
            <a:ext cx="64771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250280" y="711360"/>
            <a:ext cx="637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99"/>
                </a:solidFill>
                <a:latin typeface="Tahoma"/>
              </a:rPr>
              <a:t>Representación financiera del Capit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7" name="" descr=""/>
          <p:cNvPicPr/>
          <p:nvPr/>
        </p:nvPicPr>
        <p:blipFill>
          <a:blip r:embed="rId1"/>
          <a:stretch/>
        </p:blipFill>
        <p:spPr>
          <a:xfrm>
            <a:off x="7203960" y="623736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318" name=""/>
          <p:cNvSpPr/>
          <p:nvPr/>
        </p:nvSpPr>
        <p:spPr>
          <a:xfrm>
            <a:off x="637560" y="1916280"/>
            <a:ext cx="105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 u="sng">
                <a:solidFill>
                  <a:srgbClr val="000000"/>
                </a:solidFill>
                <a:uFillTx/>
                <a:latin typeface="Tahoma"/>
              </a:rPr>
              <a:t>ACTIV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611280" y="2349360"/>
            <a:ext cx="132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Circulan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04440" y="2781360"/>
            <a:ext cx="60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Fij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589320" y="3213000"/>
            <a:ext cx="715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Otr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358800" y="1882800"/>
            <a:ext cx="104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 u="sng">
                <a:solidFill>
                  <a:srgbClr val="000000"/>
                </a:solidFill>
                <a:uFillTx/>
                <a:latin typeface="Tahoma"/>
              </a:rPr>
              <a:t>PASIV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273480" y="2349360"/>
            <a:ext cx="2427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Acreedores Largo Plaz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275640" y="2781360"/>
            <a:ext cx="2404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Acreedores Corto Plaz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285720" y="3429000"/>
            <a:ext cx="175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 u="sng">
                <a:solidFill>
                  <a:srgbClr val="000000"/>
                </a:solidFill>
                <a:uFillTx/>
                <a:latin typeface="Tahoma"/>
              </a:rPr>
              <a:t>Patrimonio Ne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282840" y="3932280"/>
            <a:ext cx="21481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Capital Pag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Utilidades / Pérdid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Reserv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Revalorizacio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361200" y="2492280"/>
            <a:ext cx="181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 u="sng">
                <a:solidFill>
                  <a:srgbClr val="000000"/>
                </a:solidFill>
                <a:uFillTx/>
                <a:latin typeface="Tahoma"/>
              </a:rPr>
              <a:t>PASIVO EXIGI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11280" y="1413000"/>
            <a:ext cx="590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000000"/>
                </a:solidFill>
                <a:uFillTx/>
                <a:latin typeface="Tahoma"/>
              </a:rPr>
              <a:t>Balance</a:t>
            </a: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 – </a:t>
            </a:r>
            <a:r>
              <a:rPr b="0" lang="es-CL" sz="1800" spc="-1" strike="noStrike" u="sng">
                <a:solidFill>
                  <a:srgbClr val="000000"/>
                </a:solidFill>
                <a:uFillTx/>
                <a:latin typeface="Tahoma"/>
              </a:rPr>
              <a:t>Fotografía, estático - Patrimon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339080" y="5229360"/>
            <a:ext cx="239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SUSTENTO DEL ACTIV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303800" y="5191200"/>
            <a:ext cx="244800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H="1">
            <a:off x="1258920" y="5877000"/>
            <a:ext cx="417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flipV="1">
            <a:off x="1258920" y="486900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933560" y="6021360"/>
            <a:ext cx="212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Ecuación de Suma 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979640" y="6021360"/>
            <a:ext cx="201600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5435640" y="558972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484360" y="1916280"/>
            <a:ext cx="0" cy="30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940360" y="2421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084720" y="242100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H="1">
            <a:off x="5940000" y="306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217400" y="187812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/>
          <p:nvPr/>
        </p:nvSpPr>
        <p:spPr>
          <a:xfrm>
            <a:off x="1874880" y="21985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874880" y="2125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874880" y="25574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874880" y="25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874880" y="29923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874880" y="2919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715320" y="2022480"/>
            <a:ext cx="366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Derechos y obligaciones recíproc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30360" y="2637000"/>
            <a:ext cx="7913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Su existencia determina la capacidad de la empresa de desarrollar su actividad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su inexistencia es un límite a la misma capac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6920" y="3495600"/>
            <a:ext cx="7632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Desvinculación del patrimonio del empresario, de hecho la inversión que hace el      empresario en la empresa es parte del activo del empresari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1185840" y="3862440"/>
            <a:ext cx="21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723480" y="692280"/>
            <a:ext cx="176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Tahoma"/>
              </a:rPr>
              <a:t>Financis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424440" y="1557360"/>
            <a:ext cx="437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Su independencia respecto de la empres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826920" y="4216320"/>
            <a:ext cx="7490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Se registran en el pasivo del balance de la empresa (la empresa siempre está en deuda con ello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38120" y="5253120"/>
            <a:ext cx="4191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Quiénes son: capitalistas y prestamist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217400" y="187812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384" name=""/>
          <p:cNvSpPr/>
          <p:nvPr/>
        </p:nvSpPr>
        <p:spPr>
          <a:xfrm>
            <a:off x="1874880" y="21985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874880" y="2125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874880" y="25574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874880" y="25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874880" y="29923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874880" y="2919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12440" y="2492280"/>
            <a:ext cx="429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Dueños de la propiedad sobre la empres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826920" y="2924280"/>
            <a:ext cx="763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Poseen la capacidad de disponer, usar y gozar de la empres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3694320" y="692280"/>
            <a:ext cx="182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Tahoma"/>
              </a:rPr>
              <a:t>Capitalis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826920" y="3424320"/>
            <a:ext cx="7490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No son los dueños de los activos de la empresa. La empresa en cuanto sujeto y obje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55840" y="1724040"/>
            <a:ext cx="189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Los capitalist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6920" y="4221000"/>
            <a:ext cx="7490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Son los primeros administradores de la empresa y sus activos; la representan en la contratación de sus pasiv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826920" y="5589720"/>
            <a:ext cx="7490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Son responsables subsidiarios por los pasivos de la empresa; limitaciones y ficciones leg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26920" y="5084640"/>
            <a:ext cx="749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Capital de riesgo, últimos en la prelación de pa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217400" y="187812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2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413" name=""/>
          <p:cNvSpPr/>
          <p:nvPr/>
        </p:nvSpPr>
        <p:spPr>
          <a:xfrm>
            <a:off x="1874880" y="21985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874880" y="2125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874880" y="25574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1874880" y="25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1874880" y="29923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874880" y="2919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694320" y="692280"/>
            <a:ext cx="182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Tahoma"/>
              </a:rPr>
              <a:t>Capitalis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555840" y="1724040"/>
            <a:ext cx="189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Los capitalist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826920" y="2276640"/>
            <a:ext cx="7490160" cy="384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Poseen derechos económicos y polític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Correlación con los derechos de los acreedore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Limitaciones legales, estatutarias y contractuales de los derechos de los accionistas, derivadas de la financiació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Derecho al capital y distribucio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Derechos a los dividend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Actos de administración con efectos sobre activos y pasivos de la empresa: su preeminencia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Ejemplo de los convenios limitativos 111 LM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Los covena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Cuasi accionistas: acreedores beneficiarios de derechos políticos, acreedores prendarios con prendas sobre acciones, bonistas u opciones con derecho a converti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217400" y="187812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6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437" name=""/>
          <p:cNvSpPr/>
          <p:nvPr/>
        </p:nvSpPr>
        <p:spPr>
          <a:xfrm>
            <a:off x="1874880" y="21985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1874880" y="2125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1874880" y="25574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874880" y="25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1874880" y="29923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874880" y="2919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09480" y="1268280"/>
            <a:ext cx="8315640" cy="648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Autonomía patrimonial de la empres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Terceros contratantes ejercen sus derechos sobre los bienes de la empres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con abstracción del patrimonio de los capitalist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Responsabilidad de los capitalista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Subsidiaria 2095 C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Directa 370 C de 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Ilimita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Limita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Acreedores personales de un capitalis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Carecen de derechos sobre bienes de la empres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Derechos sobre dividendos y remanente del capitalista 380 C de 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No comparten posiciones con los acreedores de la empresa, se subordin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a és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Subordinación de los derechos del capitalista 404, 413 C de 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Prohibición de extraer montos mayores a los estipulad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Obligación de repartir bienes antes de satisfacer a prestamist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Disminución capital SA, arts. 28 y 29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Liquidación e insolven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697560" y="692280"/>
            <a:ext cx="182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Tahoma"/>
              </a:rPr>
              <a:t>Capitalis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97240" y="1557360"/>
            <a:ext cx="23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4217400" y="187812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0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461" name=""/>
          <p:cNvSpPr/>
          <p:nvPr/>
        </p:nvSpPr>
        <p:spPr>
          <a:xfrm>
            <a:off x="1874880" y="21985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1874880" y="2125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1874880" y="25574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874880" y="25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1874880" y="29923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1874880" y="2919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687600" y="2060640"/>
            <a:ext cx="6149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Representación contable del derecho de los capitalist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No tiene correlativo en activ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Importancia en el nacimiento y en la extinción de la empres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Permanencia en el tiemp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Sentido impropio de garantía a los acreedores de la empres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3694320" y="692280"/>
            <a:ext cx="182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Tahoma"/>
              </a:rPr>
              <a:t>Capitalis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80680" y="1557360"/>
            <a:ext cx="1324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El Capit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459720" y="3668760"/>
            <a:ext cx="2955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Principios que lo inform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914040" y="4230720"/>
            <a:ext cx="27439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Determin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Debe ser ún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Estabil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Aumento y reduc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4217400" y="187812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6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487" name=""/>
          <p:cNvSpPr/>
          <p:nvPr/>
        </p:nvSpPr>
        <p:spPr>
          <a:xfrm>
            <a:off x="1874880" y="21985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1874880" y="2125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1874880" y="25574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74880" y="25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1874880" y="29923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1874880" y="2919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613080" y="2060640"/>
            <a:ext cx="88275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Título puede derivar de operaciones de crédito de dinero (financieros) 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del suministro de bienes y servicios con saldo de precio / ejecución diferida (proveedor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Los habrá preferentes o valist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Preferencias dicen relación con la totalidad del activo o con ciertos bienes del activ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Los habrá senior o junio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3592440" y="69228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Tahoma"/>
              </a:rPr>
              <a:t>Prestamis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516960" y="1557360"/>
            <a:ext cx="28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Acreedores de la empres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514800" y="3668760"/>
            <a:ext cx="383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No participan del riesgo del negoc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631800" y="4246560"/>
            <a:ext cx="82393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Cobran una tarifa fija por proporcionar capital a la empres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En caso de riesgo de solvencia tienen derecho a aceler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Se pagan con preferencia a los capitalist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Gozan de protecciones contractuales o legales para salvaguardar su derecho 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prenda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Administran excepcionalmente, ref. quiebra, designación de síndico, realización 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bienes, acciones oblicu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4217400" y="187812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2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513" name=""/>
          <p:cNvSpPr/>
          <p:nvPr/>
        </p:nvSpPr>
        <p:spPr>
          <a:xfrm>
            <a:off x="1874880" y="21985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1874880" y="2125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1874880" y="25574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1874880" y="25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1874880" y="29923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919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833760" y="2060640"/>
            <a:ext cx="8463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Bancos e Instituciones Financieras -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Grupos empresariales controladores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Cías. de Seguros de Vida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–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Fondos de Invers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Fondos de Pensiones -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Fondos de Pensio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Parabancarios -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Fondos Mutu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521280" y="1557360"/>
            <a:ext cx="6675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Grandes prestadores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–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Grandes capitalist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383040" y="3668760"/>
            <a:ext cx="494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Administración empresarial y gestión financie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788040" y="4005360"/>
            <a:ext cx="7928280" cy="25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Calce de plazos - liquide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Largo plazo &gt; 1 añ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Corto plazo &lt; 1 año o porción corta del lar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Calce de monedas : ingresos vs. pasivos exigibles, cross currency swap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o financiamiento en misma mone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Calce de tasas: típicamente para quienes giran en el negocio de prestar, activo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financieros vs. pasivos financieros – hedge de tas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Precio (tasas), garantías, costos de transacción, plazos de ejecu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Riesgo solvencia, garantías de crédito, clasificación del ries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3592440" y="69228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Tahoma"/>
              </a:rPr>
              <a:t>Prestamis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11280" y="1557360"/>
            <a:ext cx="792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¿Concepto jurídico o económico?  Importan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55640" y="549360"/>
            <a:ext cx="762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Tahoma"/>
              </a:rPr>
              <a:t>La Empresa. Explicación, elementos. Derrotero</a:t>
            </a:r>
            <a:r>
              <a:rPr b="0" lang="es-CL" sz="3600" spc="-1" strike="noStrike">
                <a:solidFill>
                  <a:srgbClr val="000099"/>
                </a:solidFill>
                <a:latin typeface="Tahoma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500400" y="2060640"/>
            <a:ext cx="433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Sin duda nace como concepto económ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33240" y="2421000"/>
            <a:ext cx="525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Hay conjunción de bienes, personas y activ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97680" y="2852640"/>
            <a:ext cx="241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Hay organiz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17480" y="3284640"/>
            <a:ext cx="226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Hay fin de luc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72760" y="3860640"/>
            <a:ext cx="201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¿Unidad jurídica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44240" y="4437000"/>
            <a:ext cx="819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Posibilidad de encontrar </a:t>
            </a:r>
            <a:r>
              <a:rPr b="0" lang="es-CL" sz="1600" spc="-1" strike="noStrike" u="sng">
                <a:solidFill>
                  <a:srgbClr val="000000"/>
                </a:solidFill>
                <a:uFillTx/>
                <a:latin typeface="Tahoma"/>
              </a:rPr>
              <a:t>criterio único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que permita delimitar el </a:t>
            </a:r>
            <a:r>
              <a:rPr b="0" lang="es-CL" sz="1600" spc="-1" strike="noStrike" u="sng">
                <a:solidFill>
                  <a:srgbClr val="000000"/>
                </a:solidFill>
                <a:uFillTx/>
                <a:latin typeface="Tahoma"/>
              </a:rPr>
              <a:t>exacto alc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de la “</a:t>
            </a:r>
            <a:r>
              <a:rPr b="0" lang="es-CL" sz="1600" spc="-1" strike="noStrike" u="sng">
                <a:solidFill>
                  <a:srgbClr val="000000"/>
                </a:solidFill>
                <a:uFillTx/>
                <a:latin typeface="Tahoma"/>
              </a:rPr>
              <a:t>empresa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”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02200" y="5157720"/>
            <a:ext cx="708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Ejemplos en la transferencia, gravamen, patrimonio de afectació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68600" y="5661000"/>
            <a:ext cx="59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Posiciones frente al “</a:t>
            </a:r>
            <a:r>
              <a:rPr b="0" lang="es-CL" sz="1600" spc="-1" strike="noStrike" u="sng">
                <a:solidFill>
                  <a:srgbClr val="000000"/>
                </a:solidFill>
                <a:uFillTx/>
                <a:latin typeface="Tahoma"/>
              </a:rPr>
              <a:t>criterio unificador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” de la empres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09480" y="6400800"/>
            <a:ext cx="64771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48840" y="1916280"/>
            <a:ext cx="6396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Personalidad jurídica              ficción técnica arbitraria (EIR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187280" y="549360"/>
            <a:ext cx="6870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7275600" y="619776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705600" y="4076640"/>
            <a:ext cx="84283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Organiz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Trasciende a los bienes, valores no se  condicen necesariamente con los bienes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sino con el elemento volitivo que los organiz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276720" y="1989000"/>
            <a:ext cx="431640" cy="144720"/>
          </a:xfrm>
          <a:custGeom>
            <a:avLst/>
            <a:gdLst>
              <a:gd name="textAreaLeft" fmla="*/ 67320 w 431640"/>
              <a:gd name="textAreaRight" fmla="*/ 378000 w 431640"/>
              <a:gd name="textAreaTop" fmla="*/ 36000 h 144720"/>
              <a:gd name="textAreaBottom" fmla="*/ 108720 h 144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19120" y="2576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44840" y="2532240"/>
            <a:ext cx="748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Patrimonio separado               argumento circular, dónde empieza y termi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276720" y="2637000"/>
            <a:ext cx="380880" cy="144360"/>
          </a:xfrm>
          <a:custGeom>
            <a:avLst/>
            <a:gdLst>
              <a:gd name="textAreaLeft" fmla="*/ 59400 w 380880"/>
              <a:gd name="textAreaRight" fmla="*/ 333360 w 380880"/>
              <a:gd name="textAreaTop" fmla="*/ 36000 h 144360"/>
              <a:gd name="textAreaBottom" fmla="*/ 108360 h 1443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58960" y="3068640"/>
            <a:ext cx="161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Universal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900000" y="3573360"/>
            <a:ext cx="1149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Activ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203840" y="692280"/>
            <a:ext cx="686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Tahoma"/>
              </a:rPr>
              <a:t>La Empresa. Explicación, elementos. Derrot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196520" y="191628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5280" y="1771560"/>
            <a:ext cx="7921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Derecho mercantil y Empresa se yuxtapon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854360" y="24541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6840" y="4005360"/>
            <a:ext cx="117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Supon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90600" y="2408400"/>
            <a:ext cx="123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Empres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854360" y="23814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854360" y="2597040"/>
            <a:ext cx="21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854360" y="2670120"/>
            <a:ext cx="21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854360" y="2525760"/>
            <a:ext cx="21744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196720" y="2421000"/>
            <a:ext cx="532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Fondo de comercio o establecimiento, (manifestació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54360" y="2813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854360" y="2814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854360" y="2957400"/>
            <a:ext cx="21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854360" y="3030480"/>
            <a:ext cx="21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854360" y="2886120"/>
            <a:ext cx="21744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854360" y="32479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854360" y="3174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854360" y="3390840"/>
            <a:ext cx="21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854360" y="3463920"/>
            <a:ext cx="21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854360" y="3319560"/>
            <a:ext cx="21744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61520" y="2852640"/>
            <a:ext cx="608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Sociedad            ente jurídico per se, (empresario, no empres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438360" y="2957400"/>
            <a:ext cx="432000" cy="111240"/>
          </a:xfrm>
          <a:prstGeom prst="rightArrow">
            <a:avLst>
              <a:gd name="adj1" fmla="val 50000"/>
              <a:gd name="adj2" fmla="val 970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9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38480" y="3284640"/>
            <a:ext cx="6650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EIRL             creación jurídica que presupone al concepto económico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                 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(distorsión)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079800" y="3389400"/>
            <a:ext cx="431640" cy="110880"/>
          </a:xfrm>
          <a:prstGeom prst="rightArrow">
            <a:avLst>
              <a:gd name="adj1" fmla="val 50000"/>
              <a:gd name="adj2" fmla="val 97321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39080" y="4508640"/>
            <a:ext cx="417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Ejercicio profesional (medio de sustento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10280" y="5013360"/>
            <a:ext cx="484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de actividad económica (que proporciona lucro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10560" y="5516640"/>
            <a:ext cx="772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consistente en la producción, intermediación, prestación de bienes o servici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826920" y="5661000"/>
            <a:ext cx="2764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203840" y="692280"/>
            <a:ext cx="686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Tahoma"/>
              </a:rPr>
              <a:t>La Empresa. Explicación, elementos. Derrot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217400" y="187812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1874880" y="21985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874880" y="2125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874880" y="25574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874880" y="25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874880" y="29923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874880" y="2919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39440" y="2022480"/>
            <a:ext cx="4439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Organización de los factores de la activ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7680" y="2637000"/>
            <a:ext cx="4365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Armonía y proporcionalidad entre fact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92640" y="3357720"/>
            <a:ext cx="479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Desvinculación del patrimonio del empresario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891720" y="3613320"/>
            <a:ext cx="6014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(       desvinculación responsabilidad            elemento jurídico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427640" y="3718080"/>
            <a:ext cx="431640" cy="142560"/>
          </a:xfrm>
          <a:prstGeom prst="rightArrow">
            <a:avLst>
              <a:gd name="adj1" fmla="val 50000"/>
              <a:gd name="adj2" fmla="val 7569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185840" y="3789360"/>
            <a:ext cx="21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185840" y="3862440"/>
            <a:ext cx="21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185840" y="3718080"/>
            <a:ext cx="21744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203840" y="692280"/>
            <a:ext cx="686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Tahoma"/>
              </a:rPr>
              <a:t>La Empresa. Explicación, elementos. Derrot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31360" y="1557360"/>
            <a:ext cx="117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Supon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68360" y="2060640"/>
            <a:ext cx="792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Actividad organizadora del Empresar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523080" y="1523880"/>
            <a:ext cx="124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 u="sng">
                <a:solidFill>
                  <a:srgbClr val="000000"/>
                </a:solidFill>
                <a:uFillTx/>
                <a:latin typeface="Tahoma"/>
              </a:rPr>
              <a:t>Elemen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12640" y="2492280"/>
            <a:ext cx="605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Se organizan elementos materiales, inmateriales y human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41880" y="2886120"/>
            <a:ext cx="286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En una actuación dinám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6880" y="3246480"/>
            <a:ext cx="4808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Hacia una actividad económica determinada (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92920" y="3678120"/>
            <a:ext cx="4206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Que intenta obtener la máxima ganan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98960" y="4437000"/>
            <a:ext cx="1449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Patrimon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66280" y="4869000"/>
            <a:ext cx="725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Cosas corporales (dinero, inventario, bienes de producción, mercadería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61960" y="5268960"/>
            <a:ext cx="629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Cosas incorporales (propiedad industrial, créditos, inversion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00200" y="5661000"/>
            <a:ext cx="244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Deudas y obligacio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203840" y="692280"/>
            <a:ext cx="686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Tahoma"/>
              </a:rPr>
              <a:t>La Empresa. Explicación, elementos. Derrot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68360" y="2060640"/>
            <a:ext cx="792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Relaciones incorpóre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646560" y="2603520"/>
            <a:ext cx="113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Clientel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5200" y="2997360"/>
            <a:ext cx="249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Expectativas (Chance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203840" y="692280"/>
            <a:ext cx="686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Tahoma"/>
              </a:rPr>
              <a:t>La Empresa. Explicación, elementos. Derrot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09480" y="6400800"/>
            <a:ext cx="64771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808200" y="1628640"/>
            <a:ext cx="16761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246320" y="1643040"/>
            <a:ext cx="98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Capi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64080" y="1652760"/>
            <a:ext cx="227988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Financiami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855720" y="4317840"/>
            <a:ext cx="13683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Gas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419640" y="3484440"/>
            <a:ext cx="1511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Ingres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437160" y="3236760"/>
            <a:ext cx="10083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Ren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437160" y="3813120"/>
            <a:ext cx="20224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Capitaliz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855720" y="2660760"/>
            <a:ext cx="1728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Invers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855720" y="3525840"/>
            <a:ext cx="13683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Cos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400800" y="2660760"/>
            <a:ext cx="1044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Pag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352320" y="609480"/>
            <a:ext cx="215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99"/>
                </a:solidFill>
                <a:latin typeface="Tahoma"/>
              </a:rPr>
              <a:t>El Capit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7203960" y="623736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 flipH="1">
            <a:off x="2655720" y="1844640"/>
            <a:ext cx="2563920" cy="23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59280" y="4653000"/>
            <a:ext cx="24476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Creación del val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000080" y="5541840"/>
            <a:ext cx="34275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Presentación Dinámica</a:t>
            </a: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20800" y="2085840"/>
            <a:ext cx="0" cy="57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720800" y="302112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720800" y="388620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6084720" y="2421000"/>
            <a:ext cx="0" cy="24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379560" y="4379760"/>
            <a:ext cx="133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(Pérdida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500720" y="5516640"/>
            <a:ext cx="342720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Estática</a:t>
            </a: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627280" y="2852640"/>
            <a:ext cx="79236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V="1">
            <a:off x="2268360" y="3715920"/>
            <a:ext cx="115128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flipV="1">
            <a:off x="4211640" y="386028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580000" y="486900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556000" y="2060640"/>
            <a:ext cx="34560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Diferencia Ingresos y cos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Máximo valor pres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09480" y="6400800"/>
            <a:ext cx="64771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39640" y="1628640"/>
            <a:ext cx="208764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Capitalis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348000" y="1628640"/>
            <a:ext cx="20160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Prestamis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300720" y="1700280"/>
            <a:ext cx="20163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Financis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044800" y="609480"/>
            <a:ext cx="477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99"/>
                </a:solidFill>
                <a:latin typeface="Tahoma"/>
              </a:rPr>
              <a:t>Estructura del Capit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7203960" y="623736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/>
          <p:nvPr/>
        </p:nvSpPr>
        <p:spPr>
          <a:xfrm>
            <a:off x="1547640" y="2133720"/>
            <a:ext cx="0" cy="57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843280" y="184464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987640" y="170028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651640" y="184464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651640" y="198900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7308720" y="21319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718560" y="2708280"/>
            <a:ext cx="1471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Propietari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755640" y="3141720"/>
            <a:ext cx="1320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Accionist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752400" y="3573360"/>
            <a:ext cx="91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Soci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740160" y="4005360"/>
            <a:ext cx="1291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Riesgo 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negoc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728280" y="4581360"/>
            <a:ext cx="167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Renta vari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716760" y="5013360"/>
            <a:ext cx="1530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Acreed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contingen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inexigib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441960" y="2674800"/>
            <a:ext cx="189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Mutuantes, etc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463920" y="3141720"/>
            <a:ext cx="139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Acreed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457440" y="3573360"/>
            <a:ext cx="209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Exigibles, efectiv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452760" y="443700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No financier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(Proveedor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456360" y="5084640"/>
            <a:ext cx="231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Capitalistas (cuent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de socio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509160" y="2762280"/>
            <a:ext cx="1605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Proporcion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financiamie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a la Empresa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sustentan 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patrimon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465720" y="4005360"/>
            <a:ext cx="139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Financier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356000" y="21319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5T21:09:26Z</dcterms:created>
  <dc:creator>asm</dc:creator>
  <dc:description/>
  <dc:language>en-US</dc:language>
  <cp:lastModifiedBy>Octavio Bofill</cp:lastModifiedBy>
  <dcterms:modified xsi:type="dcterms:W3CDTF">2006-04-10T02:21:31Z</dcterms:modified>
  <cp:revision>81</cp:revision>
  <dc:subject/>
  <dc:title>Sin título de diapositiva</dc:title>
</cp:coreProperties>
</file>