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84A-33B5-490C-AF87-5AB65599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763-4702-47B2-A702-8FC44A23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4E5-9D57-4C3A-B52A-C372D4BE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A09-BF17-40F2-ACA2-83AEAC4E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B88-9152-4CA1-BFA8-9073EB54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B85-8239-4E17-87E0-CA38F43A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AAC-0982-473F-805E-641927C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E12-544D-415F-B412-265CF1E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FAE-03C6-4997-81ED-18396436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AF6-8FA8-4454-95F1-5522AEF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1CD-8DD8-48D3-AB5F-44345315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C0A-B373-40E0-B137-4B658FC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01E0-2268-42C2-BE76-0164EA1B6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4-10T02:21:31Z</dcterms:modified>
  <cp:revision>81</cp:revision>
  <dc:subject/>
  <dc:title>Sin título de diapositiva</dc:title>
</cp:coreProperties>
</file>