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A49-59B1-4455-A29E-E157D417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8B8-E957-41DD-A95F-E39991E0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4E3-BF42-4085-8D21-A1C1BEE7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4EE-76EC-415B-8CA3-30F716D4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23D-0630-4B1C-8F11-49A4D26E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2CC-EFEE-410E-9F9E-F03D8FDE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FC5-D071-41CE-A393-C2C1C67D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71A-9798-437D-A3C4-178FDA7C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FBA-2BF1-4AB1-988C-02E17559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150-7D2D-418C-B727-367768F4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1CF-29AA-44C5-9FC4-38DEE627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670-36A4-49B4-A4FA-74F7C4B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C319-9072-49E0-A3D0-225036B61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3424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22100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276640"/>
            <a:ext cx="74901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lación con los derechos de los acree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mitaciones legales, estatutarias y contractuales de los derechos de los accionistas, derivadas de la financi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al capital y distribu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a los divide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s de administración con efectos sobre activos y pasivos de la empresa: su preeminen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 de los convenios limitativos 11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v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si accionistas: acreedores beneficiarios de derechos políticos, acreedores prendarios con prendas sobre acciones, bonistas u opciones con derecho a convert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68280"/>
            <a:ext cx="831564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ción e in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8040" y="4005360"/>
            <a:ext cx="7928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(tasas), garantías, costos de transacción, plazos de ejec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solvencia, garantías de crédito, clasificación de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48444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0" y="206064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iferencia Ingre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áximo valor pre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4-10T02:21:31Z</dcterms:modified>
  <cp:revision>81</cp:revision>
  <dc:subject/>
  <dc:title>Sin título de diapositiva</dc:title>
</cp:coreProperties>
</file>