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3D232-BA7F-4CD8-A39D-37858B01CA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EA242-03FF-4EBC-8198-21A874C1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9993C-6190-418A-8171-AA377A876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A8644-8F8E-4010-BE29-1B8FC9311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C1089-279D-4A5E-A868-603F38FC2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81BF-AC0B-4CFC-8904-1307EFBAF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943E-8B9D-40D6-8937-125516B03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93677-725F-472C-9AE9-7CCFE95E8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5031-6DB3-4666-B01D-F2F94B6B5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DC22E-0122-4FD5-9D4E-2F922E0F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3DA82-F711-439D-A90D-65C478D8C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6E6B-FB61-4BD6-BF2F-288CC5FF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1E124-85FF-443C-877B-9B0D96C4C2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17760" y="3124080"/>
            <a:ext cx="268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La Empres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47640" y="836640"/>
            <a:ext cx="61992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inanciamiento de Empres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11280" y="5229360"/>
            <a:ext cx="2952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Electivo Derecho Comerc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° semestre 200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derecho.uchile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250280" y="71136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99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37560" y="19162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11280" y="234936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04440" y="27813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89320" y="321300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8800" y="18828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273480" y="234936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275640" y="278136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285720" y="342900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282840" y="39322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361200" y="2492280"/>
            <a:ext cx="181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 EXIGI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11280" y="14130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339080" y="52293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303800" y="5191200"/>
            <a:ext cx="2448000" cy="43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43564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2484360" y="191628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5940360" y="2421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084720" y="242100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940000" y="306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715320" y="2022480"/>
            <a:ext cx="366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y obligaciones recípro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30360" y="2637000"/>
            <a:ext cx="7913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existencia determina la capacidad de la empresa de desarrollar su actividad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existencia es un límite a la misma capac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6920" y="3495600"/>
            <a:ext cx="7632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de hecho la inversión que hace el      empresario en la empresa es parte del activo del empresari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3723480" y="692280"/>
            <a:ext cx="176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Financ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24440" y="1557360"/>
            <a:ext cx="4377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 independencia respecto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26920" y="4216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registran en el pasivo del balance de la empresa (la empresa siempre está en deuda con ell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8120" y="5253120"/>
            <a:ext cx="41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iénes son: capitalistas y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4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12440" y="2492280"/>
            <a:ext cx="429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ueños de la propiedad sobr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826920" y="2924280"/>
            <a:ext cx="763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la capacidad de disponer, usar y gozar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826920" y="34243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son los dueños de los activos de la empresa. La empresa en cuanto sujeto y obj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6920" y="422100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los primeros administradores de la empresa y sus activos; la representan en la contratación de sus 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826920" y="5589720"/>
            <a:ext cx="7490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n responsables subsidiarios por los pasivos de la empresa; limitaciones y ficciones leg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826920" y="5084640"/>
            <a:ext cx="7490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de riesgo, últimos en la prelación de pa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55840" y="1724040"/>
            <a:ext cx="189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26920" y="2276640"/>
            <a:ext cx="7490160" cy="384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een derechos económicos y polític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Correlación con los derechos de los acreedor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ahoma"/>
              </a:rPr>
              <a:t>Limitaciones legales, estatutarias y contractuales de los derechos de los accionistas, derivadas de la financi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al capital y distribu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a los dividen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os de administración con efectos sobre activos y pasivos de la empresa: su preeminencia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 de los convenios limitativos 111 LM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covena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uasi accionistas: acreedores beneficiarios de derechos políticos, acreedores prendarios con prendas sobre acciones, bonistas u opciones con derecho a converti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09480" y="1268280"/>
            <a:ext cx="8315640" cy="648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tonomía patrimonial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erceros contratantes ejercen sus derechos sobre los bienes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 abstracción del patrimoni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ponsabilidad de los capitalista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sidiaria 2095 C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recta 37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mi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personales de un capitalis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recen de derechos sobre bien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s sobre dividendos y remanente del capitalista 380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comparten posiciones con los acreedores de la empresa, se subordi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és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bordinación de los derechos del capitalista 404, 413 C de 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hibición de extraer montos mayores a los estipul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bligación de repartir bienes antes de satisfacer a prestam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isminución capital SA, arts. 28 y 29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iquidación e insolve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69756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97240" y="1557360"/>
            <a:ext cx="23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87600" y="2060640"/>
            <a:ext cx="6149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presentación contable del derecho de lo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tiene correlativo en 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mportancia en el nacimiento y en la extinción de la empres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manencia en el tiemp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ntido impropio de garantía a los 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3694320" y="692280"/>
            <a:ext cx="182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Capital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80680" y="1557360"/>
            <a:ext cx="132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l Capital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59720" y="3668760"/>
            <a:ext cx="2955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incipios que lo inform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14040" y="4230720"/>
            <a:ext cx="27439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ter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be ser ún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st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umento y red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13080" y="2060640"/>
            <a:ext cx="882756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ítulo puede derivar de operaciones de crédito de dinero (financieros) o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l suministro de bienes y servicios con saldo de precio / ejecución diferida 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preferentes o v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ferencias dicen relación con la totalidad del activo o con ciertos bienes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os habrá senior o jun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16960" y="1557360"/>
            <a:ext cx="28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de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514800" y="3668760"/>
            <a:ext cx="383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participan del riesgo del 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31800" y="4246560"/>
            <a:ext cx="82393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bran una tarifa fija por proporcionar capital a la 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caso de riesgo de solvencia tienen derecho a aceler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pagan con preferencia a los capitalis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ozan de protecciones contractuales o legales para salvaguardar su derecho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nda gene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n excepcionalmente, ref. quiebra, designación de síndico, realización d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ienes, acciones oblicu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1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833760" y="2060640"/>
            <a:ext cx="8463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Bancos e Instituciones Financieras -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upos empresariales controladore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ías. de Seguros de Vida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Inver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de Pens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rabancarios -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s Mutu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521280" y="1557360"/>
            <a:ext cx="6675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prestadores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Grandes capital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83040" y="3668760"/>
            <a:ext cx="494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dministración empresarial y gestión financier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788040" y="4005360"/>
            <a:ext cx="7928280" cy="25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plazos - liquide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Largo plazo &gt; 1 añ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rto plazo &lt; 1 año o porción corta del lar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monedas : ingresos vs. pasivos exigibles, cross currency swa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 financiamiento en misma mone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lce de tasas: típicamente para quienes giran en el negocio de prestar, activo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 vs. pasivos financieros – hedge de tas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ecio (tasas), garantías, costos de transacción, plazos de ejecu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solvencia, garantías de crédito, clasificación del riesg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592440" y="69228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Prestamis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1280" y="155736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Concepto jurídico o económico?  Import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640" y="549360"/>
            <a:ext cx="762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500400" y="2060640"/>
            <a:ext cx="433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 duda nace como concepto económic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33240" y="2421000"/>
            <a:ext cx="525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conjunción de bienes, personas y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7680" y="2852640"/>
            <a:ext cx="241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17480" y="3284640"/>
            <a:ext cx="2262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y fin de lucr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72760" y="3860640"/>
            <a:ext cx="201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¿Unidad jurídica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44240" y="4437000"/>
            <a:ext cx="819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bilidad de encontrar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único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que permita delimitar el 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xacto alca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la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mpresa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02200" y="5157720"/>
            <a:ext cx="708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mplos en la transferencia, gravamen, patrimonio de afect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768600" y="5661000"/>
            <a:ext cx="59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osiciones frente al “</a:t>
            </a: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criterio unificador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” de la empres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48840" y="1916280"/>
            <a:ext cx="6396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ersonalidad jurídica              ficción técnica arbitraria (EIR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705600" y="4076640"/>
            <a:ext cx="84283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Trasciende a los bienes, valores no se  condicen necesariamente con los bienes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ino con el elemento volitivo que los organi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76720" y="1989000"/>
            <a:ext cx="431640" cy="144720"/>
          </a:xfrm>
          <a:custGeom>
            <a:avLst/>
            <a:gdLst>
              <a:gd name="textAreaLeft" fmla="*/ 67320 w 431640"/>
              <a:gd name="textAreaRight" fmla="*/ 378000 w 431640"/>
              <a:gd name="textAreaTop" fmla="*/ 36000 h 144720"/>
              <a:gd name="textAreaBottom" fmla="*/ 108720 h 144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44840" y="2532240"/>
            <a:ext cx="748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 separado               argumento circular, dónde empieza y term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2637000"/>
            <a:ext cx="380880" cy="144360"/>
          </a:xfrm>
          <a:custGeom>
            <a:avLst/>
            <a:gdLst>
              <a:gd name="textAreaLeft" fmla="*/ 59400 w 380880"/>
              <a:gd name="textAreaRight" fmla="*/ 333360 w 380880"/>
              <a:gd name="textAreaTop" fmla="*/ 36000 h 144360"/>
              <a:gd name="textAreaBottom" fmla="*/ 108360 h 1443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858960" y="3068640"/>
            <a:ext cx="161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nivers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900000" y="3573360"/>
            <a:ext cx="114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5280" y="1771560"/>
            <a:ext cx="7921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recho mercantil y Empresa se yuxtapon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6840" y="4005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0600" y="2408400"/>
            <a:ext cx="123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mpres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854360" y="2381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54360" y="25970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854360" y="26701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854360" y="252576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196720" y="2421000"/>
            <a:ext cx="532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ondo de comercio o establecimiento, (manifest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854360" y="2814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854360" y="295740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854360" y="303048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854360" y="2886120"/>
            <a:ext cx="21744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854360" y="3174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854360" y="33908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854360" y="346392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854360" y="331956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61520" y="2852640"/>
            <a:ext cx="608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edad            ente jurídico per se, (empresario, no empres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438360" y="2957400"/>
            <a:ext cx="432000" cy="111240"/>
          </a:xfrm>
          <a:prstGeom prst="rightArrow">
            <a:avLst>
              <a:gd name="adj1" fmla="val 50000"/>
              <a:gd name="adj2" fmla="val 9708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9000" bIns="9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38480" y="3284640"/>
            <a:ext cx="6650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IRL             creación jurídica que presupone al concepto económico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distorsión)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79800" y="3389400"/>
            <a:ext cx="431640" cy="110880"/>
          </a:xfrm>
          <a:prstGeom prst="rightArrow">
            <a:avLst>
              <a:gd name="adj1" fmla="val 50000"/>
              <a:gd name="adj2" fmla="val 9732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39080" y="4508640"/>
            <a:ext cx="417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jercicio profesional (medio de sustent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10280" y="5013360"/>
            <a:ext cx="4843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actividad económica (que proporciona lucr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10560" y="5516640"/>
            <a:ext cx="7722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sistente en la producción, intermediación, prestación de bienes o servi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26920" y="5661000"/>
            <a:ext cx="27648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39440" y="2022480"/>
            <a:ext cx="4439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rganización de los factores de la activ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97680" y="2637000"/>
            <a:ext cx="43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rmonía y proporcionalidad entre fact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92640" y="3357720"/>
            <a:ext cx="4791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svinculación del patrimonio del empresario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91720" y="3613320"/>
            <a:ext cx="6014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       desvinculación responsabilidad            elemento jurídico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4427640" y="3718080"/>
            <a:ext cx="431640" cy="142560"/>
          </a:xfrm>
          <a:prstGeom prst="rightArrow">
            <a:avLst>
              <a:gd name="adj1" fmla="val 50000"/>
              <a:gd name="adj2" fmla="val 75694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185840" y="378936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85840" y="3862440"/>
            <a:ext cx="217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85840" y="3718080"/>
            <a:ext cx="217440" cy="21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1360" y="1557360"/>
            <a:ext cx="1172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tividad organizadora del Empresar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523080" y="1523880"/>
            <a:ext cx="124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Element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12640" y="2492280"/>
            <a:ext cx="6055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e organizan elementos materiales, inmateriales y human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41880" y="2886120"/>
            <a:ext cx="286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n una actuación diná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6880" y="3246480"/>
            <a:ext cx="48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Hacia una actividad económica determinada (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92920" y="3678120"/>
            <a:ext cx="420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Que intenta obtener la máxima gananc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98960" y="4437000"/>
            <a:ext cx="1449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66280" y="4869000"/>
            <a:ext cx="725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corporales (dinero, inventario, bienes de producción, mercadería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561960" y="5268960"/>
            <a:ext cx="6293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sas incorporales (propiedad industrial, créditos, inversion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0200" y="5661000"/>
            <a:ext cx="244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udas y oblig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8360" y="2060640"/>
            <a:ext cx="7921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laciones incorpó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646560" y="2603520"/>
            <a:ext cx="113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lientel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5200" y="2997360"/>
            <a:ext cx="2498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pectativas (Chance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203840" y="692280"/>
            <a:ext cx="68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La Empresa. Explicación, elementos. Derrot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8200" y="1628640"/>
            <a:ext cx="16761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246320" y="1643040"/>
            <a:ext cx="98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64080" y="1652760"/>
            <a:ext cx="22798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55720" y="4317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Ga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419640" y="3484440"/>
            <a:ext cx="15112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gres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437160" y="3236760"/>
            <a:ext cx="100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Ren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437160" y="3813120"/>
            <a:ext cx="202248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55720" y="2660760"/>
            <a:ext cx="1728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Inver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55720" y="3525840"/>
            <a:ext cx="1368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400800" y="2660760"/>
            <a:ext cx="104472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352320" y="609480"/>
            <a:ext cx="215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 flipH="1">
            <a:off x="2655720" y="1844640"/>
            <a:ext cx="2563920" cy="23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3040" bIns="-230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59280" y="4653000"/>
            <a:ext cx="24476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reación del val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000080" y="5541840"/>
            <a:ext cx="342756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entación Dinám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20800" y="2085840"/>
            <a:ext cx="0" cy="57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720800" y="302112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720800" y="388620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6084720" y="2421000"/>
            <a:ext cx="0" cy="24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379560" y="4379760"/>
            <a:ext cx="133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(Pérdid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500720" y="5516640"/>
            <a:ext cx="34272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Estática</a:t>
            </a: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627280" y="2852640"/>
            <a:ext cx="79236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2268360" y="3715920"/>
            <a:ext cx="1151280" cy="79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4211640" y="386028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580000" y="486900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556000" y="2060640"/>
            <a:ext cx="3456000" cy="642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Diferencia Ingresos y cos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Máximo valor pres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539640" y="1628640"/>
            <a:ext cx="208764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Capital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48000" y="1628640"/>
            <a:ext cx="201600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Prestam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300720" y="1700280"/>
            <a:ext cx="20163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000000"/>
                </a:solidFill>
                <a:latin typeface="Tahoma"/>
              </a:rPr>
              <a:t>Financ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044800" y="609480"/>
            <a:ext cx="4778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Estructura del Capita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1547640" y="2133720"/>
            <a:ext cx="0" cy="57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84328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987640" y="170028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651640" y="184464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65164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30872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18560" y="2708280"/>
            <a:ext cx="147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ietar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55640" y="3141720"/>
            <a:ext cx="1320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c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52400" y="3573360"/>
            <a:ext cx="911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oci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40160" y="4005360"/>
            <a:ext cx="1291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iesgo 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egoc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28280" y="4581360"/>
            <a:ext cx="167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nta variab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16760" y="5013360"/>
            <a:ext cx="1530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ontinge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inexigib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441960" y="2674800"/>
            <a:ext cx="18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Mutuantes, etc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463920" y="3141720"/>
            <a:ext cx="139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457440" y="3573360"/>
            <a:ext cx="2099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xigibles, efe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452760" y="443700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No 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(Proveedor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456360" y="5084640"/>
            <a:ext cx="231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istas (cuent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de socio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509160" y="2762280"/>
            <a:ext cx="1605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roporcion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ami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 la Empresa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an 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patrimon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465720" y="4005360"/>
            <a:ext cx="1398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nancie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356000" y="21319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</cp:lastModifiedBy>
  <dcterms:modified xsi:type="dcterms:W3CDTF">2006-04-10T02:21:31Z</dcterms:modified>
  <cp:revision>81</cp:revision>
  <dc:subject/>
  <dc:title>Sin título de diapositiva</dc:title>
</cp:coreProperties>
</file>