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CD3-B02E-47FB-88A8-88EE9F02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39A-EC79-4180-B640-3B207FDE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C0C-9BD4-4397-B836-266869F4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1D0-0C0E-42D5-A62F-D05FA8FE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310-4261-477A-A024-A597BD58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F17-12B3-43E5-B535-15E404C4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7D4-22A8-4AAF-9C53-2606EAE6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055-741E-4FD3-AF2B-136BB220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3FD-DD17-44C5-AA15-C9830B9B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07E-3115-4C65-B556-8FAA0A35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8C3-F7CA-4EC2-8A0D-7C3FD4C6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351-FF78-4D07-B4AF-66246FE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A247-5C98-4464-BE00-C2B2C8846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Globales ( a lo men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an de reducción buses en uso: opacidad 30% me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s de emisión para diversos tipos de vehí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49672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ndes fuentes plan volunt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todo el otoño e invier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 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s de emisión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e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, mandatorias o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. 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Metas por contaminante (año 200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057400"/>
          <a:ext cx="7772400" cy="454176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-10 (combust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vo (polvo resuspedi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4-06-02T16:41:51Z</dcterms:modified>
  <cp:revision>54</cp:revision>
  <dc:subject/>
  <dc:title>PowerPoint Presentation</dc:title>
</cp:coreProperties>
</file>