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9EB-1EF2-4DFA-97B9-ACF24B43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145-3CC7-457B-8279-81AB1544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99F-9F18-49EA-B62B-25D20F02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5FB-E3C4-46BC-A55F-258AF0D9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005-634C-46A9-8171-2426F75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8CA-AD6B-4F3A-9B2A-F56781E3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3F7-A420-4DE9-A1A0-B8402FCB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D1D-1225-4BA9-AA1B-E302819E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FC6-E55A-47B9-9093-A2D51500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C14F-19E3-4F0F-ABC3-59B9498A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A0C-1857-47B9-97A4-E770A53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E2E-C294-42B3-9EB3-663428C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786E-9282-43D8-8534-F1A42D783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Globales ( a lo meno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an de reducción buses en uso: opacidad 30% me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s de emisión para diversos tipos de vehí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49672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des fuentes plan volun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todo el otoño e invier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 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s de emisión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e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, mandatorias o recomend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. 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Metas por contaminante (año 200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2057400"/>
          <a:ext cx="7772400" cy="45417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-10 (combust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lvo (polvo resuspedi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7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duc. ton/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Vergara</cp:lastModifiedBy>
  <dcterms:modified xsi:type="dcterms:W3CDTF">2004-06-02T16:41:51Z</dcterms:modified>
  <cp:revision>54</cp:revision>
  <dc:subject/>
  <dc:title>PowerPoint Presentation</dc:title>
</cp:coreProperties>
</file>