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86A-6C6F-4E63-8C35-2073D21A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AF4-BD0F-4889-8343-DBB78CDC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287-76AC-476E-AF2A-B5AD3170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515-3DF4-48F0-BEDC-2CE39DCD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713-3B0B-4C85-BB59-517BB2D7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7C9-A05B-4B85-B398-A55E3E4C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D48-803E-4391-B9F7-29422031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BE0-F7B9-4DB0-9227-B24D44C2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8CA-B172-4820-BBE5-800D2725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0D8-0206-4C14-9444-C6AC440F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E0B-5C4C-40B7-9594-E2AD25F5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498-81E6-4149-82DE-659D287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0411-F410-450C-B874-AC692D722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aterial Particulado respirable (PM-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zono (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uestos Orgánicos Volátiles (CO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onóxido de carbono (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óxido de azufre (S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omo (P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oxido de Nitrógeno (N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á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a cursos de aguas subterrá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calefectores a le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(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6-05-08T17:55:56Z</dcterms:modified>
  <cp:revision>48</cp:revision>
  <dc:subject/>
  <dc:title>PowerPoint Presentation</dc:title>
</cp:coreProperties>
</file>