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5E0-8DB0-4F5C-990F-7BDE9D65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587-4A74-49F8-9127-26E609EA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082-D709-4B20-907D-93AF9FAE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C19-C0D1-4D86-BA95-BE0871AD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64E-4B74-4CC1-AA0A-0133DB23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F28-D013-42D2-96E0-CD6FBECD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14E-9D62-4D8F-9BCA-6C78E8F6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A2E-36D1-408E-8678-80EADCC4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495-0A16-4DB3-A255-8C3FB621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195-1D02-4BEA-B06E-49A760C1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B4C-F14C-4DD7-9A3D-228B951D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568-7AEF-4097-BA4C-EBB88D7C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BE37-72C4-4870-968E-D73AAC73B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ntrol de Contamina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:</a:t>
            </a:r>
            <a:br>
              <a:rPr sz="4400"/>
            </a:b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ire, Agua y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Estaciones representativ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a.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Estación monitora con representatividad poblacional para gas monóxido de carbono (EMRPG)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 Una estación de monitoreo que se encuentra localizada en un área hab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Se entiende como área habitada, a una porción del territorio donde vive habitual y permanentemente un conjunto de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 (ai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aterial Particulado respirable (PM-1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zono (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puestos Orgánicos Volátiles (CO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onóxido de carbono (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óxido de azufre (S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lomo (P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oxido de Nitrógeno (N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máximos o mínimos que no podrán ser sobrepas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críticos que determinen situaciones de emerg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lazo para su entrada en vi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control y med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s fisc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.S, con firma de Ministro Secretario General de la Presidencia y Ministro Compe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reto señala el ámbito territorial de su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y ámbito de apl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que determinan situaciones crític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hídrido sulfuroso para proteger la agricultura ( D.S. 185 del Ministerio de Minería, año 19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 Estudio (norma de calidad según usos para diversas cuenc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roblemas en el S.E.I.A. respecto de protec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agrícola y nor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se cumple norma secundaria de SO2, se discuten otros criterios de protección agrícola fundado en emis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no existen normas secundarias. Daños meramente patrimon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uperación de norma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se entiende superada la norma de calidad ambient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resolución 1215 (dero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D.S. Nº185 de Minería (sólo norma secundaria de SO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s de las nuevas normas primarias ( MP-10, SO2, Nox, COV, CO). En general percentil 99 en normas que no son anuales. Tres años de mediciones, salvo excepciones. Normas anuales distinto, infracción a promedio anual, eventualmente tres años de me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la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t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Latent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la medición de la concentración de contaminantes en el aire, agua o suelo se sitúa entre el 80% y el 100% del valor de la respectiva norma de calidad ambiental,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: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saturada (art.43 Le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Art. 2. u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Satur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una o más normas de calidad ambiental se encuentran sobrepas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a50021"/>
                </a:solidFill>
                <a:latin typeface="Tahoma"/>
              </a:rPr>
              <a:t>Normas de Calidad Ambiental y de Emis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Responsabilidad legal monitoreo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y Artículo 33: Los organismos competentes del Estado desarrollarán programas de medición y control de la calidad ambiental del aire, agua y suelo para los efectos de velar por el derecho de vivir en un medio ambiente libre de contaminación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r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q.Normas de Emisión: las que establecen la cantidad máxima permitida para un contaminante medida en el efluente de la fuente emisora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strumentos de regulación en ausencia de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s de emisión con objeto de cumplir norma de calidad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como un límite mínimo aún existiendo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Artículo 35.- Toda norma de emisión contendrá, además de lo estipulado por el artículo 28, las siguientes materias:     a) La cantidad máxima permitida para un contaminante medida en el efluente de la fuente emis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b) Los objetivos de protección ambiental y resultados esperados con la aplicación de la norm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c) El ámbito territorial de su aplicación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d) Los tipos de fuentes reguladas; 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e) Los plazos y niveles programados para el cumplimiento de la nor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vig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S. Nº4, 1992 Ministerio de Salud, regula las emisiones de  fuentes estacionarias puntuales en la R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que regula descargas a alcantarillados. D.S. Nº6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que regula la descarga de residuos industriales líquidos a cursos de agua superficiales, lagos y mar. D.S. Nº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a cursos de aguas subterrá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Arsé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lumí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versas normas para fuentes m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óv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NOx PPDA 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lgunas Normas de emisión en pre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para instalaciones de incineración o co-inci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el estero Caré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ruido que regula la actividad de la Con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calefectores a leñ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de ruido (D.S. Nº146 de Min. Segpr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lema de las normas de rui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in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algunos casos se requieren criterios diversos que las normas de emisión no cubren adecuad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 o.Norma Primaria de Calidad Ambiental: aquélla que establece los valores de las concentraciones y períodos, máximos o mínimos permisibles de elementos,   compuestos, sustancias, derivados químicos o biológicos, energías, radiaciones,    vibraciones, ruidos o combinación de ellos, cuya presencia o carencia en el ambient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eda constituir un riesgo para la vida o la salud de la pobl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.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.Norma Secundaria de Calidad Ambiental: aquélla que establece los valores de las    concentraciones y períodos, máximos o mínimos permisibles de sustancias,    elementos, energía o combinación de ellos, cuya presencia o carencia en el ambiente pueda constituir un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iesgo para la protección o la conservación del medio ambiente, o la preservación de la naturalez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rt. 32 Ley 19.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glamento para la dictación de las normas de calidad y de emisión emanado del  Ministerio Secretaría General de la Presidencia, que reglamenta la dictación de las normas de calidad o de emisión ( D.S Nº93 Min. Sec. Gral. Presidencia año 1995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grama priorizado  (marzo de cada añ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 aprueba el Consejo de Ministros. Debe ser fund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blicidad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pediente con todos los anteced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 (etapas art 32 le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técnico y económi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arrollo de estudios científ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ultas a organismos competentes, públicos y priv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de las observaciones formuladas y una adecuada publicidad.  Reglamento establecerá además los plazos y formalidades que se requieran para dar cumplimiento a lo dispuesto en este artículo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s criterios para revisar las normas vi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ctación: mediante D.S. Emana del Ministerio Sec. General de la Presidencia y Ministerio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evio proceso reglado cuyos criterios se señalan en la ley y se detallan en el Reglamento (D.S. Nº93 Min. Segpres año 199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plicables en todo el territorio de la Repúblic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 cumplimiento se ver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onde existan asentamientos humanos (¿desierto, campo, campamentos mineros?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 los medios cuyo uso previsto afecte directa o indirectamente la salud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Vergara</cp:lastModifiedBy>
  <dcterms:modified xsi:type="dcterms:W3CDTF">2006-05-08T17:55:56Z</dcterms:modified>
  <cp:revision>48</cp:revision>
  <dc:subject/>
  <dc:title>PowerPoint Presentation</dc:title>
</cp:coreProperties>
</file>