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910-57EE-4F34-8E04-4EBCA8A8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909-FD33-4E69-BFBA-01BBF2B9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6A1-16AE-45D3-8934-AF96B48B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6BB-0754-43F2-9E37-D0E799C9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D2C-94C8-4860-B148-C1756026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F34-9227-4D5F-A369-C135C7B8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64F-5E9E-47AB-9B95-F09A0800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793-7D44-47AA-84BE-BF9C0188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2CC-8B01-441D-9825-A02CA4FD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D29-3286-47AD-AA72-6E22E5F6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198-42B2-4FD5-B7FD-1D644F79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293-AFC6-4901-B0A2-64753BF9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25CA-BC2D-493B-A68A-3B8FF3F1B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aterial Particulado respirable (PM-1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zono (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uestos Orgánicos Volátiles (CO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onóxido de carbono (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óxido de azufre (S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omo (P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oxido de Nitrógeno (N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á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a cursos de aguas subterrá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calefectores a le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(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6-05-08T17:55:56Z</dcterms:modified>
  <cp:revision>48</cp:revision>
  <dc:subject/>
  <dc:title>PowerPoint Presentation</dc:title>
</cp:coreProperties>
</file>