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996-B6B2-4EB4-A55A-F23426C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36E-1901-40A6-A677-04660AD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744-7323-470E-9691-EDB6D9F0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281-BE36-48D7-9010-E20325C4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AFE-7E61-430A-8915-96AB278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364-0E01-4538-A7AE-C2CE529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AFB-772F-4F66-92FC-E66DD6BF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F6E-E3E9-4938-8F5C-99CFE1C7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133-C540-4062-BA45-9A959C9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91A-64DA-4E58-91BA-1C9BA63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42E-BE82-4221-8C7F-90B03352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EDE-21A6-4879-9DD0-3D4B503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D5D5-F236-4EE9-9767-6FCDB540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terial Particulado respirable (PM-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zono (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uestos Orgánicos Volátiles (C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onóxido de carbono (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óxido de azufre (S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omo (P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oxido de Nitrógeno (N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á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a cursos de aguas subterrá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calefectores a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6-05-08T17:55:56Z</dcterms:modified>
  <cp:revision>48</cp:revision>
  <dc:subject/>
  <dc:title>PowerPoint Presentation</dc:title>
</cp:coreProperties>
</file>