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76782-7CFA-4AB8-94E8-3E5E7C48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727E-7FD1-4EA2-8598-F7F87C1D6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E6C23-FD5C-468A-89B0-722BFE618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C84C1-5F7A-4B11-BB6F-A52F1C5B7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A1B28-465E-428A-AAEE-8FF82304A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F792C-EDCF-4BF3-9FEC-627689D5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47D2-A39D-4D96-8A4E-83642C76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0A5CA-D975-44AA-A44E-B45E5F5AC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861B-637B-48F6-95AB-33A2E5DB2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1CEC-BF1B-4C6D-BCC1-04DFC828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E94C7-3643-4E3C-BCCE-1BD057E4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D1AD0-A06A-4BBC-8047-9C5054965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3EE3-7AD2-4AD0-9D30-F264995C9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Somete a S.E.I.A. (proyecto de saneamiento ambiental). COREMA sanciona a quienes infringen condiciones de resolución aprob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utorización sanitaria (proyecto previo y proyecto construí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formalmente,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algunos países tienen un sistema de excluir residuos de la categoría de peligrosos, y prohibiendo su disposición en rellenos sanitari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6-10T14:32:50Z</dcterms:modified>
  <cp:revision>64</cp:revision>
  <dc:subject/>
  <dc:title>PowerPoint Presentation</dc:title>
</cp:coreProperties>
</file>