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B08A-171C-43BB-9993-605D9FE32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D953-4C97-4F7F-BBD2-EF98BD5D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157F-B14A-41CA-BFEF-A02E77968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2C2B-82D3-4E7E-810C-65F306CF9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361F-ABE5-41B8-B887-5CD1B3451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33CC-B448-4218-9D14-6B10DFC0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9E9B-60EB-4BD7-9405-6D6F4085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D053-D4D0-40A8-A03E-7D272B79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C4D6-17C0-4849-BAC4-1F67AC1E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98475-DCBD-4159-B82F-518FF231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2560-1C9B-40A6-B697-C952C5F8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5208-5848-4953-824F-5CDCD413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139F-F1CD-4B49-8944-4F2187B9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32ED-E8D0-49E7-B22B-37EE1F32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0254-4ADD-47A9-BF44-367C0DB8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6313-107A-44EB-898E-8C5D20821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0D22-9EFE-4688-B0B0-563D69CD7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DA58-3AE4-46AF-B11A-DF468C6C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34AC-8A35-4582-92F5-EBFA75E9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B3C3-6BF6-4222-A05A-36DD4F27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7FB4-C46B-49B5-8F31-72ADB145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6780-6EA3-4BE4-9FE9-9653122B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14C5-EAE3-4EDA-BA0C-81B3FCE0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9B91-1DFE-41AE-BC41-A9F80BA9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5CDA-C29D-4265-B747-D8F622B9F371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3B9B-8C9C-4901-85FB-766FC6671588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295280" y="20574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Impuesto a las Ventas y Servici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99640" y="2420640"/>
            <a:ext cx="7921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7480" indent="-87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Deduccion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Según notas de crédito emitidas en un período, por hecho gravados devengados en el mismo período tributario o anteriores (Art. 21 de la LIVS y 36 del Reglam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0" y="76500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Ajustes al Débito Fis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000" y="1915920"/>
            <a:ext cx="7848360" cy="42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Bonificaciones y descuentos posteriores a la     facturación, por operaciones afectas del mismo período o anteri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Restituciones por devoluciones de depósitos en garantía por envases, siempre que hayan conformado base imponible afec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iferencias facturación excesiva, siempre que se subsanen en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mismo período tributari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340000" y="54936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Deducciones Sin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4360" y="191628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or restituciones a los compradores de devoluciones de bienes muebles o resciliación de servic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lazo: Tres meses, contados desd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57080" indent="-285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Venta de bienes muebles: Fecha devengamiento de IVA (emisión por entrega real o simbólic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57080" indent="-285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restación de servicios: Fecha devengamiento IVA (emisión por percepción remuneración o disposición de la mism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124000" y="69228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Deducciones Con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26560" y="1828800"/>
            <a:ext cx="831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Restitución de venta o promesa venta de bienes inmuebles nula por resolución, resciliación o sentencia judic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Plazo de tres meses, contados desd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esolución o resciliación: Fecha escritura de resolución o resciliación de promesa o de venta de inmueb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entencia judicial: Fecha desde que sentencia se entienda ejecutoria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2123280" y="765000"/>
            <a:ext cx="455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Deducciones con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8207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Situaciones especiales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ocumentación de operaciones dejadas sin       efecto, como consecuencia de devoluciones de mercaderías o resciliaciones de servici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Con bolet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Reverso de la boleta: Fecha, nombre, dirección, cédula de identidad y firma comprad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Con vale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Emisión de nota de crédi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82105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Situaciones espe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nulaciones de operaciones documentadas que no configurarían hecho gravado de ventas o servic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Facturación sin que haya existido entrega real o simbólica de mercaderí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Facturación de remuneración percibida sin que se haya prestado el servi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Jurisprudencia Administrativa del S.I.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24382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Oficios Recomendad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1483/83 – 48/96 – 7304/78 – 1720/97 – 105/9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aeaea"/>
                </a:solidFill>
                <a:latin typeface="Tahoma"/>
              </a:rPr>
              <a:t>CREDITO FISCAL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OBJETIVOS DEL CREDITO FIS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2514600"/>
            <a:ext cx="762120" cy="990720"/>
          </a:xfrm>
          <a:prstGeom prst="downArrowCallout">
            <a:avLst>
              <a:gd name="adj1" fmla="val 25002"/>
              <a:gd name="adj2" fmla="val 25000"/>
              <a:gd name="adj3" fmla="val 21666"/>
              <a:gd name="adj4" fmla="val 6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209680" y="3429000"/>
            <a:ext cx="198144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3429000"/>
            <a:ext cx="18288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19320" y="4572000"/>
            <a:ext cx="28954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ermite determin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l valor agreg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 cada eta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4572000"/>
            <a:ext cx="28954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ermite determin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incidencia del I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el consumidor fi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aeaea"/>
                </a:solidFill>
                <a:latin typeface="Tahoma"/>
              </a:rPr>
              <a:t>CREDITO FISCAL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819520"/>
            <a:ext cx="1447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Naturale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Jurídica 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. Fis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95640" y="1989000"/>
            <a:ext cx="457200" cy="4114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66880" y="19051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00360" y="2421000"/>
            <a:ext cx="54864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stituye un crédito en contra Fisco, a favor contribuy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l titular no puede accionar contra el Fisco, no obstante puede excepcionarse del pago del débito por la vía de reba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s un crédito con limitaciones, que tienen como finalidad cumplir objetivo económico – jurídico del IV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aeaea"/>
                </a:solidFill>
                <a:latin typeface="Tahoma"/>
              </a:rPr>
              <a:t>CREDITO FISCAL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6560" y="1989000"/>
            <a:ext cx="831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recho condicionado al cumplimiento de requisitos formales y sustant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s un derecho </a:t>
            </a: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patrimonial y personalísim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Art. 39 del Reglament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Impuestos que a los contribuyentes del mismo impuesto se les ha recargado en sus adquisiciones o servicios recibidos y que pueden deducir del débito fiscal del 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5640" y="198864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s la cuantificación de los hechos grav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ermite determinar la cuantía del débito fis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Fundamento legal: Artículos 15, 16 y 17 de la Ley LIVS y 26 a 34 del Reglamen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éb. Fiscal = B. Imp. * Tasa (19%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2340000" y="692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Base Imponib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920" y="838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Contribuyentes que pueden invocar el crédito fiscal (Art. 23 LIV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ntribuyentes del IVA (inclusive exportador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Que hayan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soportad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IVA en sus adquisiciones o importaciones de bienes o en la utilización de servici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755280" y="549000"/>
            <a:ext cx="7993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ceptos que dan derech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(Art. 23 N° 1 al 5 de la Le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uestra legislación determina las adquisiciones y utilizaciones de servicios que otorgan el derecho a crédi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 deben distinguir requisito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formales y sustant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eaeaea"/>
                </a:solidFill>
                <a:uFillTx/>
                <a:latin typeface="Tahoma"/>
              </a:rPr>
              <a:t>Requisitos Formales</a:t>
            </a: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: (Art. 24 y 25 LIVS)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1600200"/>
            <a:ext cx="304920" cy="3276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1295280"/>
            <a:ext cx="533520" cy="4648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04200" y="1125360"/>
            <a:ext cx="685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160020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1. Respaldo doctal.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3581280"/>
            <a:ext cx="55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2. Registro en Libro de Compras.: (Art. 59 LIV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16000" y="515772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3. Oportunidad del derecho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05320" y="1143000"/>
            <a:ext cx="533160" cy="2133720"/>
          </a:xfrm>
          <a:custGeom>
            <a:avLst/>
            <a:gdLst>
              <a:gd name="textAreaLeft" fmla="*/ 340560 w 533160"/>
              <a:gd name="textAreaRight" fmla="*/ 533520 w 53316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62520" y="1295280"/>
            <a:ext cx="2819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Facturas y Notas de Débi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-Comp. Liq. Grav. Aduan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act. Compras cambio de sujeto (IVA pagad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56000" y="4437000"/>
            <a:ext cx="304920" cy="198144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88000" y="4653000"/>
            <a:ext cx="3168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eríodo tributario emisión fac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(o PT sigte. o subsgte. caso recepción o registro con atras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Requisitos Formales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971640" y="1836720"/>
            <a:ext cx="784836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Que los documentos de respaldo cumplan requisitos, (Art. 23 N. 5 y 54 de la LIVS y 69 y 71 bis del Reglament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Formato preestablecido (Res. 1.667/198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Timbra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Identificación completa del emi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Identificación del recep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Descripción de la operación o guía de despacho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echa de emis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Que IVA recargado figure separadamente (Art. 24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69 de la LIV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Requisitos Formales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Situaciones especial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2065320"/>
            <a:ext cx="72392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aso extravío de documentos: La pérdida no tiene efecto retroactivo, siempre que se acredi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* Recepción y contabilización oportu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* Comunicación de extravío al SII, dentro del plazo legal, conforme al Art. 97 No. 16 del C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* Efectividad de oper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 u="sng">
                <a:solidFill>
                  <a:srgbClr val="ffffff"/>
                </a:solidFill>
                <a:uFillTx/>
                <a:latin typeface="Tahoma"/>
              </a:rPr>
              <a:t>Requisitos Formales</a:t>
            </a:r>
            <a:r>
              <a:rPr b="0" lang="es-MX" sz="3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(Situaciones especiale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2. Tratamiento tributario IVA extemporáne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Gasto tributario o costo del ac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olicitar devolución conforme Art. 126 del C.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olicitar compensación Art. 127 del C.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11280" y="260280"/>
            <a:ext cx="8215200" cy="15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EQUISITOS SUSTANTI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1. 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Dan derecho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: El IVA soportado por :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844640"/>
            <a:ext cx="471636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dquisición de bienes muebles 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Utilización de servicios destin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l activo realiz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dquisición de bienes mueble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Inmuebles o utilización de servi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stinados al activo fij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dquisición de bienes o util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 servicios que constituyan gas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 tipo general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91120" y="1981080"/>
            <a:ext cx="914400" cy="4419720"/>
          </a:xfrm>
          <a:custGeom>
            <a:avLst/>
            <a:gdLst>
              <a:gd name="textAreaLeft" fmla="*/ 0 w 914400"/>
              <a:gd name="textAreaRight" fmla="*/ 330120 w 91440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56000" y="2060640"/>
            <a:ext cx="685800" cy="4495680"/>
          </a:xfrm>
          <a:custGeom>
            <a:avLst/>
            <a:gdLst>
              <a:gd name="textAreaLeft" fmla="*/ 0 w 685800"/>
              <a:gd name="textAreaRight" fmla="*/ 247680 w 68580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2133720"/>
            <a:ext cx="76212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43640" y="1413000"/>
            <a:ext cx="45720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80360" y="1654200"/>
            <a:ext cx="76176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94920" y="691920"/>
            <a:ext cx="8534520" cy="56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Consideraciones a tener present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•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Relación directa, debe entenderse como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indispensable y necesario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para la actividad del contribuyente. La relación no está referida necesariamente a la inmediata generación de débi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•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Giro o actividad: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Objeto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económico a que se dedica el contribuy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•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No hay relación directa, cuando las adquisiciones o servicios se destinan para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uso particular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, (Art. 41 inc 2° del Regl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28240" y="609120"/>
            <a:ext cx="8591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Relación con operacion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gravadas: (Art. 23 N° 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No hay crédito sin débi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ienes y servicios deben estar afectos a la generación de operaciones grava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Operaciones afectas se define al momento en que el contribuyente soporta el impuesto, sin importar si por causa ajena o sobreviniente, las adquisiciones o servicios no lleguen a generar débito, ejem.: mercaderías siniestradas; venta no afecta de activo fijo;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52240" y="764640"/>
            <a:ext cx="8591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3. Crédito Fiscal proporcional </a:t>
            </a: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(Art. 23 N° 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ienes y servicios afectos a la generación tanto de operaciones gravadas y no grava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crédito fiscal se calcula en forma proporcion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86043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 las ventas: Precio de venta de los bienes corporales muebles: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 los servicios: Valor de las prestaciones: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incluyen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tereses y gastos de financiamient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ajustes y diferencias de cambi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t. Moratorios exigibles o percibidos anticipadamente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Valor envases y garantías por devolucion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mpuestos: excepto LIVS e Imp. específico combustib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deducen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Bonificación o descuento coetáneo a la factur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26028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Base Imponible en l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Hechos gravados básicos y espec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ahoma"/>
              </a:rPr>
              <a:t>4.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Tahoma"/>
              </a:rPr>
              <a:t>Que las adquisiciones o utilizaciones de servicios no digan relación con</a:t>
            </a:r>
            <a:r>
              <a:rPr b="0" lang="es-MX" sz="2800" spc="-1" strike="noStrike">
                <a:solidFill>
                  <a:srgbClr val="eaeaea"/>
                </a:solidFill>
                <a:latin typeface="Tahoma"/>
              </a:rPr>
              <a:t>: (Art. 23 N° 4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dquisición de automóviles, station wagons y similares, como asimismo los gastos relacionados con los mismos. </a:t>
            </a: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Salvo calificación de D. Nacional SII, según Ley 19.738 de 19.06.01 (Art. 23 N. 4 de la LIV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calificación de automóvil, station wagons, jeeps y similares no la hace el SII, la hace la Comisión Automotriz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7238880" y="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rédito Fis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ahoma"/>
              </a:rPr>
              <a:t>5.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Tahoma"/>
              </a:rPr>
              <a:t>Que el crédito fiscal sea auténtico y cumpla normas legales y reglamentarias (Art. 23 N° 5), por tanto: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2590560"/>
            <a:ext cx="2438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No se ti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rech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7238880" y="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rédito Fis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2057400"/>
            <a:ext cx="533520" cy="2819520"/>
          </a:xfrm>
          <a:custGeom>
            <a:avLst/>
            <a:gdLst>
              <a:gd name="textAreaLeft" fmla="*/ 340920 w 533520"/>
              <a:gd name="textAreaRight" fmla="*/ 533880 w 5335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33720" y="2057400"/>
            <a:ext cx="304560" cy="3429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2438280"/>
            <a:ext cx="48006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5.1 Facturas No Fidedignas o Fal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5.2 IVA recargado indebid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5.3 Facturas que no cumplen requisitos form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755280" y="1699920"/>
            <a:ext cx="8388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terminan improcedencia del crédito fisc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Facturas no Fidedignas: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Contienen irregularidades materiales por lo que no se ajustarían a la verdad: Ej.: Correcciones: alteración correlativo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Facturas falsas: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Faltan a la verdad o realidad que pretend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alsedad material: Alteran el sentido de la factur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Falsedad ideológica: Contienen actos o cosas falsas o mentirosas. Nunca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debieran dar derecho a C.F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1110600" y="692280"/>
            <a:ext cx="73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5.1 </a:t>
            </a:r>
            <a:r>
              <a:rPr b="1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Facturas No Fidedignas o Fals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5.2 </a:t>
            </a: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facturas otorgadas por personas no contribuyentes del impues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¿Opera para facturas emitidas por personas no contribuyent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¿Opera para facturas emitidas por operaciones no gravadas y /o exenta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¿Qué ocurre con el IVA rechazado al comprador y enterado por el emiso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5.3 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Facturas que no cumplen requisitos legales o reglamentarios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Requisitos de las factura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 forma: Se desprenden por el mero exam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 fondo: No es posible verificarlos por medio del simple examen. Apuntan a la autenticidad de la op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Negación del crédito fiscal, procedimientos y medios de prueba para reestablecer su derecho (Art. 23 N° 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306864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A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23No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1981080"/>
            <a:ext cx="380880" cy="3353040"/>
          </a:xfrm>
          <a:custGeom>
            <a:avLst/>
            <a:gdLst>
              <a:gd name="textAreaLeft" fmla="*/ 243360 w 380880"/>
              <a:gd name="textAreaRight" fmla="*/ 381240 w 38088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03280" y="2205000"/>
            <a:ext cx="381240" cy="4038480"/>
          </a:xfrm>
          <a:custGeom>
            <a:avLst/>
            <a:gdLst>
              <a:gd name="textAreaLeft" fmla="*/ 243720 w 381240"/>
              <a:gd name="textAreaRight" fmla="*/ 381600 w 38124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40000" y="2276640"/>
            <a:ext cx="62485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c. 1°: Establece presunción de negación C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c. 2°: Medidas de prevención de rech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c. 3°: Medios de prueba ante objeción S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c. 4°: Si se acredita recargo y pago de IVA por vendedor no se aplica Inc. 2° y 3° y no se pierde Créd. Fis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c. 5° Lo dispuesto en inc. 2° y 3° no se aplica en caso participación y conoc. de false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ahoma"/>
              </a:rPr>
              <a:t>Acciones preventivas para resguardar el derecho a crédito fiscal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ago con cheque nominativo al emisor como titular de la cuenta giradora. (Cheque original o fotoc. autorizada por el banc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notación en el dorso del cheque RUT del emisor y N. de la factu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ahoma"/>
              </a:rPr>
              <a:t>Procedimientos y medios de prueba para reestablecer derecho a crédito fiscal en caso de objeción por el SII</a:t>
            </a: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1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. Pago con cheque nominativo al emisor con cuenta corriente del comprador o beneficiario del servicio. (Cheque original o fotoc. autorizada por el banco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b. Anotación en el dorso del cheque RUT del emisor y N. de la fac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. Que la cuenta corriente bancaria se encuentra registrada en la contabilidad, (si procede) y que la operación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se registró oportunam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 Cumplimiento de requisitos de for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. Que la operación fue real y efectiv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(Transporte de las mercaderías; ingreso a bodega; anotación en controles de inventario y otros instrumentos de prueb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 procedimiento anterior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n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se aplicará cuando el contribuyente ha tomado conocimiento de las irregularidades o ha participado en los actos conducentes a la falsedad ideológica o material de las factur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2692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En caso de facturas sin requisitos legales: facturas no fidedignas o falsas, no será necesario acreditar requisitos de forma y fondo descritas para hacer uso del crédito fiscal, si se acredita que el impuesto ha sido recargado y “pagado efectivamente” en arcas fiscales por el vendedor. (Ley 19.738 D.O. (19.06.01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000" y="2060640"/>
            <a:ext cx="867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reses por operaciones de crédito de dinero. Exentos conforme a N° 10, letra E, Artículo 12 de la LIV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onto de la variación de U.F. Por operaciones a plazo que ya pagaron el impuesto (saldos de preci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pósitos para garantizar devoluciones de envases de bebidas analcohólicas, jugos, cervezas, aguas minerales, y cilindros o balones de gas licuado de  petróleo (Art. 28 Regl. y Res. Ex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549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ceptos que se excepcion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ahoma"/>
              </a:rPr>
              <a:t>Determinación del Crédito Fiscal Mensual: (Art. 24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+) IVA recargado en factu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+) IVA según comprob. Import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+) IVA según notas de débito recibidas por aumentos del impuesto factur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-) IVA según notas de créditos recibi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r bonificaciones, descuentos y devolu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 mercaderías o resciliaciones de servic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Que emisores hayan rebajado de sus débi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Fiscales, conforme a Art. 21)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ahoma"/>
              </a:rPr>
              <a:t>Jurisprudencia Administrativa del S.I.I.</a:t>
            </a:r>
            <a:br>
              <a:rPr sz="3200"/>
            </a:br>
            <a:br>
              <a:rPr sz="3200"/>
            </a:br>
            <a:r>
              <a:rPr b="0" lang="es-MX" sz="3200" spc="-1" strike="noStrike">
                <a:solidFill>
                  <a:srgbClr val="eaeaea"/>
                </a:solidFill>
                <a:latin typeface="Tahoma"/>
              </a:rPr>
              <a:t>Oficios Recomendad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3391/ 88 – 1471/96 – 74/88 – 5730/80 – 1447/79 – 1755/77 – 4175/87 – 1969/90 – 439/77 – 1739/97 – 4825/95 – 5476/7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26560" y="1557000"/>
            <a:ext cx="8317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os fletes y embalajes que se cobren coetáneamente con la venta o prestación del servicio, aumentan la base imponible de tales operaciones. Si se cobran separadamente, por si solos constituyen hecho gravado básico de servic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jemplo: Venta de productos afectos a impuestos adicionales al IV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Operación: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B. Imp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mp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Venta bebidas alcohólicas: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2.000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    IVA e IAB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Fletes y embalajes: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.000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    IVA       “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332000" y="549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ceptos releva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094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Jurisprudencia Administrativa del S.I.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2492280"/>
            <a:ext cx="71625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ficios Recomendad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567/97 – 191/95 -  3136/97 – 16/92 – 4268/84 – 2564/81 – 4333/91 – 2007/96 – 1051/9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EBITO FISCAL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ébito Fiscal: Suma del IVA recargado en las ventas y servicios en un período tributa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tribuyentes tendrán derecho a rebajar el débito fiscal contra el crédito fiscal del mismo perío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Base imponible * 19% = Débito Fisc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n la última etapa de circulación, el consumidor final soporta la totalidad del débito fisc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Determinación del Débito Fiscal mensua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752480"/>
            <a:ext cx="2209680" cy="1676520"/>
          </a:xfrm>
          <a:prstGeom prst="flowChartDocumen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BOLE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Total :1.1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2286000"/>
            <a:ext cx="2743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rt. 88 Cód. Tribut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rt. 55 LI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1752480"/>
            <a:ext cx="2210040" cy="1676520"/>
          </a:xfrm>
          <a:prstGeom prst="flowChartDocumen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FAC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Neto: 1.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IVA:   1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Total: 1.1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358128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480060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229600" y="3276720"/>
            <a:ext cx="0" cy="14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7238880" y="4800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87640" y="41497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LIBRO DE VENTAS   mes    año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464832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Día Bol del N° al N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51814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Neto Iva To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51814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Fact. N° Fecha Cliente R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46530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Neto Iva To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56386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Totales m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56000" y="4005360"/>
            <a:ext cx="4343400" cy="2514600"/>
          </a:xfrm>
          <a:prstGeom prst="flowChartDocumen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40766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(Dividir por 1.19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3860640"/>
            <a:ext cx="1676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umar 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recarg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04000" y="60930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rt. 59 de la LI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71640" y="762120"/>
            <a:ext cx="77040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Ajustes al Débito Fis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Agregado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Según notas de débito emitidas en un período tributario, de hechos gravados devengados en el mismo período tributario o anteriores: (Art. 36 del Reglam.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57080" indent="-285480">
              <a:spcBef>
                <a:spcPts val="6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iferencias de pre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57080" indent="-285480">
              <a:spcBef>
                <a:spcPts val="6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reses, reajustes, diferencias de cambio y gastos de financia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57080" indent="-285480">
              <a:spcBef>
                <a:spcPts val="6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reses morator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57080" indent="-285480">
              <a:spcBef>
                <a:spcPts val="6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iferencias de facturación del mismo perío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6:06:21Z</dcterms:created>
  <dc:creator>Claro y Cia.</dc:creator>
  <dc:description/>
  <dc:language>en-US</dc:language>
  <cp:lastModifiedBy>JCARRAHA</cp:lastModifiedBy>
  <dcterms:modified xsi:type="dcterms:W3CDTF">2006-04-10T18:59:12Z</dcterms:modified>
  <cp:revision>390</cp:revision>
  <dc:subject/>
  <dc:title>UNIVERSIDAD CATOLICA DE CHILE DIPLOMADO EN GESTION TRIBUTARIA </dc:title>
</cp:coreProperties>
</file>