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244-F8E6-4CAB-BBF9-77C68510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CC5-5952-4700-84EF-39D58575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611-650E-4184-A00A-20344E40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42F-0E97-4AB3-9047-873D7D07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78DE-602C-4518-A343-ECBA3093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ACE6-0065-4059-96C5-683DEABD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D413-66B6-4B75-A4BA-C5BFD869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DD84-BF3B-4929-BA3D-3F1F9E20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3BFE-CE7A-443C-A959-462B6CDA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A182-C3C7-4E86-887C-DEEE0522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37EB-9546-41A8-9C78-760BF5A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729-D7C3-4AEC-910D-CD2E612E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92E5-59E1-49D2-9048-83E208B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5891-CEC6-4506-B921-796058A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7FE1-BBFD-4478-9EB9-E08C9272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2DAC-A850-47CB-A7E5-6A08418B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2D02-4708-4A8E-8D36-971C164D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590-8B02-4AE5-B361-5D319B10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3EC-E492-45FB-B0D3-5B5118A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450-61FF-412E-9023-5DE74F2F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8B6-CE63-4CA9-B655-961F8D2C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83D-3796-4891-AF58-894BB7D6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E01-7D01-4002-91C4-EBA1D088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649-95B7-4F47-B57F-97FE773C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03B6-F100-4AE6-8DCB-04D808ED6C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484D-18DD-4A4C-9278-BD8CE12E0C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53352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4941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4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181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590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JCARRAHA</cp:lastModifiedBy>
  <dcterms:modified xsi:type="dcterms:W3CDTF">2006-03-28T20:13:54Z</dcterms:modified>
  <cp:revision>618</cp:revision>
  <dc:subject/>
  <dc:title>II. LEY DEL IMPUESTO AL VALOR AGREGADO (IVA)  Aspectos teóricos del Impuesto al  Valor Agregado Estructura General de la Ley</dc:title>
</cp:coreProperties>
</file>