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3BCA-EC94-4CC8-AFE0-ADFBBFBFC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5191-4416-44AC-BDAD-86F4754B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E819-6069-4C49-8A8A-C09131C24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FC77-E972-4A7E-B6D6-468E20E37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E3A5-F6F5-4D9A-95E8-2E7D74A1B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5684-2AE0-4401-A9C3-61CDFDB6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5BDB-516D-4EC5-B290-7A14A6B2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8934-D083-457D-B95A-64E108DE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3459-9A22-42CB-81F2-91D0B04A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C1AD-30C3-4F24-B3D8-B0F5A561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B54D-5769-4F17-9AF5-7BEC7B24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0D9A-3903-49CB-A8E8-181A36CE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554F-D135-45AD-9AE8-2CEF26D7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41F1-B73C-4AAA-8253-1DC2FAD3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78AF-7B9F-485C-9573-D72013EF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3513-413E-4BA8-8612-EC416EDA9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3595-8453-4477-9968-A04CA48E0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F7D6-65A7-4522-BAB4-3FCF0177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704D-7A39-472A-898D-8F09DB92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22E5-7124-4008-A497-4E0D4129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CDD1-5A18-4E3C-AF38-13CC18AE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261E-3305-451C-ADD8-4FB4014D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77EB-9B39-4452-BCA4-63CB3C7A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636D-297A-45F8-960B-C8CB41D6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444E-32F7-4F5B-9AB4-DF5F4C2EA26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FA70-D06E-4AB4-B11A-C040367019C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533520"/>
            <a:ext cx="777240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LEY SOBRE IMPUESTO A LAS VENTAS </a:t>
            </a: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Y SERVICIOS </a:t>
            </a:r>
            <a:br>
              <a:rPr sz="2800"/>
            </a:b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Decreto Ley No.825, de 1974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5840" y="317160"/>
            <a:ext cx="7124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iferentes métodos de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strac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30481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692360" y="2492280"/>
          <a:ext cx="2590560" cy="264168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264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obre </a:t>
                      </a:r>
                      <a:r>
                        <a:rPr b="0" lang="es-MX" sz="1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ea typeface="Times New Roman"/>
                        </a:rPr>
                        <a:t>Base Efectiv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Produc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insumo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_________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alor Agreg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[p – I= VA]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148360" y="2421000"/>
          <a:ext cx="2590560" cy="322740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375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obre </a:t>
                      </a:r>
                      <a:r>
                        <a:rPr b="0" lang="es-MX" sz="1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ea typeface="Times New Roman"/>
                        </a:rPr>
                        <a:t>base financie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ent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compra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_________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alor Agreg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[v – c= VA]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entaj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</a:t>
                      </a: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 fácil manej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</a:t>
                      </a: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 autocontrol (oposic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ntre parte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lternativas del método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strac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ASE CONTRA B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asa del impuesto se aplica a diferenc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ntre ventas y compras del perío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otal Ventas: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12.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otal Compras: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10.00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Base imponible: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2.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Se aplica tasa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(19% a BI): 2.000 * 19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Impuesto: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 38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lternativas del Método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strac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33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MPUESTO CONTRA IMPUES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l impuesto a pagar se determina p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iferencia entre impuesto recargado en la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ventas (DEBITO FISCAL) y el impues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soportado en las adquisiciones (CREDI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FISCAL) del mismo perío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BITO FISCAL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 2.28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MENOS CREDITO FISCAL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(1.90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= IMPUESTO A PAGAR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    38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racterísticas del DEBIT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FISCAL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liquida mensual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ncluye las ventas y operaciones de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erío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07800" y="553680"/>
            <a:ext cx="71262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Etapas Múltiples – efecto cascad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1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19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41.6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41,61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68,5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68,52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200,5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200,53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238,6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a la Venta en una sol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tap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0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0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0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1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en una sola etapa,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caudado en etapas múltip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PN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IVA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PT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DF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C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19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19   -   0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 1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1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30.9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0.9 – 19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 1.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2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42.8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2.8 – 20.9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 1.9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3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54.7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4.7 – 22.8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=  1.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24.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    130 + 19%   = 154.7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4.7 – 0 )      =  24.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en una única etapa, recaudad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tapas múltip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llega a poder del Fisco fraccionada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n diferentes etapas de circulación del produc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productor – mayorista – minorista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sumido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Los que intervienen en proceso 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roducción, distribución y venta recuper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onto total impuesto recaudado e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iferentes etapas – SOPORTADO PO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SUMIDOR FI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continuación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uantía del impuesto no se increment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r aplicación del impues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VA no repercute en mayor costo 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roducción, distribución 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mercializ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No influye en fijación de precios de ven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26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“</a:t>
            </a: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e Imponible Definitiva” –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precio pagado x consumidor final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cepto “valor agregado” no es en rig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hecho grav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istema dotado de mecanismo que imp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fecto “cascada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ecanismo demuestra que en realidad 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ersigue un porcentaje del “valor final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utofiscalización –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ituación evasión intermed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No emisión boleta final: total eva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75840" y="317160"/>
            <a:ext cx="7124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structura General de la Ley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Decreto Ley 825 de 1974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1640" y="2133360"/>
            <a:ext cx="712764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ítulo I – Normas Gen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Materia y Destino del Impuesto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finiciones, Contribuyentes, Ot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ítulo 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Impuesto al Valor agreg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ítulo I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Impuestos Especiales a las Ventas 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ítulo I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Administración del Impues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(*) Decreto Supremo No.55 Reglamento, de 198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VA Y OBLIGACION TRIBUTAR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Obligación Tributaria: 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vínculo jurídico en virtud del cual una persona (deudor), se encuentra en la necesidad de dar una suma de dinero a otra (acreedor) al verificarse un supuesto de hecho descrito en la ley; pudiendo el acreedor exigir el cumplimiento aún coercitiv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lementos de la Obligación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ibutar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79080" y="2120760"/>
            <a:ext cx="71182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uje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Activo – Acreedor – Fis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 Pasivo – Deudor – Contribuy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Obje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 la Obligación: la prestación - Tributo: el hecho grav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au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Mediata – la l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Inmediata – verificación del hecho grav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jetos de la Obligación Tributari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n el IV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ujeto Activo – Fis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ujeto Pasivo – Contribuy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Vended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Prestador de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Objeto de la Obligación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ibutaria: es el hecho gravad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Hecho Gravado Bás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Ven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Hecho Gravado Espe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Asimilados a Ven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Asimilados a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HECHO GRAVADO BÁSIC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2362320" y="3581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V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75840" y="475920"/>
            <a:ext cx="71247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ASIC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VENTAS (ELEMENTOS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06360" y="2120760"/>
            <a:ext cx="746928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finición concepto Ventas (art. 2 No. 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oda convención que sirva para transferir a títu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oneroso el dominio de ciertos bie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bienes corporales mueb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bienes corporales inmuebles de propiedad de Empresa  Constructo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erritorialidad (art 4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Ubicados en territori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alidad de Vendedor (art. 2 No. 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Habitual; o venta de materias primas o insumos del mismo proceso productiv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muebles 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1. Convención Traslaticia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ominio o de una cuota domin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42560" y="21337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vención, acto o contrato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dependiente del nombre que le den las partes que sirva pa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Transferir el domin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Transferir una cuota de dominio, 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Derechos reales constituidos sobre el bien respec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75840" y="553680"/>
            <a:ext cx="7124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jemplos de convencione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aslaticias de domin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31640" y="2276640"/>
            <a:ext cx="71182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trato de compraven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ermu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utuo de especies corporales mueb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fección de obra material mue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ación en pa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nta de cosa futu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152388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22240" y="1793880"/>
            <a:ext cx="70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752480" y="2514600"/>
          <a:ext cx="838440" cy="91440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2743200" y="297180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943600" y="2514600"/>
          <a:ext cx="838080" cy="91440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 flipH="1" flipV="1">
            <a:off x="2666880" y="3048120"/>
            <a:ext cx="32004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76520" y="11430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mpraven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33920" y="2438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a una co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35812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aga en Din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03280" y="49417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cuerdo en cosa y pre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a las Ventas y Servici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os Impuestos pueden clasificarse en dos grup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Impuestos Dire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Impuestos Indire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11280" y="404640"/>
            <a:ext cx="7162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utuo de bien corporal mueb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o préstamo de consu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3048120"/>
            <a:ext cx="762120" cy="6858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25146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a cosas fungib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38680" y="3352680"/>
            <a:ext cx="762120" cy="7621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666520" y="373392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43434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stituye otras del mismo género y c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5181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s un contrato re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3200400"/>
            <a:ext cx="28958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16000" y="620640"/>
            <a:ext cx="6324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nfección de obra mate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ue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25909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fectúa obra material mue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3352680"/>
            <a:ext cx="762120" cy="6098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95480" y="350532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2895120" y="3581280"/>
            <a:ext cx="221004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57400" y="40384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aga un pre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28800" y="517356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3880" y="4876920"/>
            <a:ext cx="586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enta:     Material proporciona artíf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ervicio: Material proporciona el que encar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48360" y="3357720"/>
            <a:ext cx="76176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371600" y="9907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ación en pa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19320" y="20574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Entrega una cosa </a:t>
            </a:r>
            <a:r>
              <a:rPr b="1" i="1" lang="es-MX" sz="2400" spc="-1" strike="noStrike">
                <a:solidFill>
                  <a:srgbClr val="ffffff"/>
                </a:solidFill>
                <a:latin typeface="Times New Roman"/>
              </a:rPr>
              <a:t>distinta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 a la que de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2895480"/>
            <a:ext cx="1371600" cy="8384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u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91320" y="2895480"/>
            <a:ext cx="1676160" cy="83844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cree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8120" y="327672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ansferencia de una cuota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omin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187280" y="256536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ambién se define como ven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ransferencia par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ransferencia de cuota de bien poseído en comun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GRAVADO 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Sobre bienes corporales muebles, 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inmuebles 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2. Debe recaer sobre bienes corporales</a:t>
            </a: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muebles, bienes corporales inmuebles de una empresa constructora, o derechos reale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Bienes corporales mueb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  •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Derechos reales sobre ellos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3348000" y="2852640"/>
            <a:ext cx="457200" cy="1676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3526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71640" y="3429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ransferencia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07800" y="398160"/>
            <a:ext cx="71262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lasificación de los Bien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ie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1828800"/>
            <a:ext cx="457200" cy="2971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62320" y="1981080"/>
            <a:ext cx="220968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rp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(ser rea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995640" y="1989000"/>
            <a:ext cx="69840" cy="1671840"/>
          </a:xfrm>
          <a:custGeom>
            <a:avLst/>
            <a:gdLst>
              <a:gd name="textAreaLeft" fmla="*/ 0 w 69840"/>
              <a:gd name="textAreaRight" fmla="*/ 25200 w 69840"/>
              <a:gd name="textAreaTop" fmla="*/ 43560 h 1671840"/>
              <a:gd name="textAreaBottom" fmla="*/ 1628280 h 167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91120" y="2057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91120" y="3352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35640" y="19890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Naturale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35640" y="227664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Anticip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14600" y="4572000"/>
            <a:ext cx="18288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corp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(derech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15000" y="32767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Naturale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284640"/>
            <a:ext cx="71280" cy="1015920"/>
          </a:xfrm>
          <a:custGeom>
            <a:avLst/>
            <a:gdLst>
              <a:gd name="textAreaLeft" fmla="*/ 45720 w 71280"/>
              <a:gd name="textAreaRight" fmla="*/ 71640 w 71280"/>
              <a:gd name="textAreaTop" fmla="*/ 26280 h 1015920"/>
              <a:gd name="textAreaBottom" fmla="*/ 989640 h 101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15000" y="36576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Adher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15000" y="4038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Destin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4581360"/>
            <a:ext cx="71280" cy="1305000"/>
          </a:xfrm>
          <a:custGeom>
            <a:avLst/>
            <a:gdLst>
              <a:gd name="textAreaLeft" fmla="*/ 45720 w 71280"/>
              <a:gd name="textAreaRight" fmla="*/ 71640 w 71280"/>
              <a:gd name="textAreaTop" fmla="*/ 33840 h 1305000"/>
              <a:gd name="textAreaBottom" fmla="*/ 1271160 h 130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876920" y="4648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Re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76920" y="5486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75840" y="398160"/>
            <a:ext cx="71247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lasificación de los derecho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cont.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3429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rec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00200"/>
            <a:ext cx="457200" cy="41911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98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E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1828800"/>
            <a:ext cx="228600" cy="2743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1752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Domi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38680" y="2133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er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2514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Usufruc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38680" y="2895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U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38680" y="3276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abit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638680" y="3657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Servidumb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638680" y="3962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ren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38680" y="43434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ipote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90920" y="320040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57600" y="281952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Se grava s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trans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08360" y="4941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ERS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86400" y="5157720"/>
            <a:ext cx="1981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Recaen sobre de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s (arriend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07800" y="475920"/>
            <a:ext cx="71262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.- Transferencias afec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44240" y="2120760"/>
            <a:ext cx="712620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bienes corporales 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rechos reales sobre bienes corpor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 bienes corporales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De propiedad de una empresa constructor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struidos totalmente por ella o en par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or un tercero para el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rechos reales sobre bienes corporales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ituación de empresa constructor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que encarga la obr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a primera venta constituye hecho gra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.- por cuenta propia, realizando ella mis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odas las especialid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b.- por cuenta propia, celebrando con terceros uno o más contratos de administración para la ejecución de la ob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.- por cuenta propia, celebrando con terceros todas o algunas especialid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1.- Los Impuestos Directo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p.e. Impuesto a la Renta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on aquellos que gravan la riqueza al momento de s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ge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produc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obten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Miran la identidad del contribuyent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gravando de acuerdo a la capacidad contribu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Son de difícil o imposible trasl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ituación de empresa constructor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que encarga la obr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a posterior venta NO constituye hecho gra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Por cuenta propia celebrando un contrato general de construcción por suma alzada con otra empresa construct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dquiriendo obras construidas y terminadas por otra empresa construct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muebles 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3.- Convención a título Oneros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vención que transfiere el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be ser a título oneroso (no nec. Diner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Art. 1440 define contratos gratuitos y oneros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Gratuitos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: sólo tienen por objeto la utilidad de una de las partes, sufriendo la otra todo el gravame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Onerosos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: utilidad de ambas partes, gravándose uno en beneficio del otr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42800" y="398160"/>
            <a:ext cx="712764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4.- Bienes deben estar ubicados en el Territorio Nacional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44240" y="2052360"/>
            <a:ext cx="71262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Ubicados en territorio nacional Independiente del lugar en que se celebre convención respecti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ituación bienes ubicados transitoria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fuera de Ch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bienes cuya inscripción, matrícula o patente hay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ido otorgada en Ch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bienes que se encuentren embarcados en el país de proced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lustración - territorialidad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1371600" y="2057400"/>
            <a:ext cx="4114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ienes corporales mue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 inmuebles deben es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Ubicados en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48360" y="1844640"/>
            <a:ext cx="304560" cy="1981080"/>
          </a:xfrm>
          <a:custGeom>
            <a:avLst/>
            <a:gdLst>
              <a:gd name="textAreaLeft" fmla="*/ 0 w 304560"/>
              <a:gd name="textAreaRight" fmla="*/ 109800 w 3045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15000" y="2209680"/>
            <a:ext cx="220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l momento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elebrarse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onven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66680" y="426708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Independiente del lugar en que se celeb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la conve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xcepción: IVA sobre biene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ituados en el extranjero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2895480"/>
            <a:ext cx="1752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Bie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Situ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Extranj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43280" y="2565360"/>
            <a:ext cx="433440" cy="3014640"/>
          </a:xfrm>
          <a:custGeom>
            <a:avLst/>
            <a:gdLst>
              <a:gd name="textAreaLeft" fmla="*/ 276840 w 433440"/>
              <a:gd name="textAreaRight" fmla="*/ 433800 w 433440"/>
              <a:gd name="textAreaTop" fmla="*/ 78480 h 3014640"/>
              <a:gd name="textAreaBottom" fmla="*/ 2936160 h 30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2209680"/>
            <a:ext cx="44560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.-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ienes cuya inscripción, matrícula o patente haya sido otorgada en Ch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.- Bienes embarcados en país de origen a la fecha convención. Adquirente no vendedor o prestador de servicios de las especies importa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5.- Realizada por un “vendedor”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finición – artículo 2 No.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Habitualidad – calificada por el SI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RT. 4.- Reglamento: SII considerará l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naturaleza, cantidad y frecuencia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ánimo de revent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Presunciones de habitualidad - gi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“</a:t>
            </a: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abitualidad” – elemento subjetiv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rresponde al contribuyente probar 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 existe habitualidad y/o que no adquiri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 “ánimo” de reven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Se presume habitualidad respecto 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todas las transferencias y reti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efectuados por un vendedor dentro de s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gi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07800" y="317160"/>
            <a:ext cx="71262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2.- Impuestos Indirect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Grava la riqueza cuando se consu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Afecta ingresos, fondos, recursos cuando se emplean en la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adquisición de bienes o servici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Fácil Traslación: permitida u ordenada por la 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tribuyente de Derecho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y llama a satisfacer la obligación tributar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tribuyente de Hech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•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porta en su patrimonio la carga del tribu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Ventas respecto de las cuales </a:t>
            </a:r>
            <a:r>
              <a:rPr b="1" lang="es-MX" sz="3200" spc="-1" strike="noStrike" u="sng">
                <a:solidFill>
                  <a:srgbClr val="eaeaea"/>
                </a:solidFill>
                <a:uFillTx/>
                <a:latin typeface="Tahoma"/>
              </a:rPr>
              <a:t>n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e tiene calidad de vendedor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articulares que ocasionalmente vend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us bienes nuevos o us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Empresas que vendan bienes corpor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muebles que integran su activ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nmovilizado o fijo (salvo, art. 8 letra 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Ventas materiales sobrantes adquiri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on ánimo de ser consumidos o utiliz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urante rodaje administrativo (p.e. pape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lificación habitualidad venta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nmueb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ndedor: Empresa construct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mpresa organizada para construir 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nder, aunque no sea exclusivo, o sea esporádico, o aprovech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ocasionalmente para construir y ven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¿Quién es vendedor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1523880" y="28195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24080" y="1828800"/>
            <a:ext cx="457200" cy="2438280"/>
          </a:xfrm>
          <a:custGeom>
            <a:avLst/>
            <a:gdLst>
              <a:gd name="textAreaLeft" fmla="*/ 0 w 457200"/>
              <a:gd name="textAreaRight" fmla="*/ 164880 w 457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4360" y="2209680"/>
            <a:ext cx="3823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.- persona dedicada en for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HABITUAL a venta de bie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rporales muebles o 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.- productor, fabricante o empre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nstructora que vende materias prim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 insumos no utiliz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95280" y="4800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Habitu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203640" y="4581360"/>
            <a:ext cx="71280" cy="1067040"/>
          </a:xfrm>
          <a:custGeom>
            <a:avLst/>
            <a:gdLst>
              <a:gd name="textAreaLeft" fmla="*/ 45720 w 71280"/>
              <a:gd name="textAreaRight" fmla="*/ 71640 w 71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52680" y="4724280"/>
            <a:ext cx="5029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ienes corporales del GIRO – activo realiz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alificada por el SII - Presuncion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NO son vendedor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articulares que venden ocasionalm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mpresas que vendan activo fijo (8 letra 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mpresas vendan material oficina sobra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75840" y="475920"/>
            <a:ext cx="71247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abitualidad Empresa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onstructor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79080" y="2189160"/>
            <a:ext cx="711828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oda empresa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organizada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para construi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y vender inmue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unque giro construcción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no sea exclus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unque giro construcción sea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sporádico 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e menor importa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uando existe organización empresa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istinta usada ocasionalmente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ara construir y vender uno o varios inmue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85800" y="1523880"/>
            <a:ext cx="7621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19320" y="685800"/>
            <a:ext cx="533160" cy="5181480"/>
          </a:xfrm>
          <a:custGeom>
            <a:avLst/>
            <a:gdLst>
              <a:gd name="textAreaLeft" fmla="*/ 0 w 533160"/>
              <a:gd name="textAreaRight" fmla="*/ 192600 w 53316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752480" y="10666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natu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52480" y="16765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Comun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52480" y="13716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juríd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52480" y="198108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ociedades de h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6200" y="1219320"/>
            <a:ext cx="274320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e dedique en  forma habitual a la venta de bienes corporales muebles, sean de su propia producción o de terc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52480" y="34290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Empresa Construct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00400" y="3124080"/>
            <a:ext cx="76320" cy="1524240"/>
          </a:xfrm>
          <a:custGeom>
            <a:avLst/>
            <a:gdLst>
              <a:gd name="textAreaLeft" fmla="*/ 22320 w 76320"/>
              <a:gd name="textAreaRight" fmla="*/ 76320 w 76320"/>
              <a:gd name="textAreaTop" fmla="*/ 63360 h 1524240"/>
              <a:gd name="textAreaBottom" fmla="*/ 146088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57600" y="914400"/>
            <a:ext cx="152280" cy="1676520"/>
          </a:xfrm>
          <a:custGeom>
            <a:avLst/>
            <a:gdLst>
              <a:gd name="textAreaLeft" fmla="*/ 0 w 152280"/>
              <a:gd name="textAreaRight" fmla="*/ 106920 w 152280"/>
              <a:gd name="textAreaTop" fmla="*/ 69840 h 1676520"/>
              <a:gd name="textAreaBottom" fmla="*/ 16066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32004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natu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76720" y="35053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juríd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76720" y="38098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Comun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41148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ociedades de h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81480" y="3048120"/>
            <a:ext cx="228600" cy="1600200"/>
          </a:xfrm>
          <a:custGeom>
            <a:avLst/>
            <a:gdLst>
              <a:gd name="textAreaLeft" fmla="*/ 66960 w 228600"/>
              <a:gd name="textAreaRight" fmla="*/ 228960 w 22860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57800" y="3124080"/>
            <a:ext cx="25146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e dedique en  forma habitual a la venta de bienes corporales inmuebles construidos total o parcialmente por el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76520" y="4724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roductor Fabrica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9880" y="4648320"/>
            <a:ext cx="76320" cy="1295280"/>
          </a:xfrm>
          <a:custGeom>
            <a:avLst/>
            <a:gdLst>
              <a:gd name="textAreaLeft" fmla="*/ 0 w 76320"/>
              <a:gd name="textAreaRight" fmla="*/ 5364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76520" y="52578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Empresa Construct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86200" y="4876920"/>
            <a:ext cx="380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Venda materias primas e insumos que por cualquiera causa no utilice en sus procesos Produc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3520" y="3200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efinición de Servic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331640" y="2255400"/>
            <a:ext cx="727236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rt. 2 No.2 L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“La acción o prestación que una persona realiza para otra y por la cual percibe un interés, prima, comisión o cualquiera otra forma de remuneración, siempre que provenga del ejercicio de las actividades comprendidas en los Números 3 y 4 del Artículo 20 de la Ley de la Ren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.- Realización de una prestación 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favor de otra person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2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uede ser realizada por persona natural o juríd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restació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cto o hecho que un contratante realiza o promete  a otro,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sin importar que sea HABITUAL o ESPORÁD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Impuesto a las Ventas y Servicios</a:t>
            </a: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es un impuesto Indirect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ayor recaudación fis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traslación o recar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Contr. de Derech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: vendedor, prestador 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Contr. de Hech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: consumidor fi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stino: beneficio fis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claración y pago mensu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arácter plurifás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.- Que el prestador del servici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perciba una remuner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695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ercepción de “interés, prima o comisión, o cualquiera otra forma de remuneració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 la percepción nace la obligación tributa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ercibir”: recibir una cosa, pago y cualquier otro modo de extingu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42800" y="398160"/>
            <a:ext cx="712764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oncepto de Remuner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lo que se da para remunerar (premiar, compensa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Pr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precio que el asegurado paga al asegurad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nteré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Provecho, utilidad, ganancia. Lucro del capit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omi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Mandato conferido al comisionista que no sea dependiente del que apode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Industria comercio, minería, explotación de las riquezas del mar, y demás actividades extractiv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ías. Aéreas, de seguros, bancos, asociaciones de ahorro y préstamos, sociedades administradoras fondos mutuos, sociedades de inversión o capitalización, empresas financieras y otras de actividad análog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 3 (con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constructo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periodísticas, publicitarias, de radiodifusión y televi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de procesamiento automático de da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de telecomunic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rredores que sean personas juríd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rredores que sean personas naturales, cuyas rentas no provengan exclusivamente de su trabajo o actuación pers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misionistas con oficina estableci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Martilleros, agentes de aduana, embarcadores y otros que intervienen com. Maríti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4 (con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gentes de seguros que no sean personas natural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línicas, hospitales, laboratorios y otros establecimientos análogos particular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de diversión y esparci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nterpretaciones del SII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art. 20 No. 3 incluye rentas del “comercio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 hace referencia al artículo 3 del Código de Comercio (def. de acto de comerci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ntrato de suministro – hoy super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Gestor de Negoc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RACTERISTICAS DEL IVA EN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HI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OBJETIVO DEL IMPUES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GRAVAR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EXCLUSIVAMENTE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EL VALOR QUE AÑADE AL PRECIO DE VENTA DE UN DETERMINADO BIEN O SERVICIO, CADA UNO DE LOS AGENTES QUE INTERVIENEN EN EL PROCESO DE SU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rodu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distribu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comercializ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.- El servicio debe prestarse 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utilizarse en Chi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erritorialidad – art. 5 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rvicio Prestado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uando la actividad que genera el servicio es desarrollada en el territorio na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.- El servicio debe prestarse 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utilizarse en Chile (cont.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erritorialidad – art. 5 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rvicio Utilizado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uando la actividad que genera el servicio es desarrollada fuera pero el beneficio es en Ch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xención: Rentas afectas a impuesto Adicional del Art. 59 Ley de la Renta se encuentran exentas de I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RACTERISTICAS DEL IVA EN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HILE (cont.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15640" y="2276280"/>
            <a:ext cx="75438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Impuesto al “valor agregado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e carácter plurifás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No acumulativo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se busca evitar “impuesto en cascada”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alculado sobre base financie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odalidad impuesto contra impues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Formas de lograr el objetiv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e Imponib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A.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étodos para determinar “valor agregado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METODO DE LA ADICIÓN (SUMA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se suman todos los factores que fueron agregados en l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respectiva etap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B.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ETODO DE LA SUSTRACCIÓN (RESTA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cuantificar diferencias entre ventas y compras por ca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una de las empresas que inciden en proceso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6:24Z</dcterms:created>
  <dc:creator>CEYZAGUIRRE</dc:creator>
  <dc:description/>
  <dc:language>en-US</dc:language>
  <cp:lastModifiedBy>JCARRAHA</cp:lastModifiedBy>
  <dcterms:modified xsi:type="dcterms:W3CDTF">2006-03-28T20:13:54Z</dcterms:modified>
  <cp:revision>618</cp:revision>
  <dc:subject/>
  <dc:title>II. LEY DEL IMPUESTO AL VALOR AGREGADO (IVA)  Aspectos teóricos del Impuesto al  Valor Agregado Estructura General de la Ley</dc:title>
</cp:coreProperties>
</file>