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AF8-95D0-4804-AF78-0D1FB94B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3B8-68DE-4D78-8BAE-91C62C65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480-0184-4E7A-A4E5-14E76B77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0D3-449C-4C33-B06A-97212DCD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7116-9324-484A-A1C6-7CD81AA9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F4DB-8238-4C42-8B20-BFA0047A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9A22-9C63-4F34-9BDF-13246B24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9CA9-DB07-4B8C-8789-042436B6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4D84-CCE9-424C-B97D-6F454109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817B-A5CC-4AA8-B96E-3664FC46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BC83-74B2-4398-8993-F5269D05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1DC-A5C1-43F4-8CAB-CB611BEB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083A-537C-417D-B046-80CE83F7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A197-AE04-4932-9994-8823572F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DE9A-47B1-4D70-B690-56CAA3C3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4D4F-F51C-4049-9652-4EB1E794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1D6A-0B76-4F36-848B-B575386D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275-9314-45C3-BCC6-98DDC406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C33-AD15-44B9-B0F6-F957642A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BBB-1BBA-464D-8CD5-06028159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A5F-BF1E-4EB9-91BE-72E5AA6C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329-5960-484F-82EB-09B02F9A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125-A2F5-4E6F-90F9-AB5DC84E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6D5-ECCF-4DE5-BD05-4ABBC586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4D79-BBED-46B5-B4CF-D77C6B4D182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9DE7-23BC-4002-992E-CC08D664895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Impuesto a las Ventas y Servici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Deduccion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Según notas de crédito emitidas en un período, por hecho gravados devengados en el mismo período tributario o anteriores (Art. 21 de la LIVS y 36 del Reglam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7650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Ajustes al Débit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848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onificaciones y descuentos posteriores a la     facturación, por operaciones afectas del mismo período o anteri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stituciones por devoluciones de depósitos en garantía por envases, siempre que hayan conformado base imponible afec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cias facturación excesiva, siempre que se subsanen en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mismo período tributari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549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Si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restituciones a los compradores de devoluciones de bienes muebles o resciliación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zo: Tres meses, contados des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 de bienes muebles: Fecha devengamiento de IVA (emisión por entrega real o simbóli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restación de servicios: Fecha devengamiento IVA (emisión por percepción remuneración o disposición de la mism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124000" y="692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Co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26560" y="1828800"/>
            <a:ext cx="831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stitución de venta o promesa venta de bienes inmuebles nula por resolución, resciliación o sentencia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lazo de tres meses, contados des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esolución o resciliación: Fecha escritura de resolución o resciliación de promesa o de venta de inmue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entencia judicial: Fecha desde que sentencia se entienda ejecutori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123280" y="76500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co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0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Situaciones especi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ocumentación de operaciones dejadas sin       efecto, como consecuencia de devoluciones de mercaderías o resciliaciones de servici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 bolet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Reverso de la boleta: Fecha, nombre, dirección, cédula de identidad y firma comprad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 v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Emisión de nota de créd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210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Situaciones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ulaciones de operaciones documentadas que no configurarían hecho gravado de ventas o servic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cturación sin que haya existido entrega real o simbólica de mercaderí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cturación de remuneración percibida sin que se haya prestado el serv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Jurisprudencia Administrativa del S.I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438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ficios Recomend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1483/83 – 48/96 – 7304/78 – 1720/97 – 105/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BJETIVOS DEL CRED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2514600"/>
            <a:ext cx="762120" cy="990720"/>
          </a:xfrm>
          <a:prstGeom prst="downArrowCallout">
            <a:avLst>
              <a:gd name="adj1" fmla="val 25002"/>
              <a:gd name="adj2" fmla="val 25000"/>
              <a:gd name="adj3" fmla="val 21666"/>
              <a:gd name="adj4" fmla="val 6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09680" y="3429000"/>
            <a:ext cx="198144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429000"/>
            <a:ext cx="18288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4572000"/>
            <a:ext cx="2895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ite deter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l valor 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cada eta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4572000"/>
            <a:ext cx="2895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ite deter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cidencia del 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el consumidor fi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1952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atural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Jurídica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. Fis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198900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1905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421000"/>
            <a:ext cx="54864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ituye un crédito en contra Fisco, a favor contribuy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titular no puede accionar contra el Fisco, no obstante puede excepcionarse del pago del débito por la vía de reb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un crédito con limitaciones, que tienen como finalidad cumplir objetivo económico – jurídico del IV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831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 condicionado al cumplimiento de requisitos formales y sustan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 un derecho </a:t>
            </a: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patrimonial y personalís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rt. 39 del Reglament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Impuestos que a los contribuyentes del mismo impuesto se les ha recargado en sus adquisiciones o servicios recibidos y que pueden deducir del débito fiscal del 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la cuantificación de los hechos grav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ite determinar la cuantía del déb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Fundamento legal: Artículos 15, 16 y 17 de la Ley LIVS y 26 a 34 del Regla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éb. Fiscal = B. Imp. * Tasa (19%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692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Base Impon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tribuyentes que pueden invocar el crédito fiscal (Art. 23 LI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tribuyentes del IVA (inclusive exportado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haya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soportad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IVA en sus adquisiciones o importaciones de bienes o en la utilización de servic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que dan derech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(Art. 23 N° 1 al 5 de la Le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uestra legislación determina las adquisiciones y utilizaciones de servicios que otorgan el derecho a crédi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deben distinguir requisit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formales y sustan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Requisitos Formales</a:t>
            </a: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: (Art. 24 y 25 LIVS)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6002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295280"/>
            <a:ext cx="533520" cy="4648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04200" y="112536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6002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. Respaldo doctal.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5812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2. Registro en Libro de Compras.: (Art. 59 LIV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51577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3. Oportunidad del derech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114300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1295280"/>
            <a:ext cx="2819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acturas y Notas de Déb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-Comp. Liq. Grav. Adua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act. Compras cambio de sujeto (IVA paga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443700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88000" y="4653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íodo tributario emisión fac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(o PT sigte. o subsgte. caso recepción o registro con atras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1836720"/>
            <a:ext cx="7848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ue los documentos de respaldo cumplan requisitos, (Art. 23 N. 5 y 54 de la LIVS y 69 y 71 bis del Reglament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Formato preestablecido (Res. 1.667/198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Timbr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Identificación completa del emi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Identificación del rece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Descripción de la operación o guía de despacho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echa de emis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Que IVA recargado figure separadamente (Art. 24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9 de la LIV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Situaciones especia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065320"/>
            <a:ext cx="72392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so extravío de documentos: La pérdida no tiene efecto retroactivo, siempre que se acred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Recepción y contabilización oportu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Comunicación de extravío al SII, dentro del plazo legal, conforme al Art. 97 No. 16 del C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Efectividad de oper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(Situaciones especiale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. Tratamiento tributario IVA extemporáne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asto tributario o costo del ac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licitar devolución conforme Art. 126 del C.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licitar compensación Art. 127 del C.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152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QUISITOS SUSTAN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Dan derecho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: El IVA soportado por :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844640"/>
            <a:ext cx="4716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muebles 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ción de servicios destin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 activo realiz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mueb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muebles o utilización de 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stinados al activo fi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o uti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servicios que constituyan gas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tipo genera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1981080"/>
            <a:ext cx="914400" cy="4419720"/>
          </a:xfrm>
          <a:custGeom>
            <a:avLst/>
            <a:gdLst>
              <a:gd name="textAreaLeft" fmla="*/ 0 w 914400"/>
              <a:gd name="textAreaRight" fmla="*/ 330120 w 9144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206064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2133720"/>
            <a:ext cx="7621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43640" y="1413000"/>
            <a:ext cx="4572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1654200"/>
            <a:ext cx="7617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53452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Consideraciones a tener presen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lación directa, debe entenderse como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indispensable y necesari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para la actividad del contribuyente. La relación no está referida necesariamente a la inmediata generación de débi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 o actividad: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bjet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económico a que se dedica el contribuy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o hay relación directa, cuando las adquisiciones o servicios se destinan para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so particular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, (Art. 41 inc 2° del Regl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Relación con operacion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gravadas: (Art. 23 N° 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 hay crédito sin déb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enes y servicios deben estar afectos a la generación de operaciones gra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peraciones afectas se define al momento en que el contribuyente soporta el impuesto, sin importar si por causa ajena o sobreviniente, las adquisiciones o servicios no lleguen a generar débito, ejem.: mercaderías siniestradas; venta no afecta de activo fijo;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52240" y="76464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3. Crédito Fiscal proporcional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(Art. 23 N° 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enes y servicios afectos a la generación tanto de operaciones gravadas y no gra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crédito fiscal se calcula en forma proporcion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604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as ventas: Precio de venta de los bienes corporales mueble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os servicios: Valor de las prestacione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incluye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eses y gastos de financiami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ajustes y diferencias de cambi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. Moratorios exigibles o percibidos anticipadamente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alor envases y garantías por devolucion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uestos: excepto LIVS e Imp. específico combusti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deduce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Bonificación o descuento coetáneo a la factur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2602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ase Imponible en l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echos gravados básicos y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4.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Que las adquisiciones o utilizaciones de servicios no digan relación con</a:t>
            </a: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: (Art. 23 N° 4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dquisición de automóviles, station wagons y similares, como asimismo los gastos relacionados con los mismos.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Salvo calificación de D. Nacional SII, según Ley 19.738 de 19.06.01 (Art. 23 N. 4 de la LI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calificación de automóvil, station wagons, jeeps y similares no la hace el SII, la hace la Comisión Automotriz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5.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Que el crédito fiscal sea auténtico y cumpla normas legales y reglamentarias (Art. 23 N° 5), por tanto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2438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o se ti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rec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057400"/>
            <a:ext cx="533520" cy="2819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2057400"/>
            <a:ext cx="304560" cy="3429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438280"/>
            <a:ext cx="4800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1 Facturas No Fidedignas o Fal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2 IVA recargado indebi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3 Facturas que no cumplen requisitos f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terminan improcedencia del crédito fis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Facturas no Fidedigna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Contienen irregularidades materiales por lo que no se ajustarían a la verdad: Ej.: Correcciones: alteración correlativo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acturas falsa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Faltan a la verdad o realidad que pretend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alsedad material: Alteran el sentido de la factu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Falsedad ideológica: Contienen actos o cosas falsas o mentirosas. Nunc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bieran dar derecho a C.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110600" y="692280"/>
            <a:ext cx="73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5.1 </a:t>
            </a:r>
            <a:r>
              <a:rPr b="1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Facturas No Fidedignas o Fal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5.2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facturas otorgadas por personas no contribuyentes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Opera para facturas emitidas por personas no contribuye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Opera para facturas emitidas por operaciones no gravadas y /o exent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Qué ocurre con el IVA rechazado al comprador y enterado por el emiso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5.3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Facturas que no cumplen requisitos legales o reglamentario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Requisitos de las factur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forma: Se desprenden por el mero exa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fondo: No es posible verificarlos por medio del simple examen. Apuntan a la autenticidad de la op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Negación del crédito fiscal, procedimientos y medios de prueba para reestablecer su derecho (Art. 23 N° 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30686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23No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1981080"/>
            <a:ext cx="380880" cy="3353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2205000"/>
            <a:ext cx="381240" cy="4038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2276640"/>
            <a:ext cx="6248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. 1°: Establece presunción de negación C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2°: Medidas de prevención de rech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3°: Medios de prueba ante objeción S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4°: Si se acredita recargo y pago de IVA por vendedor no se aplica Inc. 2° y 3° y no se pierde Créd.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5° Lo dispuesto en inc. 2° y 3° no se aplica en caso participación y conoc. de false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Acciones preventivas para resguardar el derecho a crédito 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go con cheque nominativo al emisor como titular de la cuenta giradora. (Cheque original o fotoc. autorizada por el ban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otación en el dorso del cheque RUT del emisor y N. de la fac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Procedimientos y medios de prueba para reestablecer derecho a crédito fiscal en caso de objeción por el SII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. Pago con cheque nominativo al emisor con cuenta corriente del comprador o beneficiario del servicio. (Cheque original o fotoc. autorizada por el banc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 Anotación en el dorso del cheque RUT del emisor y N. de la fac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. Que la cuenta corriente bancaria se encuentra registrada en la contabilidad, (si procede) y que la operación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se registró oportun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 Cumplimiento de requisitos de for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. Que la operación fue real y efectiv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(Transporte de las mercaderías; ingreso a bodega; anotación en controles de inventario y otros instrumentos de prueb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procedimiento anterior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n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e aplicará cuando el contribuyente ha tomado conocimiento de las irregularidades o ha participado en los actos conducentes a la falsedad ideológica o material de las factu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En caso de facturas sin requisitos legales: facturas no fidedignas o falsas, no será necesario acreditar requisitos de forma y fondo descritas para hacer uso del crédito fiscal, si se acredita que el impuesto ha sido recargado y “pagado efectivamente” en arcas fiscales por el vendedor. (Ley 19.738 D.O. (19.06.01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000" y="2060640"/>
            <a:ext cx="867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 por operaciones de crédito de dinero. Exentos conforme a N° 10, letra E, Artículo 12 de la LIV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onto de la variación de U.F. Por operaciones a plazo que ya pagaron el impuesto (saldos de preci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pósitos para garantizar devoluciones de envases de bebidas analcohólicas, jugos, cervezas, aguas minerales, y cilindros o balones de gas licuado de  petróleo (Art. 28 Regl. y Res. Ex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que se excepcion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Determinación del Crédito Fiscal Mensual: (Art. 24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recargado en fa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según comprob. Import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según notas de débito recibidas por aumentos del impuesto factu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-) IVA según notas de créditos recibi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bonificaciones, descuentos y devol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 mercaderías o resciliaciones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Que emisores hayan rebajado de sus débi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iscales, conforme a Art. 21)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Jurisprudencia Administrativa del S.I.I.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Oficios Recomendad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3391/ 88 – 1471/96 – 74/88 – 5730/80 – 1447/79 – 1755/77 – 4175/87 – 1969/90 – 439/77 – 1739/97 – 4825/95 – 5476/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os fletes y embalajes que se cobren coetáneamente con la venta o prestación del servicio, aumentan la base imponible de tales operaciones. Si se cobran separadamente, por si solos constituyen hecho gravado básico de servic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jemplo: Venta de productos afectos a impuestos adicionales al IV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peración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 Im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mp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Venta bebidas alcohólica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.000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 IVA e IA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Fletes y embalaje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.000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 IVA       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relev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Jurisprudencia Administrativa del S.I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49228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ficios Recomendad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567/97 – 191/95 -  3136/97 – 16/92 – 4268/84 – 2564/81 – 4333/91 – 2007/96 – 1051/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BITO 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ébito Fiscal: Suma del IVA recargado en las ventas y servicios en un período tribu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tribuyentes tendrán derecho a rebajar el débito fiscal contra el crédito fiscal del mismo 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ase imponible * 19% = Débito Fis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la última etapa de circulación, el consumidor final soporta la totalidad del débito fisc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terminación del Débito Fiscal mensu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2209680" cy="16765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OL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Total :1.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28600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rt. 88 Cód. Tribut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rt. 55 LI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1752480"/>
            <a:ext cx="2210040" cy="16765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AC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Neto: 1.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IVA:   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Total: 1.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5812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8006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9600" y="32767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23888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4149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LIBRO DE VENTAS   mes    año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4648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Día Bol del N° al N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181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Neto Iva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51814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Fact. N° Fecha Cliente R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653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Neto Iva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5638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Totales m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4005360"/>
            <a:ext cx="4343400" cy="251460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4076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(Dividir por 1.19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86064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umar 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rg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6093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rt. 59 de la LI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7040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Ajustes al Déb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gregad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Según notas de débito emitidas en un período tributario, de hechos gravados devengados en el mismo período tributario o anteriores: (Art. 36 del Reglam.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ferencias de pre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, reajustes, diferencias de cambio y gastos de financi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 morato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ferencias de facturación del mismo 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06:21Z</dcterms:created>
  <dc:creator>Claro y Cia.</dc:creator>
  <dc:description/>
  <dc:language>en-US</dc:language>
  <cp:lastModifiedBy>JCARRAHA</cp:lastModifiedBy>
  <dcterms:modified xsi:type="dcterms:W3CDTF">2006-04-10T18:59:12Z</dcterms:modified>
  <cp:revision>390</cp:revision>
  <dc:subject/>
  <dc:title>UNIVERSIDAD CATOLICA DE CHILE DIPLOMADO EN GESTION TRIBUTARIA </dc:title>
</cp:coreProperties>
</file>