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FC3B-F894-427D-AD0B-540C5D847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636D-2CB2-4D1B-8F76-E2107D1C2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EEB6-04E0-49FC-A863-AEC36B2E2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B367-75FD-44F0-8083-6AA5E4922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AB046-5B57-4FDE-A56F-A13C40589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376C3-1D4C-4726-BCF9-7A1B70D88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40A31-855B-440C-98B5-DA528E801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63BD0-D506-4C91-8AB5-0D3035092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5A7C8-9B69-4CA6-8FE2-597EF1A3B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5B989-3358-474F-91CF-3AE50BF74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EB135-FC7B-4227-A179-FDE3CD3C4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29FD-18A3-489E-B0B1-09BECDAF7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350C9-781E-42F3-812C-AFC8BE18F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BC4F7-7672-41BF-8843-D9661C5D3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03017-FA9D-49F3-81F1-C9B129E00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FE786-A797-4A7A-B40C-461140215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85978-9288-4B11-B56F-8705BF0B8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435F-47ED-4D28-A0D6-7D3999B6A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C764-998C-4D50-8D75-CBD44CF24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E66A-89CB-4B38-9237-E089BB738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DF9C-13F3-492B-B240-4FF5089AF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EA93-726C-45DD-9BD3-17FB61EB1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D056-7F3F-407B-817E-56041422A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F99D-7FB9-43E7-BB32-26CD42AB0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3BB3E-32BE-4710-90A9-D78D6DE8E7B0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CE651-E823-4E46-B0F1-1811F0304574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295280" y="2057400"/>
            <a:ext cx="64008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Tahoma"/>
              </a:rPr>
              <a:t>Impuesto a las Ventas y Servicio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899640" y="2420640"/>
            <a:ext cx="7921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7480" indent="-87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0" lang="es-ES" sz="2800" spc="-1" strike="noStrike" u="sng">
                <a:solidFill>
                  <a:srgbClr val="ffffff"/>
                </a:solidFill>
                <a:uFillTx/>
                <a:latin typeface="Tahoma"/>
              </a:rPr>
              <a:t>Deducciones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: Según notas de crédito emitidas en un período, por hecho gravados devengados en el mismo período tributario o anteriores (Art. 21 de la LIVS y 36 del Reglam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87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87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"/>
          <p:cNvSpPr/>
          <p:nvPr/>
        </p:nvSpPr>
        <p:spPr>
          <a:xfrm>
            <a:off x="2340000" y="765000"/>
            <a:ext cx="51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 u="sng">
                <a:solidFill>
                  <a:srgbClr val="ffffff"/>
                </a:solidFill>
                <a:uFillTx/>
                <a:latin typeface="Tahoma"/>
              </a:rPr>
              <a:t>Ajustes al Débito Fisc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684000" y="1915920"/>
            <a:ext cx="7848360" cy="424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Bonificaciones y descuentos posteriores a la     facturación, por operaciones afectas del mismo período o anterior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Restituciones por devoluciones de depósitos en garantía por envases, siempre que hayan conformado base imponible afect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Diferencias facturación excesiva, siempre que se subsanen en 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  <a:ea typeface="Times New Roman"/>
              </a:rPr>
              <a:t>mismo período tributario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2340000" y="549360"/>
            <a:ext cx="51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 u="sng">
                <a:solidFill>
                  <a:srgbClr val="ffffff"/>
                </a:solidFill>
                <a:uFillTx/>
                <a:latin typeface="Tahoma"/>
              </a:rPr>
              <a:t>Deducciones Sin Plaz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684360" y="191628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5120" indent="-19512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Por restituciones a los compradores de devoluciones de bienes muebles o resciliación de servici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195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195120" indent="-19512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Plazo: Tres meses, contados desde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195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57080" indent="-285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Venta de bienes muebles: Fecha devengamiento de IVA (emisión por entrega real o simbólica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195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57080" indent="-285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Prestación de servicios: Fecha devengamiento IVA (emisión por percepción remuneración o disposición de la misma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195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195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"/>
          <p:cNvSpPr/>
          <p:nvPr/>
        </p:nvSpPr>
        <p:spPr>
          <a:xfrm>
            <a:off x="2124000" y="692280"/>
            <a:ext cx="51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 u="sng">
                <a:solidFill>
                  <a:srgbClr val="ffffff"/>
                </a:solidFill>
                <a:uFillTx/>
                <a:latin typeface="Tahoma"/>
              </a:rPr>
              <a:t>Deducciones Con Plaz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826560" y="1828800"/>
            <a:ext cx="8317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Restitución de venta o promesa venta de bienes inmuebles nula por resolución, resciliación o sentencia judici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Plazo de tres meses, contados desde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Resolución o resciliación: Fecha escritura de resolución o resciliación de promesa o de venta de inmuebl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Sentencia judicial: Fecha desde que sentencia se entienda ejecutoriad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"/>
          <p:cNvSpPr/>
          <p:nvPr/>
        </p:nvSpPr>
        <p:spPr>
          <a:xfrm>
            <a:off x="2123280" y="765000"/>
            <a:ext cx="455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 u="sng">
                <a:solidFill>
                  <a:srgbClr val="ffffff"/>
                </a:solidFill>
                <a:uFillTx/>
                <a:latin typeface="Tahoma"/>
              </a:rPr>
              <a:t>Deducciones con Plaz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685800" y="837720"/>
            <a:ext cx="8207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Tahoma"/>
              </a:rPr>
              <a:t>Situaciones especiales</a:t>
            </a: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Documentación de operaciones dejadas sin       efecto, como consecuencia de devoluciones de mercaderías o resciliaciones de servicio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60840" indent="-51732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Tahoma"/>
              </a:rPr>
              <a:t>Con boletas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: Reverso de la boleta: Fecha, nombre, dirección, cédula de identidad y firma comprado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60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60840" indent="-51732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Tahoma"/>
              </a:rPr>
              <a:t>Con vales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: Emisión de nota de crédit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539280" y="907560"/>
            <a:ext cx="821052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Tahoma"/>
              </a:rPr>
              <a:t>Situaciones especia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Anulaciones de operaciones documentadas que no configurarían hecho gravado de ventas o servicio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- Facturación sin que haya existido entrega real o simbólica de mercaderí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- Facturación de remuneración percibida sin que se haya prestado el servici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609480" y="99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Jurisprudencia Administrativa del S.I.I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2438280"/>
            <a:ext cx="77724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Oficios Recomendado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1483/83 – 48/96 – 7304/78 – 1720/97 – 105/9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eaeaea"/>
                </a:solidFill>
                <a:latin typeface="Tahoma"/>
              </a:rPr>
              <a:t>CREDITO FISCAL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OBJETIVOS DEL CREDITO FISC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"/>
          <p:cNvSpPr/>
          <p:nvPr/>
        </p:nvSpPr>
        <p:spPr>
          <a:xfrm>
            <a:off x="4114800" y="2514600"/>
            <a:ext cx="762120" cy="990720"/>
          </a:xfrm>
          <a:prstGeom prst="downArrowCallout">
            <a:avLst>
              <a:gd name="adj1" fmla="val 25002"/>
              <a:gd name="adj2" fmla="val 25000"/>
              <a:gd name="adj3" fmla="val 21666"/>
              <a:gd name="adj4" fmla="val 6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2209680" y="3429000"/>
            <a:ext cx="1981440" cy="99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724280" y="3429000"/>
            <a:ext cx="1828800" cy="10666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219320" y="4572000"/>
            <a:ext cx="28954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Permite determin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el valor agrega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de cada etap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257800" y="4572000"/>
            <a:ext cx="28954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Permite determin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la incidencia del IV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en el consumidor fin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eaeaea"/>
                </a:solidFill>
                <a:latin typeface="Tahoma"/>
              </a:rPr>
              <a:t>CREDITO FISCAL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1" name=""/>
          <p:cNvSpPr/>
          <p:nvPr/>
        </p:nvSpPr>
        <p:spPr>
          <a:xfrm>
            <a:off x="609480" y="2819520"/>
            <a:ext cx="14479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Naturalez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Jurídica d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C. Fisc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95640" y="1989000"/>
            <a:ext cx="457200" cy="4114800"/>
          </a:xfrm>
          <a:custGeom>
            <a:avLst/>
            <a:gdLst>
              <a:gd name="textAreaLeft" fmla="*/ 292320 w 457200"/>
              <a:gd name="textAreaRight" fmla="*/ 457560 w 457200"/>
              <a:gd name="textAreaTop" fmla="*/ 107280 h 4114800"/>
              <a:gd name="textAreaBottom" fmla="*/ 4007520 h 4114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666880" y="190512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700360" y="2421000"/>
            <a:ext cx="548640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Constituye un crédito en contra Fisco, a favor contribuy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El titular no puede accionar contra el Fisco, no obstante puede excepcionarse del pago del débito por la vía de rebaj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Es un crédito con limitaciones, que tienen como finalidad cumplir objetivo económico – jurídico del IV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eaeaea"/>
                </a:solidFill>
                <a:latin typeface="Tahoma"/>
              </a:rPr>
              <a:t>CREDITO FISCAL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6560" y="1989000"/>
            <a:ext cx="8317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Derecho condicionado al cumplimiento de requisitos formales y sustantiv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Es un derecho </a:t>
            </a:r>
            <a:r>
              <a:rPr b="1" lang="es-MX" sz="2800" spc="-1" strike="noStrike">
                <a:solidFill>
                  <a:srgbClr val="ffffff"/>
                </a:solidFill>
                <a:latin typeface="Tahoma"/>
              </a:rPr>
              <a:t>patrimonial y personalísim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ffff"/>
                </a:solidFill>
                <a:uFillTx/>
                <a:latin typeface="Tahoma"/>
              </a:rPr>
              <a:t>Art. 39 del Reglamento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: Impuestos que a los contribuyentes del mismo impuesto se les ha recargado en sus adquisiciones o servicios recibidos y que pueden deducir del débito fiscal del m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755640" y="1988640"/>
            <a:ext cx="777240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Es la cuantificación de los hechos gravad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Permite determinar la cuantía del débito fisc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Fundamento legal: Artículos 15, 16 y 17 de la Ley LIVS y 26 a 34 del Reglament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Déb. Fiscal = B. Imp. * Tasa (19%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2340000" y="692280"/>
            <a:ext cx="43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Tahoma"/>
              </a:rPr>
              <a:t>Base Imponibl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304920" y="8380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ffff"/>
                </a:solidFill>
                <a:uFillTx/>
                <a:latin typeface="Tahoma"/>
              </a:rPr>
              <a:t>Contribuyentes que pueden invocar el crédito fiscal (Art. 23 LIV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Contribuyentes del IVA (inclusive exportadore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Que hayan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ahoma"/>
              </a:rPr>
              <a:t>soportado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IVA en sus adquisiciones o importaciones de bienes o en la utilización de servici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755280" y="549000"/>
            <a:ext cx="79930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Conceptos que dan derecho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(Art. 23 N° 1 al 5 de la Ley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Nuestra legislación determina las adquisiciones y utilizaciones de servicios que otorgan el derecho a crédit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Se deben distinguir requisitos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ahoma"/>
              </a:rPr>
              <a:t>formales y sustantiv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429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eaeaea"/>
                </a:solidFill>
                <a:uFillTx/>
                <a:latin typeface="Tahoma"/>
              </a:rPr>
              <a:t>Requisitos Formales</a:t>
            </a:r>
            <a:r>
              <a:rPr b="1" lang="es-MX" sz="2800" spc="-1" strike="noStrike">
                <a:solidFill>
                  <a:srgbClr val="eaeaea"/>
                </a:solidFill>
                <a:latin typeface="Tahoma"/>
              </a:rPr>
              <a:t>: (Art. 24 y 25 LIVS)</a:t>
            </a:r>
            <a:br>
              <a:rPr sz="2800"/>
            </a:b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0" name=""/>
          <p:cNvSpPr/>
          <p:nvPr/>
        </p:nvSpPr>
        <p:spPr>
          <a:xfrm>
            <a:off x="1295280" y="1600200"/>
            <a:ext cx="304920" cy="3276720"/>
          </a:xfrm>
          <a:custGeom>
            <a:avLst/>
            <a:gdLst>
              <a:gd name="textAreaLeft" fmla="*/ 194760 w 304920"/>
              <a:gd name="textAreaRight" fmla="*/ 305280 w 304920"/>
              <a:gd name="textAreaTop" fmla="*/ 85320 h 3276720"/>
              <a:gd name="textAreaBottom" fmla="*/ 3191400 h 327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38080" y="1295280"/>
            <a:ext cx="533520" cy="4648320"/>
          </a:xfrm>
          <a:custGeom>
            <a:avLst/>
            <a:gdLst>
              <a:gd name="textAreaLeft" fmla="*/ 340920 w 533520"/>
              <a:gd name="textAreaRight" fmla="*/ 533880 w 533520"/>
              <a:gd name="textAreaTop" fmla="*/ 120960 h 4648320"/>
              <a:gd name="textAreaBottom" fmla="*/ 4527360 h 4648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304200" y="1125360"/>
            <a:ext cx="685800" cy="57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Q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295280" y="160020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1. Respaldo doctal.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219320" y="3581280"/>
            <a:ext cx="55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2. Registro en Libro de Compras.: (Art. 59 LIV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116000" y="515772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3. Oportunidad del derecho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505320" y="1143000"/>
            <a:ext cx="533160" cy="2133720"/>
          </a:xfrm>
          <a:custGeom>
            <a:avLst/>
            <a:gdLst>
              <a:gd name="textAreaLeft" fmla="*/ 340560 w 533160"/>
              <a:gd name="textAreaRight" fmla="*/ 533520 w 533160"/>
              <a:gd name="textAreaTop" fmla="*/ 55440 h 2133720"/>
              <a:gd name="textAreaBottom" fmla="*/ 2078280 h 2133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962520" y="1295280"/>
            <a:ext cx="28191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Facturas y Notas de Débi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-Comp. Liq. Grav. Aduan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Fact. Compras cambio de sujeto (IVA pagado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56000" y="4437000"/>
            <a:ext cx="304920" cy="1981440"/>
          </a:xfrm>
          <a:custGeom>
            <a:avLst/>
            <a:gdLst>
              <a:gd name="textAreaLeft" fmla="*/ 194760 w 304920"/>
              <a:gd name="textAreaRight" fmla="*/ 305280 w 304920"/>
              <a:gd name="textAreaTop" fmla="*/ 51480 h 1981440"/>
              <a:gd name="textAreaBottom" fmla="*/ 1929960 h 198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88000" y="4653000"/>
            <a:ext cx="31687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Período tributario emisión factu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(o PT sigte. o subsgte. caso recepción o registro con atraso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76212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 u="sng">
                <a:solidFill>
                  <a:srgbClr val="ffffff"/>
                </a:solidFill>
                <a:uFillTx/>
                <a:latin typeface="Tahoma"/>
              </a:rPr>
              <a:t>Requisitos Formales</a:t>
            </a: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"/>
          <p:cNvSpPr/>
          <p:nvPr/>
        </p:nvSpPr>
        <p:spPr>
          <a:xfrm>
            <a:off x="971640" y="1836720"/>
            <a:ext cx="7848360" cy="48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Que los documentos de respaldo cumplan requisitos, (Art. 23 N. 5 y 54 de la LIVS y 69 y 71 bis del Reglamento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 Formato preestablecido (Res. 1.667/1985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 Timbraj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 Identificación completa del emis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 Identificación del recep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 Descripción de la operación o guía de despacho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Fecha de emisió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 Que IVA recargado figure separadamente (Art. 24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y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69 de la LIV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53352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 u="sng">
                <a:solidFill>
                  <a:srgbClr val="ffffff"/>
                </a:solidFill>
                <a:uFillTx/>
                <a:latin typeface="Tahoma"/>
              </a:rPr>
              <a:t>Requisitos Formales</a:t>
            </a: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(Situaciones especiale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"/>
          <p:cNvSpPr/>
          <p:nvPr/>
        </p:nvSpPr>
        <p:spPr>
          <a:xfrm>
            <a:off x="539640" y="2065320"/>
            <a:ext cx="723924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Caso extravío de documentos: La pérdida no tiene efecto retroactivo, siempre que se acredit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* Recepción y contabilización oportu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* Comunicación de extravío al SII, dentro del plazo legal, conforme al Art. 97 No. 16 del C.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* Efectividad de operacio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60948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 u="sng">
                <a:solidFill>
                  <a:srgbClr val="ffffff"/>
                </a:solidFill>
                <a:uFillTx/>
                <a:latin typeface="Tahoma"/>
              </a:rPr>
              <a:t>Requisitos Formales</a:t>
            </a:r>
            <a:r>
              <a:rPr b="0" lang="es-MX" sz="36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Tahoma"/>
              </a:rPr>
              <a:t>(Situaciones especiale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2. Tratamiento tributario IVA extemporáneo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Gasto tributario o costo del activ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Solicitar devolución conforme Art. 126 del C.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Solicitar compensación Art. 127 del C.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611280" y="260280"/>
            <a:ext cx="8215200" cy="15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REQUISITOS SUSTANTIV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1. 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Tahoma"/>
              </a:rPr>
              <a:t>Dan derecho</a:t>
            </a: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: El IVA soportado por :</a:t>
            </a: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1844640"/>
            <a:ext cx="4716360" cy="54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Adquisición de bienes muebles o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Utilización de servicios destinad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al activo realizab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Adquisición de bienes muebles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Inmuebles o utilización de servici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Destinados al activo fij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Adquisición de bienes o utiliz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de servicios que constituyan gast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de tipo general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191120" y="1981080"/>
            <a:ext cx="914400" cy="4419720"/>
          </a:xfrm>
          <a:custGeom>
            <a:avLst/>
            <a:gdLst>
              <a:gd name="textAreaLeft" fmla="*/ 0 w 914400"/>
              <a:gd name="textAreaRight" fmla="*/ 330120 w 914400"/>
              <a:gd name="textAreaTop" fmla="*/ 115200 h 4419720"/>
              <a:gd name="textAreaBottom" fmla="*/ 4304520 h 4419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356000" y="2060640"/>
            <a:ext cx="685800" cy="4495680"/>
          </a:xfrm>
          <a:custGeom>
            <a:avLst/>
            <a:gdLst>
              <a:gd name="textAreaLeft" fmla="*/ 0 w 685800"/>
              <a:gd name="textAreaRight" fmla="*/ 247680 w 685800"/>
              <a:gd name="textAreaTop" fmla="*/ 117000 h 4495680"/>
              <a:gd name="textAreaBottom" fmla="*/ 4378680 h 449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292720" y="2133720"/>
            <a:ext cx="762120" cy="52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443640" y="1413000"/>
            <a:ext cx="457200" cy="53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380360" y="1654200"/>
            <a:ext cx="761760" cy="52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394920" y="691920"/>
            <a:ext cx="8534520" cy="56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Tahoma"/>
              </a:rPr>
              <a:t>Consideraciones a tener presente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•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Relación directa, debe entenderse como </a:t>
            </a:r>
            <a:r>
              <a:rPr b="0" lang="es-MX" sz="2800" spc="-1" strike="noStrike" u="sng">
                <a:solidFill>
                  <a:srgbClr val="ffffff"/>
                </a:solidFill>
                <a:uFillTx/>
                <a:latin typeface="Tahoma"/>
                <a:ea typeface="Times New Roman"/>
              </a:rPr>
              <a:t>indispensable y necesario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 para la actividad del contribuyente. La relación no está referida necesariamente a la inmediata generación de débit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•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Giro o actividad: </a:t>
            </a:r>
            <a:r>
              <a:rPr b="0" lang="es-MX" sz="2800" spc="-1" strike="noStrike" u="sng">
                <a:solidFill>
                  <a:srgbClr val="ffffff"/>
                </a:solidFill>
                <a:uFillTx/>
                <a:latin typeface="Tahoma"/>
                <a:ea typeface="Times New Roman"/>
              </a:rPr>
              <a:t>Objeto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 económico a que se dedica el contribuyent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•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No hay relación directa, cuando las adquisiciones o servicios se destinan para </a:t>
            </a:r>
            <a:r>
              <a:rPr b="0" lang="es-MX" sz="2800" spc="-1" strike="noStrike" u="sng">
                <a:solidFill>
                  <a:srgbClr val="ffffff"/>
                </a:solidFill>
                <a:uFillTx/>
                <a:latin typeface="Tahoma"/>
                <a:ea typeface="Times New Roman"/>
              </a:rPr>
              <a:t>uso particular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, (Art. 41 inc 2° del Regl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228240" y="609120"/>
            <a:ext cx="8591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Tahoma"/>
              </a:rPr>
              <a:t>2. </a:t>
            </a:r>
            <a:r>
              <a:rPr b="1" lang="es-MX" sz="2800" spc="-1" strike="noStrike" u="sng">
                <a:solidFill>
                  <a:srgbClr val="ffffff"/>
                </a:solidFill>
                <a:uFillTx/>
                <a:latin typeface="Tahoma"/>
              </a:rPr>
              <a:t>Relación con operacione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8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ffff"/>
                </a:solidFill>
                <a:uFillTx/>
                <a:latin typeface="Tahoma"/>
              </a:rPr>
              <a:t>gravadas: (Art. 23 N° 2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8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No hay crédito sin débit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78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Bienes y servicios deben estar afectos a la generación de operaciones gravad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78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Operaciones afectas se define al momento en que el contribuyente soporta el impuesto, sin importar si por causa ajena o sobreviniente, las adquisiciones o servicios no lleguen a generar débito, ejem.: mercaderías siniestradas; venta no afecta de activo fijo; et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552240" y="764640"/>
            <a:ext cx="8591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Tahoma"/>
              </a:rPr>
              <a:t>3. Crédito Fiscal proporcional </a:t>
            </a:r>
            <a:r>
              <a:rPr b="1" lang="es-MX" sz="2800" spc="-1" strike="noStrike" u="sng">
                <a:solidFill>
                  <a:srgbClr val="ffffff"/>
                </a:solidFill>
                <a:uFillTx/>
                <a:latin typeface="Tahoma"/>
              </a:rPr>
              <a:t>(Art. 23 N° 3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Bienes y servicios afectos a la generación tanto de operaciones gravadas y no gravad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El crédito fiscal se calcula en forma proporcional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539280" y="1773360"/>
            <a:ext cx="860436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n las ventas: Precio de venta de los bienes corporales muebles: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n los servicios: Valor de las prestaciones: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Se </a:t>
            </a:r>
            <a:r>
              <a:rPr b="0" lang="es-ES" sz="2400" spc="-1" strike="noStrike" u="sng">
                <a:solidFill>
                  <a:srgbClr val="ffffff"/>
                </a:solidFill>
                <a:uFillTx/>
                <a:latin typeface="Tahoma"/>
              </a:rPr>
              <a:t>incluyen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Intereses y gastos de financiamiento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Reajustes y diferencias de cambio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Int. Moratorios exigibles o percibidos anticipadamente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Valor envases y garantías por devoluciones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Impuestos: excepto LIVS e Imp. específico combustibl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Se </a:t>
            </a:r>
            <a:r>
              <a:rPr b="0" lang="es-MX" sz="2400" spc="-1" strike="noStrike" u="sng">
                <a:solidFill>
                  <a:srgbClr val="ffffff"/>
                </a:solidFill>
                <a:uFillTx/>
                <a:latin typeface="Tahoma"/>
              </a:rPr>
              <a:t>deducen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Bonificación o descuento coetáneo a la facturació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1116000" y="260280"/>
            <a:ext cx="7559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Base Imponible en lo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Hechos gravados básicos y especia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ahoma"/>
              </a:rPr>
              <a:t>4. </a:t>
            </a:r>
            <a:r>
              <a:rPr b="0" lang="es-MX" sz="2800" spc="-1" strike="noStrike" u="sng">
                <a:solidFill>
                  <a:srgbClr val="eaeaea"/>
                </a:solidFill>
                <a:uFillTx/>
                <a:latin typeface="Tahoma"/>
              </a:rPr>
              <a:t>Que las adquisiciones o utilizaciones de servicios no digan relación con</a:t>
            </a:r>
            <a:r>
              <a:rPr b="0" lang="es-MX" sz="2800" spc="-1" strike="noStrike">
                <a:solidFill>
                  <a:srgbClr val="eaeaea"/>
                </a:solidFill>
                <a:latin typeface="Tahoma"/>
              </a:rPr>
              <a:t>: (Art. 23 N° 4)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Adquisición de automóviles, station wagons y similares, como asimismo los gastos relacionados con los mismos. </a:t>
            </a:r>
            <a:r>
              <a:rPr b="0" i="1" lang="es-MX" sz="2800" spc="-1" strike="noStrike">
                <a:solidFill>
                  <a:srgbClr val="ffffff"/>
                </a:solidFill>
                <a:latin typeface="Tahoma"/>
              </a:rPr>
              <a:t>Salvo calificación de D. Nacional SII, según Ley 19.738 de 19.06.01 (Art. 23 N. 4 de la LIV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La calificación de automóvil, station wagons, jeeps y similares no la hace el SII, la hace la Comisión Automotriz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"/>
          <p:cNvSpPr/>
          <p:nvPr/>
        </p:nvSpPr>
        <p:spPr>
          <a:xfrm>
            <a:off x="7238880" y="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Crédito Fisc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ahoma"/>
              </a:rPr>
              <a:t>5. </a:t>
            </a:r>
            <a:r>
              <a:rPr b="0" lang="es-MX" sz="2800" spc="-1" strike="noStrike" u="sng">
                <a:solidFill>
                  <a:srgbClr val="eaeaea"/>
                </a:solidFill>
                <a:uFillTx/>
                <a:latin typeface="Tahoma"/>
              </a:rPr>
              <a:t>Que el crédito fiscal sea auténtico y cumpla normas legales y reglamentarias (Art. 23 N° 5), por tanto: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480" y="2590560"/>
            <a:ext cx="24386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No se tie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derech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7238880" y="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Crédito Fisc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2057400"/>
            <a:ext cx="533520" cy="2819520"/>
          </a:xfrm>
          <a:custGeom>
            <a:avLst/>
            <a:gdLst>
              <a:gd name="textAreaLeft" fmla="*/ 340920 w 533520"/>
              <a:gd name="textAreaRight" fmla="*/ 533880 w 533520"/>
              <a:gd name="textAreaTop" fmla="*/ 73440 h 2819520"/>
              <a:gd name="textAreaBottom" fmla="*/ 2746080 h 2819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133720" y="2057400"/>
            <a:ext cx="304560" cy="3429000"/>
          </a:xfrm>
          <a:custGeom>
            <a:avLst/>
            <a:gdLst>
              <a:gd name="textAreaLeft" fmla="*/ 194760 w 304560"/>
              <a:gd name="textAreaRight" fmla="*/ 304920 w 304560"/>
              <a:gd name="textAreaTop" fmla="*/ 89280 h 3429000"/>
              <a:gd name="textAreaBottom" fmla="*/ 3339720 h 3429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666880" y="2438280"/>
            <a:ext cx="480060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5.1 Facturas No Fidedignas o Fals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5.2 IVA recargado indebidam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5.3 Facturas que no cumplen requisitos form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755280" y="1699920"/>
            <a:ext cx="838836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Determinan improcedencia del crédito fisc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ahoma"/>
              </a:rPr>
              <a:t>Facturas no Fidedignas: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Contienen irregularidades materiales por lo que no se ajustarían a la verdad: Ej.: Correcciones: alteración correlativo, et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Facturas falsas: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Faltan a la verdad o realidad que pretend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Falsedad material: Alteran el sentido de la factur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-Falsedad ideológica: Contienen actos o cosas falsas o mentirosas. Nunca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debieran dar derecho a C.F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1110600" y="692280"/>
            <a:ext cx="73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Tahoma"/>
              </a:rPr>
              <a:t>5.1 </a:t>
            </a:r>
            <a:r>
              <a:rPr b="1" lang="es-MX" sz="3200" spc="-1" strike="noStrike" u="sng">
                <a:solidFill>
                  <a:srgbClr val="ffffff"/>
                </a:solidFill>
                <a:uFillTx/>
                <a:latin typeface="Tahoma"/>
              </a:rPr>
              <a:t>Facturas No Fidedignas o Fals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1532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5.2 </a:t>
            </a:r>
            <a:r>
              <a:rPr b="1" lang="es-MX" sz="2800" spc="-1" strike="noStrike" u="sng">
                <a:solidFill>
                  <a:srgbClr val="ffffff"/>
                </a:solidFill>
                <a:uFillTx/>
                <a:latin typeface="Tahoma"/>
              </a:rPr>
              <a:t>facturas otorgadas por personas no contribuyentes del impuest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¿Opera para facturas emitidas por personas no contribuyente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¿Opera para facturas emitidas por operaciones no gravadas y /o exenta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¿Qué ocurre con el IVA rechazado al comprador y enterado por el emisor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685800" y="380880"/>
            <a:ext cx="77724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5.3 </a:t>
            </a:r>
            <a:r>
              <a:rPr b="0" lang="es-MX" sz="3200" spc="-1" strike="noStrike" u="sng">
                <a:solidFill>
                  <a:srgbClr val="ffffff"/>
                </a:solidFill>
                <a:uFillTx/>
                <a:latin typeface="Tahoma"/>
              </a:rPr>
              <a:t>Facturas que no cumplen requisitos legales o reglamentarios</a:t>
            </a: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ffff"/>
                </a:solidFill>
                <a:uFillTx/>
                <a:latin typeface="Tahoma"/>
              </a:rPr>
              <a:t>Requisitos de las facturas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De forma: Se desprenden por el mero exame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De fondo: No es posible verificarlos por medio del simple examen. Apuntan a la autenticidad de la oper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ffff"/>
                </a:solidFill>
                <a:uFillTx/>
                <a:latin typeface="Tahoma"/>
              </a:rPr>
              <a:t>Negación del crédito fiscal, procedimientos y medios de prueba para reestablecer su derecho (Art. 23 N° 5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"/>
          <p:cNvSpPr/>
          <p:nvPr/>
        </p:nvSpPr>
        <p:spPr>
          <a:xfrm>
            <a:off x="324000" y="3068640"/>
            <a:ext cx="1295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Ar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23No.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1981080"/>
            <a:ext cx="380880" cy="3353040"/>
          </a:xfrm>
          <a:custGeom>
            <a:avLst/>
            <a:gdLst>
              <a:gd name="textAreaLeft" fmla="*/ 243360 w 380880"/>
              <a:gd name="textAreaRight" fmla="*/ 381240 w 380880"/>
              <a:gd name="textAreaTop" fmla="*/ 87120 h 3353040"/>
              <a:gd name="textAreaBottom" fmla="*/ 3265920 h 3353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403280" y="2205000"/>
            <a:ext cx="381240" cy="4038480"/>
          </a:xfrm>
          <a:custGeom>
            <a:avLst/>
            <a:gdLst>
              <a:gd name="textAreaLeft" fmla="*/ 243720 w 381240"/>
              <a:gd name="textAreaRight" fmla="*/ 381600 w 381240"/>
              <a:gd name="textAreaTop" fmla="*/ 105120 h 4038480"/>
              <a:gd name="textAreaBottom" fmla="*/ 3933360 h 4038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340000" y="2276640"/>
            <a:ext cx="624852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Inc. 1°: Establece presunción de negación C.F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Inc. 2°: Medidas de prevención de rechaz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Inc. 3°: Medios de prueba ante objeción SI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Inc. 4°: Si se acredita recargo y pago de IVA por vendedor no se aplica Inc. 2° y 3° y no se pierde Créd. Fisc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Inc. 5° Lo dispuesto en inc. 2° y 3° no se aplica en caso participación y conoc. de falseda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ahoma"/>
              </a:rPr>
              <a:t>Acciones preventivas para resguardar el derecho a crédito fiscal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Pago con cheque nominativo al emisor como titular de la cuenta giradora. (Cheque original o fotoc. autorizada por el banco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Anotación en el dorso del cheque RUT del emisor y N. de la factur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ahoma"/>
              </a:rPr>
              <a:t>Procedimientos y medios de prueba para reestablecer derecho a crédito fiscal en caso de objeción por el SII</a:t>
            </a: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09120" y="2133720"/>
            <a:ext cx="8139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. Pago con cheque nominativo al emisor con cuenta corriente del comprador o beneficiario del servicio. (Cheque original o fotoc. autorizada por el banco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b. Anotación en el dorso del cheque RUT del emisor y N. de la factu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c. Que la cuenta corriente bancaria se encuentra registrada en la contabilidad, (si procede) y que la operación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 se registró oportunament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d. Cumplimiento de requisitos de form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e. Que la operación fue real y efectiv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(Transporte de las mercaderías; ingreso a bodega; anotación en controles de inventario y otros instrumentos de prueb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El procedimiento anterior </a:t>
            </a:r>
            <a:r>
              <a:rPr b="0" lang="es-ES" sz="2800" spc="-1" strike="noStrike" u="sng">
                <a:solidFill>
                  <a:srgbClr val="ffffff"/>
                </a:solidFill>
                <a:uFillTx/>
                <a:latin typeface="Tahoma"/>
              </a:rPr>
              <a:t>no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se aplicará cuando el contribuyente ha tomado conocimiento de las irregularidades o ha participado en los actos conducentes a la falsedad ideológica o material de las factur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82692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Tahoma"/>
              </a:rPr>
              <a:t>En caso de facturas sin requisitos legales: facturas no fidedignas o falsas, no será necesario acreditar requisitos de forma y fondo descritas para hacer uso del crédito fiscal, si se acredita que el impuesto ha sido recargado y “pagado efectivamente” en arcas fiscales por el vendedor. (Ley 19.738 D.O. (19.06.01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68000" y="2060640"/>
            <a:ext cx="86756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Intereses por operaciones de crédito de dinero. Exentos conforme a N° 10, letra E, Artículo 12 de la LIV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Monto de la variación de U.F. Por operaciones a plazo que ya pagaron el impuesto (saldos de precio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Depósitos para garantizar devoluciones de envases de bebidas analcohólicas, jugos, cervezas, aguas minerales, y cilindros o balones de gas licuado de  petróleo (Art. 28 Regl. y Res. Ex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1332000" y="549360"/>
            <a:ext cx="66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Conceptos que se excepcion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4042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ahoma"/>
              </a:rPr>
              <a:t>Determinación del Crédito Fiscal Mensual: (Art. 24)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26920" y="19890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(+) IVA recargado en factur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(+) IVA según comprob. Importacion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(+) IVA según notas de débito recibidas por aumentos del impuesto facturad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(-) IVA según notas de créditos recibid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Por bonificaciones, descuentos y devolucion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De mercaderías o resciliaciones de servici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(Que emisores hayan rebajado de sus débit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Fiscales, conforme a Art. 21)            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ahoma"/>
              </a:rPr>
              <a:t>Jurisprudencia Administrativa del S.I.I.</a:t>
            </a:r>
            <a:br>
              <a:rPr sz="3200"/>
            </a:br>
            <a:br>
              <a:rPr sz="3200"/>
            </a:br>
            <a:r>
              <a:rPr b="0" lang="es-MX" sz="3200" spc="-1" strike="noStrike">
                <a:solidFill>
                  <a:srgbClr val="eaeaea"/>
                </a:solidFill>
                <a:latin typeface="Tahoma"/>
              </a:rPr>
              <a:t>Oficios Recomendado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3391/ 88 – 1471/96 – 74/88 – 5730/80 – 1447/79 – 1755/77 – 4175/87 – 1969/90 – 439/77 – 1739/97 – 4825/95 – 5476/7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26560" y="1557000"/>
            <a:ext cx="83170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Los fletes y embalajes que se cobren coetáneamente con la venta o prestación del servicio, aumentan la base imponible de tales operaciones. Si se cobran separadamente, por si solos constituyen hecho gravado básico de servicio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Ejemplo: Venta de productos afectos a impuestos adicionales al IVA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Operación: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B. Imp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Impt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Venta bebidas alcohólicas: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2.000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     IVA e IAB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- Fletes y embalajes: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1.000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     IVA       “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1332000" y="549360"/>
            <a:ext cx="66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Conceptos relevan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60948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Jurisprudencia Administrativa del S.I.I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684360" y="2492280"/>
            <a:ext cx="716256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Oficios Recomendado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567/97 – 191/95 -  3136/97 – 16/92 – 4268/84 – 2564/81 – 4333/91 – 2007/96 – 1051/97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eaeaea"/>
                </a:solidFill>
                <a:latin typeface="Tahoma"/>
              </a:rPr>
              <a:t>DEBITO FISCAL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Débito Fiscal: Suma del IVA recargado en las ventas y servicios en un período tributari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Contribuyentes tendrán derecho a rebajar el débito fiscal contra el crédito fiscal del mismo períod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Base imponible * 19% = Débito Fisc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En la última etapa de circulación, el consumidor final soporta la totalidad del débito fisca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76212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 u="sng">
                <a:solidFill>
                  <a:srgbClr val="ffffff"/>
                </a:solidFill>
                <a:uFillTx/>
                <a:latin typeface="Tahoma"/>
              </a:rPr>
              <a:t>Determinación del Débito Fiscal mensual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1752480"/>
            <a:ext cx="2209680" cy="1676520"/>
          </a:xfrm>
          <a:prstGeom prst="flowChartDocumen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BOLE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Total :1.19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276720" y="2286000"/>
            <a:ext cx="2743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Art. 88 Cód. Tributar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Art. 55 LIV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324480" y="1752480"/>
            <a:ext cx="2210040" cy="1676520"/>
          </a:xfrm>
          <a:prstGeom prst="flowChartDocumen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FACTU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Neto: 1.0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IVA:   19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Total: 1.19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14400" y="3581280"/>
            <a:ext cx="0" cy="1143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90720" y="4800600"/>
            <a:ext cx="10666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229600" y="3276720"/>
            <a:ext cx="0" cy="1447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7238880" y="48006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987640" y="414972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imes New Roman"/>
              </a:rPr>
              <a:t>LIBRO DE VENTAS   mes    año</a:t>
            </a: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514600" y="4648320"/>
            <a:ext cx="213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imes New Roman"/>
              </a:rPr>
              <a:t>Día Bol del N° al N°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105520" y="518148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imes New Roman"/>
              </a:rPr>
              <a:t>Neto Iva Tot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514600" y="518148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imes New Roman"/>
              </a:rPr>
              <a:t>Fact. N° Fecha Cliente Ru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105520" y="465300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imes New Roman"/>
              </a:rPr>
              <a:t>Neto Iva Tot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514600" y="56386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imes New Roman"/>
              </a:rPr>
              <a:t>Totales mes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556000" y="4005360"/>
            <a:ext cx="4343400" cy="2514600"/>
          </a:xfrm>
          <a:prstGeom prst="flowChartDocumen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00000" y="407664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(Dividir por 1.19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093080" y="3860640"/>
            <a:ext cx="16761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Sumar I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recarga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04000" y="609300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Art. 59 de la LIV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971640" y="762120"/>
            <a:ext cx="7704000" cy="53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 u="sng">
                <a:solidFill>
                  <a:srgbClr val="ffffff"/>
                </a:solidFill>
                <a:uFillTx/>
                <a:latin typeface="Tahoma"/>
              </a:rPr>
              <a:t>Ajustes al Débito Fisc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800" spc="-1" strike="noStrike" u="sng">
                <a:solidFill>
                  <a:srgbClr val="ffffff"/>
                </a:solidFill>
                <a:uFillTx/>
                <a:latin typeface="Tahoma"/>
              </a:rPr>
              <a:t>Agregados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: Según notas de débito emitidas en un período tributario, de hechos gravados devengados en el mismo período tributario o anteriores: (Art. 36 del Reglam.)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57080" indent="-285480">
              <a:spcBef>
                <a:spcPts val="601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Diferencias de preci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57080" indent="-285480">
              <a:spcBef>
                <a:spcPts val="601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Intereses, reajustes, diferencias de cambio y gastos de financiamient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57080" indent="-285480">
              <a:spcBef>
                <a:spcPts val="601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Intereses moratori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57080" indent="-285480">
              <a:spcBef>
                <a:spcPts val="601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Diferencias de facturación del mismo períod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3T16:06:21Z</dcterms:created>
  <dc:creator>Claro y Cia.</dc:creator>
  <dc:description/>
  <dc:language>en-US</dc:language>
  <cp:lastModifiedBy>JCARRAHA</cp:lastModifiedBy>
  <dcterms:modified xsi:type="dcterms:W3CDTF">2006-04-10T18:59:12Z</dcterms:modified>
  <cp:revision>390</cp:revision>
  <dc:subject/>
  <dc:title>UNIVERSIDAD CATOLICA DE CHILE DIPLOMADO EN GESTION TRIBUTARIA </dc:title>
</cp:coreProperties>
</file>