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7AE-8B28-4325-A165-BE61CFD4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932-B3EC-45E8-94AF-B941C668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4242-7AED-453E-A0C3-498860F4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D84-AFC2-4CF0-9189-91CA7BF2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110-DC40-461C-B634-C56BA423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1302-1839-4F33-8ADF-4D9BB834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7A87-A8CE-48C3-8F57-B7136C57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830-6A0A-4CD4-8D47-3AF52255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F236-9208-4A7B-9889-B14BA5A2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B3B1-0EC6-4E3D-86F2-04769281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F46E-8E8E-4C48-B1FC-ED777FE1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61E-D147-4EE8-8398-BCDB14FF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D4CA-BC75-4CF5-A777-24684C2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E65C-A1B2-4F08-923C-AF58B824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ADBD-35B2-4FC4-A306-9D1E8F4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7921-23B5-4D0A-9ACA-CF1FEDCB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7CDD-560E-4004-B213-2D871B87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B41-92E4-49EA-9382-492678C1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DC4-E484-4DF6-BAB9-45657EAA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621-5FA3-40E6-ABA8-DAF7C020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2FD-C3D2-4600-BCE1-42B5FABD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7DD-31EA-4153-9202-D726F6B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70B-5FDB-4A0A-863F-5A4ABD54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35D-9545-4194-99EC-3B129F37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2029-6BEF-45B9-804F-ABE5CFF5BF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4940-5163-4F53-A394-4E7187916E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DEVENGAMIENTO DEL IV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Ventas en Consign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tu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ferent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781360"/>
            <a:ext cx="304560" cy="2438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2666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 misma que realiza el consigna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724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muneración que cobra el consignata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Situación de las ventas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efectuadas por el consignatari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se encuentra afecta a IVA siempre que recaiga sobre bienes del giro (activo realizable) del mandante (“vendedor”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jeto de IVA por el monto total: ES EL MAND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  <a:ea typeface="Times New Roman"/>
              </a:rPr>
              <a:t>Situación de la remuneración del consignatari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 consignatario o comisionista es contribuyentes con rentas clasificadas en Nos. 3 ó 4 art. 20 Ley Renta: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imponible: comisión o remune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se aplica al trabajador dependiente, profesionales, ni otros que presten servicios sin emplear ca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Anticipos a cuenta del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de v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dalidad venta en que se obtienen anticipos del valor de las especies vend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entrega y factura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precio vigente época entre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ticipos no se encuentran afectos a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Normas especiales – Contratos relativos a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VA se devenga al momento de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emitirs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la respectiva FACTU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contratos generales de construcción por suma alzada o administ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contratos de instalación o confección de especialidades a suma alzada o por ad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ventas o promesas de ventas de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rriendo de inmuebles con opción de comp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portunidad de emisión factu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 momento de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PERCIBIR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 precio del contrato o parte de és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tratos generales de construcción por suma alzada o por 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tratos de confección o instalación de especi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promesas de ventas de inmue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arriendos de inmuebles con opción de comp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portunidad de emisión factur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las ventas de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6360" y="249228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cibir todo o parte del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entrega real o simb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suscripción Escritura Pública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349360"/>
            <a:ext cx="609480" cy="2743200"/>
          </a:xfrm>
          <a:custGeom>
            <a:avLst/>
            <a:gdLst>
              <a:gd name="textAreaLeft" fmla="*/ 0 w 609480"/>
              <a:gd name="textAreaRight" fmla="*/ 219960 w 609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209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2924280"/>
            <a:ext cx="1441440" cy="1937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curra 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Oportunidad de emisión facturas en otras transferencias de 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32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por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rans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ti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de universal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2057400"/>
            <a:ext cx="216000" cy="1741320"/>
          </a:xfrm>
          <a:custGeom>
            <a:avLst/>
            <a:gdLst>
              <a:gd name="textAreaLeft" fmla="*/ 0 w 216000"/>
              <a:gd name="textAreaRight" fmla="*/ 78120 w 21600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24210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e comprendan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80060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cha entrega real o simból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cha suscripción Escritura Pública Ve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191120"/>
            <a:ext cx="216000" cy="1904760"/>
          </a:xfrm>
          <a:custGeom>
            <a:avLst/>
            <a:gdLst>
              <a:gd name="textAreaLeft" fmla="*/ 0 w 216000"/>
              <a:gd name="textAreaRight" fmla="*/ 78120 w 2160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16200" y="11250"/>
                  <a:pt x="21600" y="11250"/>
                </a:cubicBezTo>
                <a:cubicBezTo>
                  <a:pt x="162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648320"/>
            <a:ext cx="1447920" cy="12027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o 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Norma Genera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vengamiento en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59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Fecha emisión factura o boleta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- Fecha remuneración se percibe o pone a disposición del prestador de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308720" y="2708280"/>
            <a:ext cx="1067040" cy="916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o que ocurra pri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2276640"/>
            <a:ext cx="215640" cy="1741320"/>
          </a:xfrm>
          <a:custGeom>
            <a:avLst/>
            <a:gdLst>
              <a:gd name="textAreaLeft" fmla="*/ 0 w 215640"/>
              <a:gd name="textAreaRight" fmla="*/ 77760 w 215640"/>
              <a:gd name="textAreaTop" fmla="*/ 45360 h 1741320"/>
              <a:gd name="textAreaBottom" fmla="*/ 1695960 h 17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anticipos percibidos antes de la prestación del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I: basta que se perciba aunque el servicio no se hubiera prestado (factura por el monto percibi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RIBUNALES SUPERIORES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sencial que se verifique la pres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boleta debe emitirse cuando se hay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izado el servicio y sea pag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Devengamiento</a:t>
            </a: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232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mento en que concurren todos los elementos del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ISCO adquiere desde ese mo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ítulo o derecho sobre el monto del trib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independiente de su exigi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5665680"/>
            <a:ext cx="7620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VENGA EL IMPUESTO CUANDO OCUR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L HECHO QUE DA NACIMIENTO A LA OBLIGA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TRIBU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Prestación de servicios periódic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2560" y="2491920"/>
            <a:ext cx="5410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Término período fijado para su pa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echa emisión factura o bol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ercepción o puesta a dis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2781360"/>
            <a:ext cx="1143000" cy="1326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2360" y="4869000"/>
            <a:ext cx="5904000" cy="118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s periódicos: aquellos que se prestan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orma permanente, regular o continua, el cobro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go se efectúa en forma periódica, determin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ministros y servici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ciliarios periódic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vengamiento al término de cada período fijado para el pago del precio, independiente de su pago o factu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ergía elé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servicios telef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gua po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lcantarill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Import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ículo 9 letra 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venga impuesto al consuma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egalmente la importació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l tramitarse totalmente la import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5157720"/>
            <a:ext cx="5105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ndo mercancías quedan a disposición del interesado para su libre circulación en el paí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6.- Retiros de mercaderí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VA se devenga al momento del re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pectivo; oportunidad en que deben ser contabiliz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retiros para uso personal socio, dueño, empleado o fami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ltantes de inven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bienes corporales muebles destinados a rifas y sorteos con fines    promo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tregas de bienes gratuitamente con mismos f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7.- IVA por intereses e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mpraventa a Plaz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9 letr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eses o reajustes por saldo de impago de ventas a plazo devengan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al hacerse exig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al percibi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3581280"/>
            <a:ext cx="1295640" cy="1326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o 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cur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25780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41008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n exigibles al vencimiento de la respectiva cuota, le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u otro documento que lo contenga, en todo o pa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cias de camb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riginadas en ventas a plazo de bi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rporales muebles: se incluyen en el concepto de reaju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rman parte de la base imponible cuando proce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ajustes equivalentes a la variación de la UF no se encuentran afectos a 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aeaea"/>
                </a:solidFill>
                <a:latin typeface="Tahoma"/>
              </a:rPr>
              <a:t>SUJETO DEL IMPUESTO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Regla general sobre el sujeto pas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0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041560" y="30891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4648320"/>
            <a:ext cx="45720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STADOR DE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3276720"/>
            <a:ext cx="4495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ende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a) Al realizar “ventas” de bienes de su prop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ducción o adquiridos de terce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b) Al realizar cualquiera de las operaciones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la ley equipara a ven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dor de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a) al realizar hecho gravado básico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b) al realizar hecho gravado especial servi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rientes de bienes corporales muebles o servicios cuando el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II CAMBIA EL SUJE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dquirientes d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ebles cuando lo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vendedor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no tienen domicilio ni residencia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Normas de devengamient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general: venta b.c.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bienes corporales inmueb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general: 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 : servicios perió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import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rma especial: intereses saldo pre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rt. 21 Reglamen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lidad de sujeto del Impues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eneficiarios del Servicio cuando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realiza la prestación reside en el  extranj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onistas, consignatarios, martilleros y toda persona que compra o venda habitualmente bienes corporales muebles por cuenta de terceros vendedores – sujetos del impuesto por la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Aplicación de RG a casos especi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8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2 Regla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) Import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28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117880" y="339408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7080" y="2971800"/>
            <a:ext cx="2241000" cy="8254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mpor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a habitual o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33526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981080"/>
            <a:ext cx="2133720" cy="31244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que intr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duce legalmente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mercader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xtranjera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ara su uso 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nsu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n el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) Ventas realizadas por person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n residencia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4584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971800"/>
            <a:ext cx="2438280" cy="162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ujeto Pasiv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MPRAD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DQUIR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2438280"/>
            <a:ext cx="457200" cy="2438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2819520"/>
            <a:ext cx="304812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 el 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o tiene resi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Chile (aunqu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erve el domicil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) Adjudicacio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10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1981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bienes corporales muebles del giro en liquidaciones de soc. o 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971800"/>
            <a:ext cx="2209680" cy="157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37339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2971800"/>
            <a:ext cx="2438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c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comuneros 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OLIDARI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SPONS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tributo por la cuo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e les correspo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) Aport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10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1 letra 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819520"/>
            <a:ext cx="1828800" cy="1850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POR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3581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1240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jeto del Tribu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) Servicios prestador por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sonas no residentes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179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819520"/>
            <a:ext cx="2210040" cy="225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2286000"/>
            <a:ext cx="1905120" cy="3124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restador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rv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side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xteri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) Contratos grales. Construc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y Conf. e instal. especialidad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47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1 Letra 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2971800"/>
            <a:ext cx="2743200" cy="278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B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T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) Transferencias recíprocas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276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2743200"/>
            <a:ext cx="26668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u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3657600"/>
            <a:ext cx="2666880" cy="86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tras conven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ransferencia mut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438280"/>
            <a:ext cx="457200" cy="243864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76920" y="2819520"/>
            <a:ext cx="25905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DA PA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S SUJETO PASIVO DE LAS ESPECIES QUE TRANSFI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518148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57913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66720" y="5410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5257800"/>
            <a:ext cx="76176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49528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manza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) Operaciones realizadas por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misionistas y otr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47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22  Regla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2895480"/>
            <a:ext cx="2210040" cy="109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isioni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signat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artill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2971800"/>
            <a:ext cx="2057400" cy="70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isión 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mune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727880"/>
            <a:ext cx="2210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d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572000"/>
            <a:ext cx="2057400" cy="709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onto total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v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1.- Norma general: Venta de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Bienes Corporales Mueb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9 letra a)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echa emisión boleta o factura;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echa de entrega real o simbólica de las especies cuando por naturaleza del acto que da origen a la transferencia no se emita boleta o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ambios de Sujeto Pasivo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ey faculta al SII para cambiar al sujeto pasivo (art.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36576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319608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sladando la oblig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comprador o benefic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ambio del Sujeto Pas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acultas del SII es Discrecional (juicio exclusiv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mposición a determinados vendedores la carga de retener y pagar el IVA que sus propios adquirentes deban recargar por las ventas o servicios que presten a terc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 notificarse resolución: Obligación Tributaria: entre el Estado y el comp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rma general: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ienes Corporales 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2204640"/>
            <a:ext cx="7543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vengamiento queda supeditado a dos hech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misión de boleta o fa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entrega real o simb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952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4797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bviamente: para que se devengue el tributo, deben concurrir todos los elementos del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misión de Documen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echa en que deben emitirse las BOLE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n el momento de la entrega real o simbólica de las espe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echa en que deben emitirse las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mismo momento de entrega real o simbólica de las especies; o A MAS TAR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hasta el 5° día posterior al término del mes en que se realizaron las ventas, indicándose la fecha en que se efectúo venta; habiendo emitido GUIA DE DESPA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Entreg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trega 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vendedor permite al comprador la aprehensión material de la espe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ntrega Simb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vendedor entrega las llaves del lug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se transfiere el bien a una persona que ya lo tiene por cualquier título no traslaticio de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se ponen especies a disposición del intere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ones especia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incluyen dentro de las normas generales sobre devengamiento de IVA en venta de bienes corporales mueb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Entregas en consig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Anticipos a cuenta de pre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Ventas en Consign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. 16 Reglamento: no se devenga el IVA mientras el consignatario no venda las mercaderías afectas al tribu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plicable a ventas realizadas a través 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onsigna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martill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oda persona que realice compras o ventas por cuenta de terce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3:50:56Z</dcterms:created>
  <dc:creator>Claro y Cia.</dc:creator>
  <dc:description/>
  <dc:language>en-US</dc:language>
  <cp:lastModifiedBy>JCARRAHA</cp:lastModifiedBy>
  <dcterms:modified xsi:type="dcterms:W3CDTF">2006-04-05T14:41:47Z</dcterms:modified>
  <cp:revision>279</cp:revision>
  <dc:subject/>
  <dc:title>DEVENGAMIENTO DEL IVA</dc:title>
</cp:coreProperties>
</file>