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7CA-6387-4CF2-8C34-21119997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AA5-2A11-485A-BBFF-56B21DD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BF8-BAA8-4C52-BEF2-4A63165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285-4988-426C-9A88-EE85E629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D464-8B14-4F43-B4F2-5B2B1F50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8954-FB3F-42BB-B977-69C8517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12E3-240D-4915-B172-BEAB058A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F64-59E9-42F4-B992-2A6A704B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A91-1E96-4A2A-8EC5-D00E453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257A-3C71-430C-81F2-32FDA5B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099-1FD8-44BC-8352-30C169B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900-8A49-44C4-A450-7CB6841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6259-2234-4516-BEE2-4545DEBF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9BAC-EB26-416E-AAF9-99C65A1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A867-E6CF-4267-A26A-1E6E3692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7D93-43B0-47FC-B747-1675D4A6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D2AD-1162-47F7-BD4A-26091E2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738-CB9A-4D7D-B529-448FA903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342-35CA-4A4C-A2D8-F1BB8D5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2FD-1C19-47AD-BA93-73E52530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E9D-4C67-45BA-AE88-E3D0A2F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BE5-A5B3-4C72-B2D5-CC225E5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A78-9983-4141-8BDD-245A8A1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86C-A968-4F8C-B9AE-ABE8C4A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E54-DAA6-47A9-911C-51579D5187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342-E0BB-430F-A3F5-2D09E62CD6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 DEL I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tu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t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666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 misma que realiz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72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muneración que cobr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s venta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efectuadas por 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se encuentra afecta a IVA siempre que recaiga sobre bienes del giro (activo realizable) del mandante (“vendedor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jeto de IVA por el monto total: ES EL MA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 remuneración d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imponible: comisión o remune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Anticipos a cuenta del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de v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dalidad venta en que se obtienen anticipos del valor de las especies vend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entrega y factura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precio vigente época entre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ticipos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Normas especiales – Contratos relativos a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VA se devenga al momento d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mitirs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la respectiva FACTU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de instalación o confección de especialidades a suma alzada o por ad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tas o promesas de ventas de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rriendo de inmuebles con opción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 momento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ERCIBIR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precio del contrato o parte de és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de confección o instalación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promesas de ventas de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arriendos de inmuebles con opción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las vent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cibir todo o parte del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trega real o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suscripción Escritura Pública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924280"/>
            <a:ext cx="1441440" cy="1937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curra 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Oportunidad de emisión facturas en otras transferenci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32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po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ns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ti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de universal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421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comprendan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8006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entrega real o simból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suscripción Escritura Pública V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447920" cy="1202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Norma Genera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vengamiento en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59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Fecha emisión factura o boleta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- Fecha remuneración se percibe o pone a disposición del prestador de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2708280"/>
            <a:ext cx="106704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ocurra 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anticipos percibidos antes de la prestación del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I: basta que se perciba aunque el servicio no se hubiera prestado (factura por el monto percibi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SUPERIORES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sencial que se verifique la pr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oleta debe emitirse cuando se hay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do el servicio y sea pa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</a:t>
            </a: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3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mento en que concurren todos los elementos del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ISCO adquiere desde ese mo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ítulo o derecho sobre el monto de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dependiente de su exigi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665680"/>
            <a:ext cx="7620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VENGA EL IMPUESTO CUANDO OCU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L HECHO QUE DA NACIMIENTO A LA OBLIG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IBU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Prestación de servic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249192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érmino período fijado para su p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echa emisión factura o bol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ercepción o puesta a dis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2781360"/>
            <a:ext cx="114300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4869000"/>
            <a:ext cx="5904000" cy="11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s periódicos: aquellos que se prestan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rma permanente, regular o continua, el cobro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go se efectúa en forma periódica, determin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ministros y servici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ciliar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ergía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rvicios telef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gua po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lcantaril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ículo 9 letra 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venga impuesto al consum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galmente la importació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 tramitarse totalmente la import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5157720"/>
            <a:ext cx="5105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ndo mercancías quedan a disposición del interesado para su libre circulación en el paí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6.- Retiros de mercaderí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VA se devenga al momento del 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pectivo; oportunidad en que deben ser contabiliz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retiros para uso personal socio, dueño, empleado o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ltantes de inve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bienes corporales muebles destinados a rifas y sorteos con fines    promo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tregas de bienes gratuitamente con mismos 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7.- IVA por intereses e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praventa a Plaz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eses o reajustes por saldo de impago de ventas a plazo devengan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hacerse exig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percib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581280"/>
            <a:ext cx="1295640" cy="1326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41008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n exigibles al vencimiento de la respectiva cuota, le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 otro documento que lo contenga, en todo o p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cias de camb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riginadas en ventas a plazo de bi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les muebles: se incluyen en el concepto de reaju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SUJETO DEL IMPUEST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Regla general sobre 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0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4648320"/>
            <a:ext cx="4572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276720"/>
            <a:ext cx="4495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) Al realizar “ventas” de bienes de su prop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ción o adquiridos de terc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) Al realizar cualquiera de las operacion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la ley equipara a v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a) al realizar hecho gravado básico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b) al realizar hecho gravado especial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rientes de bienes corporales muebles o servicios cuando 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II CAMBIA EL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dquirientes d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ebles cuando 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vende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no tienen domicilio ni residencia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Normas de devengamient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venta b.c.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bienes corporales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 : servici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mport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ntereses saldo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eneficiarios del Servicio cuando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realiza la prestación reside en el 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Aplicación de RG a caso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2 Regl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)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28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7080" y="2971800"/>
            <a:ext cx="2241000" cy="8254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a habitual o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981080"/>
            <a:ext cx="2133720" cy="3124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que intr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uce legalmente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ercader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xtranjer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ara su uso 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n el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n residencia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58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971800"/>
            <a:ext cx="243828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ujeto Pasiv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MPRAD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DQUIR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438280"/>
            <a:ext cx="457200" cy="2438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819520"/>
            <a:ext cx="304812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 el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 tiene resi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Chile (aunq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erve el domici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) Adjudic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81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bienes corporales muebles del giro en liquidaciones de soc. 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2971800"/>
            <a:ext cx="2438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comuneros 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LIDARI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SPONS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ributo por la cuo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les correspo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) Apor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1828800" cy="185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124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o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) Servicios prestador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sonas no residentes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17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819520"/>
            <a:ext cx="2210040" cy="225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286000"/>
            <a:ext cx="190512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estador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side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eri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) Contratos grales. Construc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y Conf. e instal. especialidad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47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) Transferencias recíprocas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276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) Operaciones realizadas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isionistas y otr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22  Regla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1.- Norma general: Venta de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a)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emisión boleta o factura;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de entrega real o simbólica de las especies cuando por naturaleza del acto que da origen a la transferencia no se emita boleta o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ambios de Sujeto Pasivo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ey faculta al SII para cambiar al sujeto pasivo (art.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ambio d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acultas del SII es Discrecional (juicio exclusiv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notificarse resolución: Obligación Tributaria: entre el Estado y el comp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queda supeditado a dos hech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misión de boleta o fa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ntrega real o simb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797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bviamente: para que se devengue el tributo, deben concurrir todos los elementos d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misión de Documen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 que deben emitirse las BOLE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 el momento de la entrega real o simbólica de las e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cha en que deben emitirse las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mismo momento de entrega real o simbólica de las especies; o A MAS TAR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Entreg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rega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dedor permite al comprador la aprehensión material de la espe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trega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vendedor entrega las llaves del lu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transfiere el bien a una persona que ya lo tiene por cualquier título no traslaticio de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ponen especies a disposición del intere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one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incluyen dentro de las normas generales sobre devengamiento de IVA en venta de bienes corporales mueb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Entregas en consig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Anticipos a cuenta de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plicable a ventas realizadas a través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signa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martill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JCARRAHA</cp:lastModifiedBy>
  <dcterms:modified xsi:type="dcterms:W3CDTF">2006-04-05T14:41:47Z</dcterms:modified>
  <cp:revision>279</cp:revision>
  <dc:subject/>
  <dc:title>DEVENGAMIENTO DEL IVA</dc:title>
</cp:coreProperties>
</file>