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F718-8C8E-4F90-A38B-C7891864C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FE5F-5EF6-470D-8C3F-015618CD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662E-D6F9-44B5-8FC5-5B7A67743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EA02-1F67-4DFC-919D-5634AA6E1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B67A-6F56-4159-944C-77A84A17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789A-9CF2-4F1A-ACFB-5B614A30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A3F0-AAF8-4656-AB8A-79C20D9C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6722-9E79-4A0B-B784-FFD9107E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438D-E3DC-49F6-84EF-25DD625E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7B37-E7FC-4D87-BF02-1A45C5AF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481A-F6DD-4CEF-BA1A-B276B56E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4DEA-1D15-44B3-91A9-7181986F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3D57-4E22-4D72-9F9D-A43543C7D040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2602080" y="55440"/>
          <a:ext cx="12062160" cy="9044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602080" y="55440"/>
                    <a:ext cx="12062160" cy="904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73280" y="201600"/>
          <a:ext cx="5311440" cy="8747280"/>
        </p:xfrm>
        <a:graphic>
          <a:graphicData uri="http://schemas.openxmlformats.org/drawingml/2006/table">
            <a:tbl>
              <a:tblPr/>
              <a:tblGrid>
                <a:gridCol w="2904840"/>
                <a:gridCol w="2406600"/>
              </a:tblGrid>
              <a:tr h="763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adro Nº 4: TASA DEL IMPUESTO AL VALOR AGREG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ño 1996</a:t>
                      </a: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a Estándar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e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u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ú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ino Uni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ra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tug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añ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em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x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dáf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eva Zelan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u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ipin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one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tema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0,0-15,0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ad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ndur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nam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ón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asia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5,0-15,0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ap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E.UU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edio</a:t>
                      </a:r>
                      <a:r>
                        <a:rPr b="1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68280" y="2309760"/>
          <a:ext cx="6121440" cy="4527720"/>
        </p:xfrm>
        <a:graphic>
          <a:graphicData uri="http://schemas.openxmlformats.org/drawingml/2006/table">
            <a:tbl>
              <a:tblPr/>
              <a:tblGrid>
                <a:gridCol w="1984320"/>
                <a:gridCol w="1446120"/>
                <a:gridCol w="1352880"/>
                <a:gridCol w="1338120"/>
              </a:tblGrid>
              <a:tr h="3985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adro Nº 7: IMPUESTO A LA RENTA DE LAS EMPRE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ño 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a Nacional 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a Local 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a Efectiva 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adá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añ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xico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asia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uay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u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ap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ea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7,6 - 30,8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7,6 - 30,8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21,3 - 30,56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21,3 - 30,56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E.UU.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5,0 - 35,0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0,0 - 12,0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5,0 - 47,0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onesia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0,0 - 30,0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0,0 - 30,0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iwán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0,0 - 25,0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0,0 - 25,0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4800" y="2871720"/>
            <a:ext cx="564840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907920" y="1420920"/>
          <a:ext cx="4897440" cy="6607080"/>
        </p:xfrm>
        <a:graphic>
          <a:graphicData uri="http://schemas.openxmlformats.org/drawingml/2006/table">
            <a:tbl>
              <a:tblPr/>
              <a:tblGrid>
                <a:gridCol w="2981520"/>
                <a:gridCol w="1915920"/>
              </a:tblGrid>
              <a:tr h="482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adro Nº 11: TASA DE EVASION EN EL 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ño 1993 - Cifras en Porcenta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a de Evasión IVA Neto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eva Zelan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e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ra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tug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dáf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ad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añ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u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ndur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ngr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x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u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ipin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tema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14520" y="2411280"/>
            <a:ext cx="56289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0320" y="1187280"/>
            <a:ext cx="65973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680" y="1411200"/>
            <a:ext cx="674208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54000" y="336600"/>
          <a:ext cx="4951440" cy="8475480"/>
        </p:xfrm>
        <a:graphic>
          <a:graphicData uri="http://schemas.openxmlformats.org/drawingml/2006/table">
            <a:tbl>
              <a:tblPr/>
              <a:tblGrid>
                <a:gridCol w="1890720"/>
                <a:gridCol w="1530360"/>
                <a:gridCol w="1530360"/>
              </a:tblGrid>
              <a:tr h="550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adro Nº 1: CARGA TRIBUTARIA</a:t>
                      </a:r>
                      <a:r>
                        <a:rPr b="1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BIERNO GENE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fras en Porcenta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luye Segurida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Incluye Seguridad Social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ecia 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rael  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eva Zelandia 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adá 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ino Unido 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alia  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dáfrica 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cia  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tugal 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asia 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emania 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aña  (199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E.UU.  (1995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ón  (199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(199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uguay 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(199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ea  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ipinas  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onesia  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apur  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 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gentina (199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uador  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namá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xico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ú 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uay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99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temala  (199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9000" y="2049480"/>
            <a:ext cx="640872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33360" y="2163600"/>
            <a:ext cx="619128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0280" y="1442880"/>
            <a:ext cx="633744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82640" y="868320"/>
            <a:ext cx="5562720" cy="77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8280" y="1544760"/>
            <a:ext cx="6229440" cy="61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03200" y="3144960"/>
          <a:ext cx="6053040" cy="2859120"/>
        </p:xfrm>
        <a:graphic>
          <a:graphicData uri="http://schemas.openxmlformats.org/drawingml/2006/table">
            <a:tbl>
              <a:tblPr/>
              <a:tblGrid>
                <a:gridCol w="2340000"/>
                <a:gridCol w="1060560"/>
                <a:gridCol w="971280"/>
                <a:gridCol w="871560"/>
                <a:gridCol w="809640"/>
              </a:tblGrid>
              <a:tr h="398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adro Nº 2: INGRESOS TRIBUTARIOS CONSOLIDADOS GOBIERNO CENT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ño 1999 - Cifras en moneda nomi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 Mill. $ 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Mill. US$]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% del Total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 % del PIB]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gresos Tributarios Recauda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04.7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uesto a la Ren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54.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uesto al Valor Agreg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23.4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7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uestos a Productos Específ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5.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uestos Comercio Exterior Ne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9.1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uestos a Actos Juríd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.4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uestos Varios</a:t>
                      </a:r>
                      <a:r>
                        <a:rPr b="0" lang="es-ES_tradnl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4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uctuación Deud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4.59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33360" y="1579680"/>
            <a:ext cx="6120000" cy="59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18:15:07Z</dcterms:created>
  <dc:creator> Rodrigo Rojas</dc:creator>
  <dc:description/>
  <dc:language>en-US</dc:language>
  <cp:lastModifiedBy> Rodrigo Rojas</cp:lastModifiedBy>
  <dcterms:modified xsi:type="dcterms:W3CDTF">2006-02-28T18:29:45Z</dcterms:modified>
  <cp:revision>10</cp:revision>
  <dc:subject/>
  <dc:title>Diapositiva 1</dc:title>
</cp:coreProperties>
</file>