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BFE-EA83-462A-9BA7-69954E70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C40-B4FB-4AB0-9D57-219B569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56D-E131-4146-A9CC-B6449FEA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310-C65E-435B-8EE8-508DD4E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DF6-312C-4043-B315-5CC89BD1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B20-20A7-4110-BB8B-7E7EBC0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932-50C5-48CC-9720-BA222D56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CA2-C7A4-4997-ACA8-1D391F2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7C9-1D01-4E09-8A35-E0DE35F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407-782A-4B41-A9A2-5D6F56D4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FCB-F34B-4230-BA4B-0E8E1BC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56F-7FD0-41A9-9307-A382651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11E-A49A-4875-9097-3DB33244C6C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080" y="55440"/>
          <a:ext cx="12062160" cy="904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080" y="55440"/>
                    <a:ext cx="12062160" cy="90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3280" y="201600"/>
          <a:ext cx="5311440" cy="8747280"/>
        </p:xfrm>
        <a:graphic>
          <a:graphicData uri="http://schemas.openxmlformats.org/drawingml/2006/table">
            <a:tbl>
              <a:tblPr/>
              <a:tblGrid>
                <a:gridCol w="2904840"/>
                <a:gridCol w="2406600"/>
              </a:tblGrid>
              <a:tr h="76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4: TASA DEL 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stándar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5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8280" y="2309760"/>
          <a:ext cx="6121440" cy="4527720"/>
        </p:xfrm>
        <a:graphic>
          <a:graphicData uri="http://schemas.openxmlformats.org/drawingml/2006/table">
            <a:tbl>
              <a:tblPr/>
              <a:tblGrid>
                <a:gridCol w="1984320"/>
                <a:gridCol w="1446120"/>
                <a:gridCol w="1352880"/>
                <a:gridCol w="1338120"/>
              </a:tblGrid>
              <a:tr h="398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7: IMPUESTO A LA RENTA DE LAS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acion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Loc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fectiva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3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12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47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wá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4800" y="2871720"/>
            <a:ext cx="5648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07920" y="1420920"/>
          <a:ext cx="4897440" cy="6607080"/>
        </p:xfrm>
        <a:graphic>
          <a:graphicData uri="http://schemas.openxmlformats.org/drawingml/2006/table">
            <a:tbl>
              <a:tblPr/>
              <a:tblGrid>
                <a:gridCol w="2981520"/>
                <a:gridCol w="1915920"/>
              </a:tblGrid>
              <a:tr h="48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1: TASA DE EVASION EN EL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3 - 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Evasión IVA Net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4520" y="2411280"/>
            <a:ext cx="5628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320" y="1187280"/>
            <a:ext cx="6597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80" y="1411200"/>
            <a:ext cx="6742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4000" y="336600"/>
          <a:ext cx="4951440" cy="8475480"/>
        </p:xfrm>
        <a:graphic>
          <a:graphicData uri="http://schemas.openxmlformats.org/drawingml/2006/table">
            <a:tbl>
              <a:tblPr/>
              <a:tblGrid>
                <a:gridCol w="1890720"/>
                <a:gridCol w="1530360"/>
                <a:gridCol w="153036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: CARGA TRIBUTARIA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ye Segur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cluye Seguridad 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  (199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19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9000" y="2049480"/>
            <a:ext cx="6408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3360" y="2163600"/>
            <a:ext cx="61912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0280" y="1442880"/>
            <a:ext cx="6337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2640" y="868320"/>
            <a:ext cx="556272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8280" y="1544760"/>
            <a:ext cx="622944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3200" y="3144960"/>
          <a:ext cx="6053040" cy="2859120"/>
        </p:xfrm>
        <a:graphic>
          <a:graphicData uri="http://schemas.openxmlformats.org/drawingml/2006/table">
            <a:tbl>
              <a:tblPr/>
              <a:tblGrid>
                <a:gridCol w="2340000"/>
                <a:gridCol w="1060560"/>
                <a:gridCol w="971280"/>
                <a:gridCol w="871560"/>
                <a:gridCol w="809640"/>
              </a:tblGrid>
              <a:tr h="39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2: INGRESOS TRIBUTARIOS CONSOLIDADOS GOBIERNO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9 - Cifras en moneda n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Mill. $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ill. US$]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 del Total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% del PIB]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sos Tributarios Recaud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04.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 la R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54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23.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Productos Específ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5.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Comercio Exterior N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.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Act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Varios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ctuación Deu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4.5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1579680"/>
            <a:ext cx="6120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15:07Z</dcterms:created>
  <dc:creator> Rodrigo Rojas</dc:creator>
  <dc:description/>
  <dc:language>en-US</dc:language>
  <cp:lastModifiedBy> Rodrigo Rojas</cp:lastModifiedBy>
  <dcterms:modified xsi:type="dcterms:W3CDTF">2006-02-28T18:29:45Z</dcterms:modified>
  <cp:revision>10</cp:revision>
  <dc:subject/>
  <dc:title>Diapositiva 1</dc:title>
</cp:coreProperties>
</file>