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678-AD6B-4DD1-99D6-2BC64347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DAA-B4E0-4535-BC4E-566D7359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0D5-5906-4FDA-9352-0CB048DD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F55-3406-4B7D-8826-302E27CA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BF1-C624-4A9B-976A-7D532A73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510A-A0CA-4A96-A4AA-D7689C61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5B19-1281-4B30-8BA0-9BB6BB4A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3DBB-EF1C-427D-9ACF-DE45B1D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E4AE-DBCF-4AB4-AF3C-AE605359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F91F-0B49-4356-BED4-E2A903A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83D7-EB22-4CBD-8759-12CE398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FE2-5B60-443C-AB23-502F70B4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8C67-6163-4A7B-9176-C25E4D3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740F-F2D3-4B99-A922-DAE4896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E857-1970-48EA-8D44-6AC0514B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5AFF-A69D-427C-96AD-B9B2F4CB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B868-BD40-47C1-A6C8-92FFC95F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F2D-A6A7-41FE-B205-9C49BA4F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B53-214B-4F17-A327-236BF0AC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A36-0B0D-4785-AF5C-883167A4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DFC-F35F-4473-9136-1468B6AA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CA0-3468-4110-BEBC-076DCF7C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721-1376-4AC0-A8D2-E184B413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AB6-C434-4600-B29D-97973FD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4AFD-504F-4321-B311-3C94FED938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833A-BF2C-4906-A846-0C9874CFBF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JCARRAHA</cp:lastModifiedBy>
  <dcterms:modified xsi:type="dcterms:W3CDTF">2006-03-28T20:13:54Z</dcterms:modified>
  <cp:revision>618</cp:revision>
  <dc:subject/>
  <dc:title>II. LEY DEL IMPUESTO AL VALOR AGREGADO (IVA)  Aspectos teóricos del Impuesto al  Valor Agregado Estructura General de la Ley</dc:title>
</cp:coreProperties>
</file>