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76D-C2A9-4CE4-9AB5-037747EB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F4B-B98E-4C9E-88AF-51B4B2EA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70B-548B-40ED-BBB1-E3EF6948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A29-7FE3-4391-A7F5-2ED8E662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7116-2A6A-45BF-B168-00916559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8600-76C5-4AC0-9322-39FB547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4AC3-0C2D-41A6-B7B6-41AD525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8B2E-4C34-418A-9FD4-2B0E97AD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47D2-1F92-49C9-9567-F6A19851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ECE5-045D-45D9-AD1C-33ABEEF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68B0-9E94-463C-935E-6424EA3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D8C-3FC2-44F3-9EA3-BAADEFAA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B8BA-9E20-4643-8A93-CDFD9A8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8FC2-C982-4A4F-9A46-57F0E8C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977B-B70F-4A60-99FC-91678AAC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5772-CCDD-497B-820B-0964208A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EFBA-D618-4F4D-AB6A-3AECC883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F49-F949-4014-B6A9-11288B33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D0C-E56A-43B3-8116-B5C9510D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373-E5CD-44AE-BD22-3DCA753A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25B-95F3-4AE2-8A5F-8F4AF16B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86A-6809-4BC2-B89A-37BDCD2E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B2C-B463-4CA4-AA85-39DADD4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BAA-4598-4D91-B0BF-AF830A39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2273-6FC2-4384-9B16-7C7AACEE25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DDA4-76D1-4FFF-98DE-0FEAE49F1B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JCARRAHA</cp:lastModifiedBy>
  <dcterms:modified xsi:type="dcterms:W3CDTF">2006-03-28T20:13:54Z</dcterms:modified>
  <cp:revision>618</cp:revision>
  <dc:subject/>
  <dc:title>II. LEY DEL IMPUESTO AL VALOR AGREGADO (IVA)  Aspectos teóricos del Impuesto al  Valor Agregado Estructura General de la Ley</dc:title>
</cp:coreProperties>
</file>