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5B0-C738-4143-B116-C213276A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A7A-ECAD-4A5A-AC49-110A8D5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758-61EC-4F66-92A2-0DDE639F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0F2-B873-41B8-B557-62A6845F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009B-2535-4B73-997F-0B61D048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63A7-69F5-437A-A3AB-85129E9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622C-B315-4044-8FD4-9D034F34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940-EAE0-43BC-9336-0D5D06BE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CAA5-6B96-4FEE-8F2A-1AB67952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FD10-C493-43E2-818F-5DE72441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7A0A-598B-4159-9F4E-01B99947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FE4-BAB4-4703-A2FC-CE0E0D19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5897-1364-4A15-9E50-30D72547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832D-D6C3-42D5-A662-A7CF799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5FAB-5D06-455C-9699-A57D7B21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908-9E4F-45FE-8366-7B15633E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3B0-F212-434B-9C8A-24D8898A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3AD-E614-40AE-8F3F-DFF72F3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635-9EE2-4393-B197-FACBB7AB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2F2-DDDB-4286-AAC8-4ECAA00E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7E0-9A49-41F4-B9F2-6308B85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D95-A330-4455-983A-96723CB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8F7-899E-4BA6-A7E9-13C0FACD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BBD-34F4-428F-B6B9-CA502A4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D0B-972C-4256-BC42-DA4CEA278B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F49-20CD-4A05-ABDA-BEB228A7CB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JCARRAHA</cp:lastModifiedBy>
  <dcterms:modified xsi:type="dcterms:W3CDTF">2006-03-28T20:13:54Z</dcterms:modified>
  <cp:revision>618</cp:revision>
  <dc:subject/>
  <dc:title>II. LEY DEL IMPUESTO AL VALOR AGREGADO (IVA)  Aspectos teóricos del Impuesto al  Valor Agregado Estructura General de la Ley</dc:title>
</cp:coreProperties>
</file>