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B5B5C-F09A-4D4B-83CE-AA1CD1361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44ECD-005D-4C76-A5FC-0FD62F859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DD04D-11AD-46CD-AB39-D2CA34B7D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21112-849D-48E7-9335-5422FE457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5AF97-3B0A-4329-8E0C-64B4EFA3A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5F288-8CC2-4BDE-A181-F77985F8F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3BD8D-9449-4A1F-B6B4-6CB1448AA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A5091-5547-41BE-A8FA-D7FCDF218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E1F2E-EFE5-4056-BABA-29978A0FF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585E9-1E02-459B-93F6-C588D885C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7E51D-EE4A-4D39-AE95-7A68E7CAF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BA134-C255-4320-9D91-DCD35BA15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C6CFF-2F5C-4FDA-A3B0-DFD5AD7DB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1FF67-2F45-4FCD-AAC5-EDD184104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C2944-09AB-4B37-94D8-6D6DAA606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88111-5F89-446D-AA65-163883F2A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5B11E-0DDD-4902-B49A-6BD00F5DA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30C3-194E-4917-ACC2-0F526EAEC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3E964-8DEA-4E0C-BE71-6EEE3D9E9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D10AB-ABC5-49B4-A0A5-F824F084C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C6EA-3370-4272-8292-02D7B9730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C76FA-1C00-456D-B6C0-B810FB595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C526B-7728-4B11-9445-9A9CB9299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2934D-E90A-40D7-9D77-745ED0085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AC82-F737-4A0D-AD81-81F4934C430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718D-1770-4E69-98EB-48CCAB92963A}"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cruzada de la 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a:solidFill>
                  <a:srgbClr val="000000"/>
                </a:solidFill>
                <a:latin typeface="Arial"/>
              </a:rPr>
              <a:t>referirnos </a:t>
            </a:r>
            <a:r>
              <a:rPr b="0" i="1" lang="es-CL" sz="2800" spc="-1" strike="noStrike">
                <a:solidFill>
                  <a:srgbClr val="000000"/>
                </a:solidFill>
                <a:latin typeface="Arial"/>
              </a:rPr>
              <a:t>a un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s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Benny Mordoj</dc:creator>
  <dc:description/>
  <dc:language>en-US</dc:language>
  <cp:lastModifiedBy>FRANCISCO VERA HOTT</cp:lastModifiedBy>
  <dcterms:modified xsi:type="dcterms:W3CDTF">2006-05-18T08:10:44Z</dcterms:modified>
  <cp:revision>24</cp:revision>
  <dc:subject/>
  <dc:title> El Mercado Relevante</dc:title>
</cp:coreProperties>
</file>