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DFEF4-40D7-4806-981B-2C22EF837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EFDB-AEFA-45F3-B729-8C90459A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D96DB-6A8B-4DBC-8223-E1A44EDD9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180ED-D17E-456C-831A-E21E09077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53DD4-41C3-46FE-A73D-9FBA05E51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86F95-D042-4C96-A9A2-214C99EB4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F0425-0762-40C2-AB91-0A8895B81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93BD8-B2A2-41AF-A035-8BFA7E80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BFB3-F10B-401A-A8BD-8972E83FE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617E5-8DBB-4B16-B30F-AFD54997F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0C94C-68F9-42F2-8329-B8155EE5D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EB6F-A5E9-438C-88B0-3C506D5F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C26F2-867D-40AC-8E24-22CA24B2B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BDA82-A088-42D5-8787-6284901F2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8FF01-2149-4410-8D8E-80365A986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34398-77A9-4447-8553-352B71733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D6BBF-3318-4CEA-8B66-729BDD00D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2EAD-5903-46C0-B10A-0202D1D09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2348A-F5FC-47D2-9471-127BC89B3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DD98-532A-4097-9DD7-0812F69C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AE86-E0C3-43A1-9C50-0BF62DAD4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F931-16AB-4F08-A8B5-2FA4358D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A676-4F3F-436E-AA8A-BF1F931B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9ED7-DC04-438B-90AD-A73DED76F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EFE8-F0EA-4882-8C0E-4E03A8B8423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64B0-0597-4B60-8371-B1B2FFB55CB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600" spc="-1" strike="noStrike">
                <a:solidFill>
                  <a:srgbClr val="3b812f"/>
                </a:solidFill>
                <a:latin typeface="Garamond"/>
              </a:rPr>
              <a:t>El Derecho Antitrust como Derecho Administrativo Sancionatorio</a:t>
            </a:r>
            <a:endParaRPr b="0" lang="en-US" sz="4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Principio de Culpabilidad</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riterios de Imputación Procesal en el Derecho Antitru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Antecedentes Históricos</a:t>
            </a: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EE.UU</a:t>
            </a:r>
            <a:r>
              <a:rPr b="0" lang="es-E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1890: Sherman Act:</a:t>
            </a:r>
            <a:r>
              <a:rPr b="0" lang="es-ES" sz="2200" spc="-1" strike="noStrike">
                <a:solidFill>
                  <a:srgbClr val="000000"/>
                </a:solidFill>
                <a:latin typeface="Arial"/>
              </a:rPr>
              <a:t> </a:t>
            </a:r>
            <a:r>
              <a:rPr b="0" i="1" lang="es-MX" sz="2200" spc="-1" strike="noStrike">
                <a:solidFill>
                  <a:srgbClr val="000000"/>
                </a:solidFill>
                <a:latin typeface="Arial"/>
              </a:rPr>
              <a:t>“</a:t>
            </a:r>
            <a:r>
              <a:rPr b="0" i="1" lang="en-US" sz="2000" spc="-1" strike="noStrike">
                <a:solidFill>
                  <a:srgbClr val="000000"/>
                </a:solidFill>
                <a:latin typeface="Arial"/>
              </a:rPr>
              <a:t>Every contract, combination in the form of trust or otherwise, or conspiracy, in restraint of trade or commerce among the several States, or with foreign nations, is declared to be illegal (…)”</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1911: The Rule of Reason:</a:t>
            </a:r>
            <a:r>
              <a:rPr b="0" lang="es-ES" sz="2200" spc="-1" strike="noStrike">
                <a:solidFill>
                  <a:srgbClr val="000000"/>
                </a:solidFill>
                <a:latin typeface="Arial"/>
              </a:rPr>
              <a:t> </a:t>
            </a:r>
            <a:r>
              <a:rPr b="0" lang="es-ES" sz="2000" spc="-1" strike="noStrike">
                <a:solidFill>
                  <a:srgbClr val="000000"/>
                </a:solidFill>
                <a:latin typeface="Arial"/>
              </a:rPr>
              <a:t>Standard Oil &amp; American Tobacco</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1914: Clayton Act:</a:t>
            </a:r>
            <a:r>
              <a:rPr b="0" lang="es-ES" sz="2200" spc="-1" strike="noStrike">
                <a:solidFill>
                  <a:srgbClr val="000000"/>
                </a:solidFill>
                <a:latin typeface="Arial"/>
              </a:rPr>
              <a:t> </a:t>
            </a:r>
            <a:r>
              <a:rPr b="0" lang="es-ES" sz="2000" spc="-1" strike="noStrike">
                <a:solidFill>
                  <a:srgbClr val="000000"/>
                </a:solidFill>
                <a:latin typeface="Arial"/>
              </a:rPr>
              <a:t>Determina condiciones para aplicación de la ShA y regula prácticas restrictivas.</a:t>
            </a:r>
            <a:endParaRPr b="0" lang="en-US" sz="20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hile</a:t>
            </a:r>
            <a:r>
              <a:rPr b="0" lang="es-E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959: Alessandri R. Ley 13.305 de 06/04/1959</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973: DL 211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4: Ley 19.911</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Incidencia</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Antitrust se erige como afectación del ejercicio de libert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Utiliza la coacción estatal ya no para garantizar el cumplimiento de los actos jurídicos (1545 CC) sino para revisarl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rechos Fundamentales (19 Nº 21; 19 Nº 7) ¿Es legítima su afec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Cualitativismo vs. Cuantitativismo</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uela Cuantitativa: La diferencia entre el Derecho administrativo Sancionatorio y el Derecho Penal es de </a:t>
            </a:r>
            <a:r>
              <a:rPr b="0" i="1" lang="es-ES" sz="3000" spc="-1" strike="noStrike">
                <a:solidFill>
                  <a:srgbClr val="000000"/>
                </a:solidFill>
                <a:latin typeface="Arial"/>
              </a:rPr>
              <a:t>Quantu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uela</a:t>
            </a:r>
            <a:r>
              <a:rPr b="0" i="1" lang="es-ES" sz="3000" spc="-1" strike="noStrike">
                <a:solidFill>
                  <a:srgbClr val="000000"/>
                </a:solidFill>
                <a:latin typeface="Arial"/>
              </a:rPr>
              <a:t> </a:t>
            </a:r>
            <a:r>
              <a:rPr b="0" lang="es-ES" sz="3000" spc="-1" strike="noStrike">
                <a:solidFill>
                  <a:srgbClr val="000000"/>
                </a:solidFill>
                <a:latin typeface="Arial"/>
              </a:rPr>
              <a:t>Cualitativa: La Diferencia es de naturaleza, no de gr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Principio de Tipicidad</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Nullum Crimen Nulla Poena Sine Lege Cert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andato de determinación jurídico penal; Bien Jurídico Protegido y Modos de Comi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Bien Jurídico Protegido</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tección al Consumid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YM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ibre Competencia? Concepto Tautológic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fici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Modos de Comisión</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utonomía de la Volunt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láusulas de la naturalez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os Jurídicos Innominad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Arial"/>
              </a:rPr>
              <a:t>Art. 3: “El que ejecute o celebre, individual o colectivamente, </a:t>
            </a:r>
            <a:r>
              <a:rPr b="1" i="1" lang="es-CL" sz="3000" spc="-1" strike="noStrike" u="sng">
                <a:solidFill>
                  <a:srgbClr val="000000"/>
                </a:solidFill>
                <a:uFillTx/>
                <a:latin typeface="Arial"/>
              </a:rPr>
              <a:t>cualquier hecho, acto o convención</a:t>
            </a:r>
            <a:r>
              <a:rPr b="0" i="1" lang="es-CL" sz="3000" spc="-1" strike="noStrike">
                <a:solidFill>
                  <a:srgbClr val="000000"/>
                </a:solidFill>
                <a:latin typeface="Arial"/>
              </a:rPr>
              <a:t> que impida, restrinja o entorpezca la libre competencia, o que tienda a producir dichos efec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5000" spc="-1" strike="noStrike">
                <a:solidFill>
                  <a:srgbClr val="3b812f"/>
                </a:solidFill>
                <a:latin typeface="Garamond"/>
              </a:rPr>
              <a:t>Principio Ne Bis in Idem Sustantivo</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b812f"/>
                </a:solidFill>
                <a:latin typeface="Garamond"/>
              </a:rPr>
              <a:t>DL 211 Reformado</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rt. 19:  </a:t>
            </a:r>
            <a:r>
              <a:rPr b="0" i="1" lang="es-ES" sz="2600" spc="-1" strike="noStrike">
                <a:solidFill>
                  <a:srgbClr val="000000"/>
                </a:solidFill>
                <a:latin typeface="Arial"/>
              </a:rPr>
              <a:t>“</a:t>
            </a:r>
            <a:r>
              <a:rPr b="0" i="1" lang="es-CL" sz="3000" spc="-1" strike="noStrike">
                <a:solidFill>
                  <a:srgbClr val="000000"/>
                </a:solidFill>
                <a:latin typeface="Arial"/>
              </a:rPr>
              <a:t>Los actos o contratos ejecutados o celebrados de acuerdo con las decisiones del Tribunal de Defensa de la Libre Competencia, no acarrearán responsabilidad alguna en esta materia, </a:t>
            </a:r>
            <a:r>
              <a:rPr b="1" i="1" lang="es-CL" sz="3000" spc="-1" strike="noStrike" u="sng">
                <a:solidFill>
                  <a:srgbClr val="000000"/>
                </a:solidFill>
                <a:uFillTx/>
                <a:latin typeface="Arial"/>
              </a:rPr>
              <a:t>sino en el caso que, posteriormente, y sobre la base de nuevos antecedentes, fueren calificados como contrarios a la libre competencia por el mismo Tribunal</a:t>
            </a:r>
            <a:r>
              <a:rPr b="0" i="1" lang="es-CL" sz="3000" spc="-1" strike="noStrike">
                <a:solidFill>
                  <a:srgbClr val="000000"/>
                </a:solidFill>
                <a:latin typeface="Arial"/>
              </a:rPr>
              <a:t>, y ello desde que se notifique o publique, en su caso, la resolución que haga tal calificación”</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Benny Mordoj</dc:creator>
  <dc:description/>
  <dc:language>en-US</dc:language>
  <cp:lastModifiedBy>Spolmann Pasten</cp:lastModifiedBy>
  <dcterms:modified xsi:type="dcterms:W3CDTF">2006-04-27T05:48:33Z</dcterms:modified>
  <cp:revision>4</cp:revision>
  <dc:subject/>
  <dc:title>El Derecho Antitrust como Derecho Administrativo Sancionatorio</dc:title>
</cp:coreProperties>
</file>